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2B91-9546-42B9-8DD9-DFBB6C2969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4B6D-4067-4504-9D5C-EC966B767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3BF-A87E-4866-A019-331EFDE2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8BA-5EE0-4DB0-90EE-6537F672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F7A-AD11-4313-A103-F7855F9C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C75-FEA2-4A97-8D32-9E3C6C0D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1518-AB27-4CD4-89C5-1B4E3B1B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6918-6C5E-4921-952E-5F4B601A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0058-C205-4769-AB6D-CD42926B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EDF7-F451-493A-A575-1733A123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DA1F-68E4-43B2-A06D-A77E3C47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9107-3CF3-46FA-98BD-28067CEF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3F0C-8DC2-43F4-B3AE-9FEDE939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F0D-A46E-4512-8AA3-1669A09D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5029-21F8-4BFB-B852-23D7DA5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022-ED99-4652-997A-8553347E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0358-5F78-437C-B25F-B88D45CE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A2EC-64C6-406C-BCB2-383D7BC0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96B3-4229-4ADB-A4E0-B958D39F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1588-0F74-4886-8E6C-836C56C3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73F0-B1BA-4EF0-A8BD-5521E4B1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C1BA-6C71-49B9-ACD6-1C8228FC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95C0-092B-48DA-BB3D-EAC44C3A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8B99-DD30-4E5A-81F0-48FBAC9F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4DB-9451-4EBD-AF1D-05351C8C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B8E6-EA84-4E10-BB7F-E16AAAB4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06EE-86A7-432E-AC0B-5B89C95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2032-BDBF-48EE-843C-0CBF02E1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0F32-082D-45BE-954F-A627238F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F785-C359-4F3B-8EB7-EB41511A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1B37-BD9E-4A3B-9080-60452186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43A1-DBC5-4FDF-AF25-8249F6C7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9C5E-360A-4496-868B-38260C5A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AE48-A8E6-4A03-8D9B-B4BF0447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9AB26-F594-4FB4-865E-C65ACD0A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7AF-1AC4-45FD-A4CD-7E0D64AE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82FB-2F31-4DA1-9669-8C0A1004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0300-2F2F-4892-A8CE-A9C5622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FB73-DF3C-40B7-AF90-1D56E423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E1C4-8FCA-48F4-8586-3CD20FF5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8596-E3A5-478D-9B54-3C87BFA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714B-7B24-4BB7-B1AC-37FD79CB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F2E60-1A1A-4232-B0BB-8814678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649D-3C39-42EB-BFDF-C6D96D10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094A-C013-4AB0-BBE0-A0C409C3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B69-C9AF-46B4-982C-0403C5EF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22B-631E-47F6-91DB-DAEFE2B7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4C6-D8CB-4D93-B495-E4820E52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214-E442-4899-96A4-91AA98C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3B0-BEE6-412B-9DA7-5E5750E1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42FA-B625-4C2B-A922-B67DD8DDE55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256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4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0216-61BB-4E51-83D3-B0D4333D838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256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     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6970-1573-41B1-A2B6-605CAAB4C136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0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58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4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B9FF-DE82-4EDF-A179-398F093B730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hyperlink" Target="mailto:eremin@pspu.ac.ru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cdonalds.com/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35240" y="4358880"/>
            <a:ext cx="64735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6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с файлам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E44B-22DE-4240-951E-38663A1BA0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7161-3729-47CE-B7A1-28AA6F5D12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382680" y="80172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ы в столбик целые числа. Вывести в другой текстовый файл те же числа, отсортированные в порядке возрас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71"/>
          <p:cNvGrpSpPr/>
          <p:nvPr/>
        </p:nvGrpSpPr>
        <p:grpSpPr>
          <a:xfrm>
            <a:off x="430200" y="2035080"/>
            <a:ext cx="6521400" cy="663480"/>
            <a:chOff x="430200" y="2035080"/>
            <a:chExt cx="6521400" cy="663480"/>
          </a:xfrm>
        </p:grpSpPr>
        <p:sp>
          <p:nvSpPr>
            <p:cNvPr id="258" name="Text Box 69"/>
            <p:cNvSpPr/>
            <p:nvPr/>
          </p:nvSpPr>
          <p:spPr>
            <a:xfrm>
              <a:off x="919080" y="2114280"/>
              <a:ext cx="6032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В чем отличие от предыдущей задач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70"/>
            <p:cNvSpPr/>
            <p:nvPr/>
          </p:nvSpPr>
          <p:spPr>
            <a:xfrm>
              <a:off x="430200" y="203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1"/>
          <p:cNvGrpSpPr/>
          <p:nvPr/>
        </p:nvGrpSpPr>
        <p:grpSpPr>
          <a:xfrm>
            <a:off x="430200" y="2832120"/>
            <a:ext cx="8196120" cy="904680"/>
            <a:chOff x="430200" y="2832120"/>
            <a:chExt cx="8196120" cy="904680"/>
          </a:xfrm>
        </p:grpSpPr>
        <p:sp>
          <p:nvSpPr>
            <p:cNvPr id="261" name="Text Box 69"/>
            <p:cNvSpPr/>
            <p:nvPr/>
          </p:nvSpPr>
          <p:spPr>
            <a:xfrm>
              <a:off x="919080" y="2911320"/>
              <a:ext cx="7707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Для сортировки нужно удерживать все элементы в памяти одновременн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0"/>
            <p:cNvSpPr/>
            <p:nvPr/>
          </p:nvSpPr>
          <p:spPr>
            <a:xfrm>
              <a:off x="430200" y="2832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539E-DBD2-4453-8040-DC86F8B3DC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397440" y="8190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масси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625320" y="1303200"/>
            <a:ext cx="7948800" cy="2021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append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400320" y="335772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25320" y="3821040"/>
            <a:ext cx="7948800" cy="879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394920" y="482112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ртир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625320" y="5283360"/>
            <a:ext cx="2505240" cy="47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D4C2-1384-4BCC-83D4-2A2AC60282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00320" y="81900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625320" y="1303200"/>
            <a:ext cx="7948800" cy="1257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tr(A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391320" y="257328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625320" y="3035160"/>
            <a:ext cx="7948800" cy="890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+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\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6013800" y="1716120"/>
            <a:ext cx="18266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7524720" y="3071880"/>
            <a:ext cx="363600" cy="11912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391320" y="4035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625320" y="4498920"/>
            <a:ext cx="7948800" cy="890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4d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5886360" y="5589720"/>
            <a:ext cx="26877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BB52-B0BA-4C3C-AA50-D24D6C198C6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69720" y="809640"/>
            <a:ext cx="8666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числа. Отсортировать их по возрастанию последней цифры и записать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числа. Отсортировать их по возрастанию суммы цифр и записать в другой файл. Используйте функцию, которая вычисляет сумму цифр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вух файлах записаны отсортированные по возрастанию массивы неизвестной длины. Объединить их и записать результат в третий файл. Полученный массив также должен быть отсортирован по возраста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A231-A976-4D6C-9CB4-C78EE89E17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382680" y="801720"/>
            <a:ext cx="846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данные о собаках: в каждой строчке кличка собаки, ее возраст и п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Мухтар 4 немецкая овча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в другой файл сведения о собаках, которым меньше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625320" y="2851200"/>
            <a:ext cx="7948800" cy="1954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не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онец файла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рочитать строку из файла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обрать строку – выделить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возраст &lt;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аписать строку в файл F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данных из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2E83-4BB8-4201-B923-3DE7D34A68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400320" y="81900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одной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625320" y="1235160"/>
            <a:ext cx="7948800" cy="485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4"/>
          <p:cNvSpPr/>
          <p:nvPr/>
        </p:nvSpPr>
        <p:spPr>
          <a:xfrm>
            <a:off x="402120" y="17445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бивка по пробе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625320" y="2160720"/>
            <a:ext cx="7948800" cy="485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7"/>
          <p:cNvSpPr/>
          <p:nvPr/>
        </p:nvSpPr>
        <p:spPr>
          <a:xfrm>
            <a:off x="403200" y="265896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деление возра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625320" y="3075120"/>
            <a:ext cx="7948800" cy="850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9"/>
          <p:cNvSpPr/>
          <p:nvPr/>
        </p:nvSpPr>
        <p:spPr>
          <a:xfrm>
            <a:off x="399600" y="39276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тко всё вмес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625320" y="4354560"/>
            <a:ext cx="7948800" cy="852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FBD4-8C41-46ED-B566-9CCF7FAEEB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461880" y="1324080"/>
            <a:ext cx="8423280" cy="378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407880" y="80964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ная програм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A39F-0093-47A4-935E-DC658452AB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461880" y="1324080"/>
            <a:ext cx="8423280" cy="195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399240" y="8096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461880" y="3895560"/>
            <a:ext cx="8423280" cy="157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6"/>
          <p:cNvSpPr/>
          <p:nvPr/>
        </p:nvSpPr>
        <p:spPr>
          <a:xfrm>
            <a:off x="399240" y="338148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DBC6-DEE2-46AE-A88B-3AE26E350F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69720" y="809640"/>
            <a:ext cx="8666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записаны данные о результатах сдачи экзамена. Каждая строка содержит фамилию, имя и количество баллов, разделенные пробел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Фамилия&gt; &lt;Имя&gt; &lt;Количество баллов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ести в другой файл фамилии и имена тех учеников, которые получили больше 80 бал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ыдущей задаче добавить к полученному списку нумерацию, сократить имя до одной буквы и поставить перед фамилие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П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И. Пет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559-2215-437B-A696-EB318E7254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69720" y="809640"/>
            <a:ext cx="8666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записаны данные о результатах сдачи экзамена. Каждая строка содержит фамилию, имя и количество баллов, разделенные пробел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Фамилия&gt; &lt;Имя&gt; &lt;Количество баллов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ести в другой файл данные учеников, которые получили больше 80 баллов.  Список должен быть отсортирован по убыванию балла. Формат выходных данных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П. Иванов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 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И. Петров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работать с файла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D0A0-8628-4F25-A1B1-404DBA1263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"/>
          <p:cNvSpPr/>
          <p:nvPr/>
        </p:nvSpPr>
        <p:spPr>
          <a:xfrm>
            <a:off x="2970360" y="100476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"/>
          <p:cNvSpPr/>
          <p:nvPr/>
        </p:nvSpPr>
        <p:spPr>
          <a:xfrm>
            <a:off x="968400" y="225432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4970520" y="225432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процесс 8"/>
          <p:cNvSpPr/>
          <p:nvPr/>
        </p:nvSpPr>
        <p:spPr>
          <a:xfrm>
            <a:off x="407880" y="2906640"/>
            <a:ext cx="4191120" cy="2017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lain tex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, разбитый на стро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пециальных символов только символы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Блок-схема: процесс 9"/>
          <p:cNvSpPr/>
          <p:nvPr/>
        </p:nvSpPr>
        <p:spPr>
          <a:xfrm>
            <a:off x="4843440" y="2906640"/>
            <a:ext cx="4192560" cy="2017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ые 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ки, звуки, видео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Группа 12"/>
          <p:cNvGrpSpPr/>
          <p:nvPr/>
        </p:nvGrpSpPr>
        <p:grpSpPr>
          <a:xfrm>
            <a:off x="2743200" y="1601640"/>
            <a:ext cx="2589120" cy="652680"/>
            <a:chOff x="2743200" y="1601640"/>
            <a:chExt cx="2589120" cy="652680"/>
          </a:xfrm>
        </p:grpSpPr>
        <p:sp>
          <p:nvSpPr>
            <p:cNvPr id="187" name="Полилиния 10"/>
            <p:cNvSpPr/>
            <p:nvPr/>
          </p:nvSpPr>
          <p:spPr>
            <a:xfrm>
              <a:off x="2743200" y="1601640"/>
              <a:ext cx="1294560" cy="65268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294646" h="651850">
                  <a:moveTo>
                    <a:pt x="1294646" y="0"/>
                  </a:moveTo>
                  <a:lnTo>
                    <a:pt x="0" y="651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олилиния 11"/>
            <p:cNvSpPr/>
            <p:nvPr/>
          </p:nvSpPr>
          <p:spPr>
            <a:xfrm flipH="1">
              <a:off x="4037760" y="1601640"/>
              <a:ext cx="1294560" cy="652680"/>
            </a:xfrm>
            <a:custGeom>
              <a:avLst/>
              <a:gdLst>
                <a:gd name="textAreaLeft" fmla="*/ 360 w 1294560"/>
                <a:gd name="textAreaRight" fmla="*/ 1295280 w 12945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294646" h="651850">
                  <a:moveTo>
                    <a:pt x="1294646" y="0"/>
                  </a:moveTo>
                  <a:lnTo>
                    <a:pt x="0" y="651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C008-F8AA-4F6F-9FAB-3DB710A172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162000" y="1676520"/>
            <a:ext cx="882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РЕМИН Евгений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-м.н., доцент кафедры мультимедийной дидактики и ИТО ПГГПУ,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remin@pspu.ac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37F7-2DF8-4432-B4C2-4FCFD94309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392040" y="812880"/>
            <a:ext cx="808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mcdonalds.co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художников издательства «Бин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 сэндви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213C-4A47-48ED-88BE-9B5F4BA19F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33"/>
          <p:cNvGrpSpPr/>
          <p:nvPr/>
        </p:nvGrpSpPr>
        <p:grpSpPr>
          <a:xfrm>
            <a:off x="5395680" y="1111320"/>
            <a:ext cx="2549880" cy="357120"/>
            <a:chOff x="5395680" y="1111320"/>
            <a:chExt cx="2549880" cy="357120"/>
          </a:xfrm>
        </p:grpSpPr>
        <p:sp>
          <p:nvSpPr>
            <p:cNvPr id="193" name="Text Box 10"/>
            <p:cNvSpPr/>
            <p:nvPr/>
          </p:nvSpPr>
          <p:spPr>
            <a:xfrm>
              <a:off x="5871600" y="1111320"/>
              <a:ext cx="2073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ткрыть фай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 flipV="1" rot="16200000">
              <a:off x="5487480" y="1092960"/>
              <a:ext cx="221400" cy="405000"/>
            </a:xfrm>
            <a:prstGeom prst="downArrow">
              <a:avLst>
                <a:gd name="adj1" fmla="val 40000"/>
                <a:gd name="adj2" fmla="val 6973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34"/>
          <p:cNvGrpSpPr/>
          <p:nvPr/>
        </p:nvGrpSpPr>
        <p:grpSpPr>
          <a:xfrm>
            <a:off x="5395680" y="1744560"/>
            <a:ext cx="2754720" cy="357120"/>
            <a:chOff x="5395680" y="1744560"/>
            <a:chExt cx="2754720" cy="357120"/>
          </a:xfrm>
        </p:grpSpPr>
        <p:sp>
          <p:nvSpPr>
            <p:cNvPr id="196" name="AutoShape 8"/>
            <p:cNvSpPr/>
            <p:nvPr/>
          </p:nvSpPr>
          <p:spPr>
            <a:xfrm flipV="1" rot="16200000">
              <a:off x="5487480" y="1712520"/>
              <a:ext cx="221400" cy="405000"/>
            </a:xfrm>
            <a:prstGeom prst="downArrow">
              <a:avLst>
                <a:gd name="adj1" fmla="val 40000"/>
                <a:gd name="adj2" fmla="val 6973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5871600" y="1744560"/>
              <a:ext cx="2278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абота с  файл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Группа 35"/>
          <p:cNvGrpSpPr/>
          <p:nvPr/>
        </p:nvGrpSpPr>
        <p:grpSpPr>
          <a:xfrm>
            <a:off x="5395680" y="2351160"/>
            <a:ext cx="2445120" cy="355680"/>
            <a:chOff x="5395680" y="2351160"/>
            <a:chExt cx="2445120" cy="355680"/>
          </a:xfrm>
        </p:grpSpPr>
        <p:sp>
          <p:nvSpPr>
            <p:cNvPr id="199" name="AutoShape 7"/>
            <p:cNvSpPr/>
            <p:nvPr/>
          </p:nvSpPr>
          <p:spPr>
            <a:xfrm flipV="1" rot="16200000">
              <a:off x="5487840" y="2332440"/>
              <a:ext cx="220320" cy="405000"/>
            </a:xfrm>
            <a:prstGeom prst="downArrow">
              <a:avLst>
                <a:gd name="adj1" fmla="val 40000"/>
                <a:gd name="adj2" fmla="val 70074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871600" y="2351160"/>
              <a:ext cx="1969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акрыть фай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4"/>
          <p:cNvSpPr/>
          <p:nvPr/>
        </p:nvSpPr>
        <p:spPr>
          <a:xfrm>
            <a:off x="939960" y="1174680"/>
            <a:ext cx="86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39960" y="2298600"/>
            <a:ext cx="86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615960" y="1736640"/>
            <a:ext cx="1125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ч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5" descr=""/>
          <p:cNvPicPr/>
          <p:nvPr/>
        </p:nvPicPr>
        <p:blipFill>
          <a:blip r:embed="rId1"/>
          <a:srcRect l="0" t="0" r="1536" b="3465"/>
          <a:stretch/>
        </p:blipFill>
        <p:spPr>
          <a:xfrm>
            <a:off x="1928880" y="2101680"/>
            <a:ext cx="3316320" cy="858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4" descr=""/>
          <p:cNvPicPr/>
          <p:nvPr/>
        </p:nvPicPr>
        <p:blipFill>
          <a:blip r:embed="rId2"/>
          <a:stretch/>
        </p:blipFill>
        <p:spPr>
          <a:xfrm>
            <a:off x="2014560" y="1017720"/>
            <a:ext cx="3224160" cy="582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4" descr=""/>
          <p:cNvPicPr/>
          <p:nvPr/>
        </p:nvPicPr>
        <p:blipFill>
          <a:blip r:embed="rId3"/>
          <a:stretch/>
        </p:blipFill>
        <p:spPr>
          <a:xfrm>
            <a:off x="1936800" y="1481040"/>
            <a:ext cx="3405240" cy="10940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5"/>
          <p:cNvSpPr/>
          <p:nvPr/>
        </p:nvSpPr>
        <p:spPr>
          <a:xfrm>
            <a:off x="896760" y="3877200"/>
            <a:ext cx="7469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здесь работаем с фай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ая прямоугольная выноска 36"/>
          <p:cNvSpPr/>
          <p:nvPr/>
        </p:nvSpPr>
        <p:spPr>
          <a:xfrm>
            <a:off x="376200" y="2968560"/>
            <a:ext cx="3762360" cy="770040"/>
          </a:xfrm>
          <a:prstGeom prst="wedgeRoundRectCallout">
            <a:avLst>
              <a:gd name="adj1" fmla="val -25231"/>
              <a:gd name="adj2" fmla="val 7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овые переменные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каз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1"/>
          <p:cNvSpPr/>
          <p:nvPr/>
        </p:nvSpPr>
        <p:spPr>
          <a:xfrm>
            <a:off x="5628240" y="5075280"/>
            <a:ext cx="310680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б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олилиния 22"/>
          <p:cNvSpPr/>
          <p:nvPr/>
        </p:nvSpPr>
        <p:spPr>
          <a:xfrm>
            <a:off x="6283440" y="4603680"/>
            <a:ext cx="311040" cy="549360"/>
          </a:xfrm>
          <a:custGeom>
            <a:avLst/>
            <a:gdLst>
              <a:gd name="textAreaLeft" fmla="*/ 0 w 311040"/>
              <a:gd name="textAreaRight" fmla="*/ 311400 w 311040"/>
              <a:gd name="textAreaTop" fmla="*/ 0 h 549360"/>
              <a:gd name="textAreaBottom" fmla="*/ 549360 h 549360"/>
            </a:gdLst>
            <a:ahLst/>
            <a:rect l="textAreaLeft" t="textAreaTop" r="textAreaRight" b="textAreaBottom"/>
            <a:pathLst>
              <a:path w="606055" h="765544">
                <a:moveTo>
                  <a:pt x="0" y="765544"/>
                </a:moveTo>
                <a:cubicBezTo>
                  <a:pt x="31898" y="510363"/>
                  <a:pt x="606055" y="414669"/>
                  <a:pt x="95693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ая прямоугольная выноска 23"/>
          <p:cNvSpPr/>
          <p:nvPr/>
        </p:nvSpPr>
        <p:spPr>
          <a:xfrm>
            <a:off x="4506840" y="2968560"/>
            <a:ext cx="3762360" cy="770040"/>
          </a:xfrm>
          <a:prstGeom prst="wedgeRoundRectCallout">
            <a:avLst>
              <a:gd name="adj1" fmla="val -33810"/>
              <a:gd name="adj2" fmla="val 7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молчанию – на чтение (режим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r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4AA5-28B1-47B7-B0AD-ADBE86700E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561960" y="888480"/>
            <a:ext cx="746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en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xt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561960" y="1856880"/>
            <a:ext cx="746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1 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3"/>
          <p:cNvSpPr/>
          <p:nvPr/>
        </p:nvSpPr>
        <p:spPr>
          <a:xfrm>
            <a:off x="396000" y="140004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4"/>
          <p:cNvSpPr/>
          <p:nvPr/>
        </p:nvSpPr>
        <p:spPr>
          <a:xfrm>
            <a:off x="412920" y="238932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стро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азбивка по пробе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561960" y="288864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401040" y="33796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целых чис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561960" y="3837600"/>
            <a:ext cx="8356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[0])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391320" y="4692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561960" y="514764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[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0"/>
          <p:cNvSpPr/>
          <p:nvPr/>
        </p:nvSpPr>
        <p:spPr>
          <a:xfrm>
            <a:off x="391320" y="55627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561960" y="601920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 в фай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4DD5-1057-418B-8438-E277C38DFF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471600" y="913680"/>
            <a:ext cx="8353440" cy="2364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d} + {:d} = {:d}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.close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71"/>
          <p:cNvGrpSpPr/>
          <p:nvPr/>
        </p:nvGrpSpPr>
        <p:grpSpPr>
          <a:xfrm>
            <a:off x="933480" y="3468600"/>
            <a:ext cx="7188120" cy="663480"/>
            <a:chOff x="933480" y="3468600"/>
            <a:chExt cx="7188120" cy="663480"/>
          </a:xfrm>
        </p:grpSpPr>
        <p:sp>
          <p:nvSpPr>
            <p:cNvPr id="229" name="Text Box 69"/>
            <p:cNvSpPr/>
            <p:nvPr/>
          </p:nvSpPr>
          <p:spPr>
            <a:xfrm>
              <a:off x="1422360" y="3547800"/>
              <a:ext cx="66992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Все данные преобразовать в строку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0"/>
            <p:cNvSpPr/>
            <p:nvPr/>
          </p:nvSpPr>
          <p:spPr>
            <a:xfrm>
              <a:off x="933480" y="3468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597D-91C1-465C-B897-668B23D7F0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471600" y="1667880"/>
            <a:ext cx="746892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не конец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рочитать число из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его к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471600" y="3296520"/>
            <a:ext cx="746892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ая прямоугольная выноска 9"/>
          <p:cNvSpPr/>
          <p:nvPr/>
        </p:nvSpPr>
        <p:spPr>
          <a:xfrm>
            <a:off x="4643280" y="3948120"/>
            <a:ext cx="3764160" cy="770040"/>
          </a:xfrm>
          <a:prstGeom prst="wedgeRoundRectCallout">
            <a:avLst>
              <a:gd name="adj1" fmla="val -66648"/>
              <a:gd name="adj2" fmla="val 39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онец файла, вернёт пуст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A9DE-D8D0-4EA6-BDF7-3EEDA184A5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471600" y="1798920"/>
            <a:ext cx="74689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7"/>
          <p:cNvSpPr/>
          <p:nvPr/>
        </p:nvSpPr>
        <p:spPr>
          <a:xfrm>
            <a:off x="4159080" y="3065400"/>
            <a:ext cx="3764160" cy="770040"/>
          </a:xfrm>
          <a:prstGeom prst="wedgeRoundRectCallout">
            <a:avLst>
              <a:gd name="adj1" fmla="val -72365"/>
              <a:gd name="adj2" fmla="val -65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все строки в список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FD18-60B2-43BB-95AB-6A62A1FD477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471600" y="1795680"/>
            <a:ext cx="7468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71"/>
          <p:cNvGrpSpPr/>
          <p:nvPr/>
        </p:nvGrpSpPr>
        <p:grpSpPr>
          <a:xfrm>
            <a:off x="1547640" y="5389560"/>
            <a:ext cx="5467320" cy="663480"/>
            <a:chOff x="1547640" y="5389560"/>
            <a:chExt cx="5467320" cy="663480"/>
          </a:xfrm>
        </p:grpSpPr>
        <p:sp>
          <p:nvSpPr>
            <p:cNvPr id="247" name="Text Box 69"/>
            <p:cNvSpPr/>
            <p:nvPr/>
          </p:nvSpPr>
          <p:spPr>
            <a:xfrm>
              <a:off x="2036520" y="5468760"/>
              <a:ext cx="49784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е нужно закрывать файл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0"/>
            <p:cNvSpPr/>
            <p:nvPr/>
          </p:nvSpPr>
          <p:spPr>
            <a:xfrm>
              <a:off x="1547640" y="5389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Прямоугольник 13"/>
          <p:cNvSpPr/>
          <p:nvPr/>
        </p:nvSpPr>
        <p:spPr>
          <a:xfrm>
            <a:off x="391320" y="3387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471600" y="3898440"/>
            <a:ext cx="7468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5DF5-E1E3-4313-8A0F-C7A6F6BCA1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69720" y="809640"/>
            <a:ext cx="8666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чисел, записанных в файле в столбик, и выводит результат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ое и максимальное среди чётных положительных чисел, записанных в файле, и выводит результат в другой файл. Учтите, что таких чисел может вообще не бы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целые числа, сколько их – неизвестно. Напишите программу, которая определяет длину самой длинной цепочки идущих подряд одинаковых чисел и выводит результат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3-04-06T09:14:43Z</dcterms:modified>
  <cp:revision>1794</cp:revision>
  <dc:subject/>
  <dc:title>Программное обеспечение (ПО)</dc:title>
</cp:coreProperties>
</file>