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3.xml.rels" ContentType="application/vnd.openxmlformats-package.relationships+xml"/>
  <Override PartName="/ppt/notesSlides/notesSlide1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2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34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  <p:sldId id="388" r:id="rId139"/>
    <p:sldId id="389" r:id="rId1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slide" Target="slides/slide133.xml"/><Relationship Id="rId140" Type="http://schemas.openxmlformats.org/officeDocument/2006/relationships/slide" Target="slides/slide134.xml"/><Relationship Id="rId1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C3AC-48EE-4572-8C83-46F2F7C7D6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C9B5-E552-4D36-96C7-3E8FA6F62D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35C-0B80-4881-9587-473274C0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8D2-0869-4337-A37F-4C174504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1E9-1656-4135-B3AC-5450D393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0C3-E206-4401-BB0B-5237F8A6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3444-AA88-4CAF-B9DA-CDCDD12F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EE9D-6281-405E-81BB-54AA7CCC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6C11-C668-4534-BD4D-4F8BEFAD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9AA0-4A34-4087-96ED-F2146FD3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A058-281C-4FFB-9AA2-F3B0865B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A04D-4DBC-42E9-A886-7D7A8768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2C9C-0846-4F96-B10D-A26358BD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AC6-9E6C-4BB5-99F9-BA0195E2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C125-4139-4ADF-93B1-C1D2E38C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7114-A5D3-49BD-81AF-1BCF25E8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CACB-7CE9-4702-A01E-BEF49F05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EE8A-87C3-453D-8E53-F001F33A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6838-79C8-4E64-8030-0324D9E2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AABB8-2839-4017-8DF2-9F1C9EB1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27DF6-F8F0-4430-A458-3A1B054D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29EA0-4355-494D-95C1-20239843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5B266-70F4-4DFA-86F8-558182A7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681D-7767-4846-BD18-3A31068E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231-A5AC-42A7-9789-50DEC649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3022-2EEC-4D93-9866-7D4D32EA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9ABE9-F615-49FA-9727-8DD9E659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31185-51F8-4355-B67D-A36378DB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D94E1-FBBD-47BA-9010-474FA05D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7FDFA-878A-4189-BECD-D5E8B068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032EC-B4D1-4BF0-805A-3EF39DBA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F2D02-BAC6-4399-8314-5F8F6796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2D5EF-B577-45D4-B8B1-412C55A1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4F4A1-BDB9-4DCC-86AB-5E0EDA3E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B8368-B9E0-431A-A59D-1394C7A7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02DF-3E72-4367-869F-16BC6864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9C43C-C511-499E-9508-636215B9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84550-D4FF-4BA1-A751-9ECDB826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D9980-F070-40DA-8469-E486B2A8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97EA-4402-43D4-975F-03C5A2C4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2E1DF-1D30-4774-9F6A-2EA282D0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49224-DFC4-4DDD-A27E-24CAB418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02307-BFB2-4B79-9E00-B3B19D16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32A34-F26D-4ED8-A8BD-DBA0376A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AB542-5051-4A0B-9BD3-2C638DAD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920-7B26-436D-AE47-3DCA473F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527-CB6F-49D6-9A31-BA9D75CB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DF5-D3AC-4A3B-97A4-F88514F4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D88-CFD3-49DB-BD8C-641A9441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39D-672C-470C-9DE1-D4DB418B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BEA8-3C0F-4D0A-A529-31D211AB88EE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6408-3297-4177-8C91-4F5A7899E2FE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9B6D-EFEF-4CDC-9A43-8B8D918230C9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Объектно-ориентированное программирование. Язык </a:t>
            </a:r>
            <a:r>
              <a:rPr b="0" i="1" lang="az-Latn-AZ" sz="1400" spc="-1" strike="noStrike">
                <a:solidFill>
                  <a:srgbClr val="7f7f7f"/>
                </a:solidFill>
                <a:latin typeface="Arial"/>
                <a:ea typeface="Arial"/>
              </a:rPr>
              <a:t>Python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.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1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9D41-2996-4DB1-9253-22EE9D85D25F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26.xml"/><Relationship Id="rId5" Type="http://schemas.openxmlformats.org/officeDocument/2006/relationships/slide" Target="slide42.xml"/><Relationship Id="rId6" Type="http://schemas.openxmlformats.org/officeDocument/2006/relationships/slide" Target="slide70.xml"/><Relationship Id="rId7" Type="http://schemas.openxmlformats.org/officeDocument/2006/relationships/slide" Target="slide79.xml"/><Relationship Id="rId8" Type="http://schemas.openxmlformats.org/officeDocument/2006/relationships/slide" Target="slide85.xml"/><Relationship Id="rId9" Type="http://schemas.openxmlformats.org/officeDocument/2006/relationships/slide" Target="slide110.xml"/><Relationship Id="rId10" Type="http://schemas.openxmlformats.org/officeDocument/2006/relationships/slide" Target="slide116.xml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hyperlink" Target="mailto:eremin@pspu.ac.ru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hyperlink" Target="http://www.picstopin.com/" TargetMode="External"/><Relationship Id="rId2" Type="http://schemas.openxmlformats.org/officeDocument/2006/relationships/hyperlink" Target="http://maugav.info/" TargetMode="External"/><Relationship Id="rId3" Type="http://schemas.openxmlformats.org/officeDocument/2006/relationships/hyperlink" Target="http://yoursourceisopen.com/" TargetMode="External"/><Relationship Id="rId4" Type="http://schemas.openxmlformats.org/officeDocument/2006/relationships/hyperlink" Target="http://yoursourceisopen.com/" TargetMode="External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lazarus.freepascal.org/" TargetMode="External"/><Relationship Id="rId3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hyperlink" Target="http://wxpython.org/" TargetMode="External"/><Relationship Id="rId2" Type="http://schemas.openxmlformats.org/officeDocument/2006/relationships/hyperlink" Target="http://pygtk.org/" TargetMode="External"/><Relationship Id="rId3" Type="http://schemas.openxmlformats.org/officeDocument/2006/relationships/hyperlink" Target="http://www.riverbankcomputing.com/software/pyqt/intro" TargetMode="External"/><Relationship Id="rId4" Type="http://schemas.openxmlformats.org/officeDocument/2006/relationships/hyperlink" Target="http://kpolyakov.spb.ru/school/probook/python.htm" TargetMode="External"/><Relationship Id="rId5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F413-BB7B-4E50-89C9-5841B7EB86B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000" y="684360"/>
            <a:ext cx="9107640" cy="12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Объектно-ориентированное программирование. 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Язык </a:t>
            </a:r>
            <a:r>
              <a:rPr b="1" lang="az-Latn-AZ" sz="4800" spc="-1" strike="noStrike">
                <a:solidFill>
                  <a:srgbClr val="333399"/>
                </a:solidFill>
                <a:latin typeface="Arial"/>
              </a:rPr>
              <a:t>Pyth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09760" y="2369880"/>
            <a:ext cx="7353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Что такое О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Объекты и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Создание объектов в програ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Скрытие внутреннего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Иерархия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Программы с графическим интерфей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Графические интерфейс: осн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Использование компон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9" action="ppaction://hlinksldjump"/>
              </a:rPr>
              <a:t>Совершенствование компон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10" action="ppaction://hlinksldjump"/>
              </a:rPr>
              <a:t>Модель и 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дороги с автомобил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A8CA-CCD4-40B6-980A-D8C761110E1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376200" y="806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 «Машин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26"/>
          <p:cNvSpPr/>
          <p:nvPr/>
        </p:nvSpPr>
        <p:spPr>
          <a:xfrm>
            <a:off x="584280" y="1123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: координаты и скор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662040" y="3360600"/>
            <a:ext cx="519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машины одинако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остоян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ждой полосе – одна маш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машина выходит за правую границу дороги, вместо нее слева появляется новая маш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"/>
          <p:cNvGrpSpPr/>
          <p:nvPr/>
        </p:nvGrpSpPr>
        <p:grpSpPr>
          <a:xfrm>
            <a:off x="642960" y="1680840"/>
            <a:ext cx="7332480" cy="1711800"/>
            <a:chOff x="642960" y="1680840"/>
            <a:chExt cx="7332480" cy="1711800"/>
          </a:xfrm>
        </p:grpSpPr>
        <p:sp>
          <p:nvSpPr>
            <p:cNvPr id="389" name="Rectangle 37"/>
            <p:cNvSpPr/>
            <p:nvPr/>
          </p:nvSpPr>
          <p:spPr>
            <a:xfrm>
              <a:off x="1395720" y="1684080"/>
              <a:ext cx="6578640" cy="127584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6"/>
            <p:cNvSpPr/>
            <p:nvPr/>
          </p:nvSpPr>
          <p:spPr>
            <a:xfrm>
              <a:off x="1395720" y="2108160"/>
              <a:ext cx="6579720" cy="1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5"/>
            <p:cNvSpPr/>
            <p:nvPr/>
          </p:nvSpPr>
          <p:spPr>
            <a:xfrm>
              <a:off x="1395720" y="2532600"/>
              <a:ext cx="6579720" cy="1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34"/>
            <p:cNvSpPr/>
            <p:nvPr/>
          </p:nvSpPr>
          <p:spPr>
            <a:xfrm>
              <a:off x="1395720" y="1684080"/>
              <a:ext cx="657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33"/>
            <p:cNvSpPr/>
            <p:nvPr/>
          </p:nvSpPr>
          <p:spPr>
            <a:xfrm>
              <a:off x="1395720" y="2956680"/>
              <a:ext cx="65797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32"/>
            <p:cNvSpPr/>
            <p:nvPr/>
          </p:nvSpPr>
          <p:spPr>
            <a:xfrm flipV="1">
              <a:off x="1395720" y="2940120"/>
              <a:ext cx="72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31"/>
            <p:cNvSpPr/>
            <p:nvPr/>
          </p:nvSpPr>
          <p:spPr>
            <a:xfrm flipV="1">
              <a:off x="4367880" y="2423520"/>
              <a:ext cx="180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30"/>
            <p:cNvSpPr/>
            <p:nvPr/>
          </p:nvSpPr>
          <p:spPr>
            <a:xfrm>
              <a:off x="1395720" y="3270960"/>
              <a:ext cx="2973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29"/>
            <p:cNvSpPr/>
            <p:nvPr/>
          </p:nvSpPr>
          <p:spPr>
            <a:xfrm>
              <a:off x="2597400" y="2918520"/>
              <a:ext cx="5695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9"/>
            <p:cNvGrpSpPr/>
            <p:nvPr/>
          </p:nvGrpSpPr>
          <p:grpSpPr>
            <a:xfrm>
              <a:off x="3911400" y="2151000"/>
              <a:ext cx="937800" cy="365040"/>
              <a:chOff x="3911400" y="2151000"/>
              <a:chExt cx="937800" cy="365040"/>
            </a:xfrm>
          </p:grpSpPr>
          <p:sp>
            <p:nvSpPr>
              <p:cNvPr id="399" name="Freeform 28"/>
              <p:cNvSpPr/>
              <p:nvPr/>
            </p:nvSpPr>
            <p:spPr>
              <a:xfrm>
                <a:off x="4010760" y="2331000"/>
                <a:ext cx="781200" cy="11844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7512" h="1141">
                    <a:moveTo>
                      <a:pt x="7376" y="1046"/>
                    </a:moveTo>
                    <a:lnTo>
                      <a:pt x="5542" y="1141"/>
                    </a:lnTo>
                    <a:lnTo>
                      <a:pt x="1589" y="978"/>
                    </a:lnTo>
                    <a:lnTo>
                      <a:pt x="0" y="842"/>
                    </a:lnTo>
                    <a:lnTo>
                      <a:pt x="461" y="109"/>
                    </a:lnTo>
                    <a:lnTo>
                      <a:pt x="6792" y="0"/>
                    </a:lnTo>
                    <a:lnTo>
                      <a:pt x="7512" y="516"/>
                    </a:lnTo>
                    <a:lnTo>
                      <a:pt x="7471" y="829"/>
                    </a:lnTo>
                    <a:lnTo>
                      <a:pt x="7376" y="1046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Group 25"/>
              <p:cNvGrpSpPr/>
              <p:nvPr/>
            </p:nvGrpSpPr>
            <p:grpSpPr>
              <a:xfrm>
                <a:off x="4609440" y="2369880"/>
                <a:ext cx="146160" cy="146160"/>
                <a:chOff x="4609440" y="2369880"/>
                <a:chExt cx="146160" cy="146160"/>
              </a:xfrm>
            </p:grpSpPr>
            <p:sp>
              <p:nvSpPr>
                <p:cNvPr id="401" name="Oval 27"/>
                <p:cNvSpPr/>
                <p:nvPr/>
              </p:nvSpPr>
              <p:spPr>
                <a:xfrm>
                  <a:off x="4609440" y="2369880"/>
                  <a:ext cx="146160" cy="146160"/>
                </a:xfrm>
                <a:prstGeom prst="ellipse">
                  <a:avLst/>
                </a:prstGeom>
                <a:solidFill>
                  <a:srgbClr val="27272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4635000" y="2395440"/>
                  <a:ext cx="94680" cy="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Group 22"/>
              <p:cNvGrpSpPr/>
              <p:nvPr/>
            </p:nvGrpSpPr>
            <p:grpSpPr>
              <a:xfrm>
                <a:off x="4034160" y="2369880"/>
                <a:ext cx="146160" cy="146160"/>
                <a:chOff x="4034160" y="2369880"/>
                <a:chExt cx="146160" cy="146160"/>
              </a:xfrm>
            </p:grpSpPr>
            <p:sp>
              <p:nvSpPr>
                <p:cNvPr id="404" name="Oval 24"/>
                <p:cNvSpPr/>
                <p:nvPr/>
              </p:nvSpPr>
              <p:spPr>
                <a:xfrm>
                  <a:off x="4034160" y="2369880"/>
                  <a:ext cx="146160" cy="146160"/>
                </a:xfrm>
                <a:prstGeom prst="ellipse">
                  <a:avLst/>
                </a:prstGeom>
                <a:solidFill>
                  <a:srgbClr val="27272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23"/>
                <p:cNvSpPr/>
                <p:nvPr/>
              </p:nvSpPr>
              <p:spPr>
                <a:xfrm>
                  <a:off x="4059720" y="2395440"/>
                  <a:ext cx="94680" cy="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Freeform 21"/>
              <p:cNvSpPr/>
              <p:nvPr/>
            </p:nvSpPr>
            <p:spPr>
              <a:xfrm>
                <a:off x="3911400" y="2151000"/>
                <a:ext cx="937800" cy="304920"/>
              </a:xfrm>
              <a:custGeom>
                <a:avLst/>
                <a:gdLst>
                  <a:gd name="textAreaLeft" fmla="*/ 0 w 937800"/>
                  <a:gd name="textAreaRight" fmla="*/ 938160 w 93780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9018" h="2931">
                    <a:moveTo>
                      <a:pt x="1147" y="2701"/>
                    </a:moveTo>
                    <a:cubicBezTo>
                      <a:pt x="685" y="2618"/>
                      <a:pt x="224" y="2536"/>
                      <a:pt x="224" y="2536"/>
                    </a:cubicBezTo>
                    <a:cubicBezTo>
                      <a:pt x="0" y="2478"/>
                      <a:pt x="37" y="2019"/>
                      <a:pt x="37" y="2019"/>
                    </a:cubicBezTo>
                    <a:lnTo>
                      <a:pt x="169" y="1921"/>
                    </a:lnTo>
                    <a:cubicBezTo>
                      <a:pt x="169" y="1921"/>
                      <a:pt x="105" y="1539"/>
                      <a:pt x="136" y="1371"/>
                    </a:cubicBezTo>
                    <a:cubicBezTo>
                      <a:pt x="246" y="1134"/>
                      <a:pt x="197" y="1098"/>
                      <a:pt x="358" y="914"/>
                    </a:cubicBezTo>
                    <a:cubicBezTo>
                      <a:pt x="814" y="881"/>
                      <a:pt x="1268" y="832"/>
                      <a:pt x="1268" y="832"/>
                    </a:cubicBezTo>
                    <a:cubicBezTo>
                      <a:pt x="1268" y="832"/>
                      <a:pt x="1869" y="292"/>
                      <a:pt x="2576" y="129"/>
                    </a:cubicBezTo>
                    <a:cubicBezTo>
                      <a:pt x="3777" y="0"/>
                      <a:pt x="4973" y="107"/>
                      <a:pt x="4973" y="107"/>
                    </a:cubicBezTo>
                    <a:cubicBezTo>
                      <a:pt x="5725" y="327"/>
                      <a:pt x="6918" y="1085"/>
                      <a:pt x="6918" y="1085"/>
                    </a:cubicBezTo>
                    <a:cubicBezTo>
                      <a:pt x="8044" y="1162"/>
                      <a:pt x="8795" y="1462"/>
                      <a:pt x="8875" y="1899"/>
                    </a:cubicBezTo>
                    <a:cubicBezTo>
                      <a:pt x="8897" y="1981"/>
                      <a:pt x="8919" y="2063"/>
                      <a:pt x="8919" y="2063"/>
                    </a:cubicBezTo>
                    <a:lnTo>
                      <a:pt x="9018" y="2129"/>
                    </a:lnTo>
                    <a:lnTo>
                      <a:pt x="8996" y="2481"/>
                    </a:lnTo>
                    <a:lnTo>
                      <a:pt x="8864" y="2756"/>
                    </a:lnTo>
                    <a:cubicBezTo>
                      <a:pt x="8730" y="2820"/>
                      <a:pt x="8570" y="2835"/>
                      <a:pt x="8191" y="2864"/>
                    </a:cubicBezTo>
                    <a:cubicBezTo>
                      <a:pt x="8310" y="2014"/>
                      <a:pt x="6751" y="1491"/>
                      <a:pt x="6589" y="2931"/>
                    </a:cubicBezTo>
                    <a:cubicBezTo>
                      <a:pt x="5658" y="2922"/>
                      <a:pt x="4593" y="2871"/>
                      <a:pt x="2642" y="2811"/>
                    </a:cubicBezTo>
                    <a:cubicBezTo>
                      <a:pt x="2516" y="1767"/>
                      <a:pt x="1314" y="1790"/>
                      <a:pt x="1147" y="2701"/>
                    </a:cubicBezTo>
                    <a:close/>
                  </a:path>
                </a:pathLst>
              </a:custGeom>
              <a:solidFill>
                <a:srgbClr val="a5a5a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"/>
              <p:cNvSpPr/>
              <p:nvPr/>
            </p:nvSpPr>
            <p:spPr>
              <a:xfrm>
                <a:off x="4800600" y="2378880"/>
                <a:ext cx="42480" cy="45000"/>
              </a:xfrm>
              <a:custGeom>
                <a:avLst/>
                <a:gdLst>
                  <a:gd name="textAreaLeft" fmla="*/ 0 w 42480"/>
                  <a:gd name="textAreaRight" fmla="*/ 42480 w 4248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410" h="433">
                    <a:moveTo>
                      <a:pt x="402" y="375"/>
                    </a:moveTo>
                    <a:lnTo>
                      <a:pt x="410" y="132"/>
                    </a:lnTo>
                    <a:lnTo>
                      <a:pt x="313" y="0"/>
                    </a:lnTo>
                    <a:lnTo>
                      <a:pt x="61" y="22"/>
                    </a:lnTo>
                    <a:cubicBezTo>
                      <a:pt x="61" y="22"/>
                      <a:pt x="0" y="172"/>
                      <a:pt x="97" y="349"/>
                    </a:cubicBezTo>
                    <a:cubicBezTo>
                      <a:pt x="220" y="433"/>
                      <a:pt x="402" y="375"/>
                      <a:pt x="402" y="375"/>
                    </a:cubicBezTo>
                    <a:close/>
                  </a:path>
                </a:pathLst>
              </a:custGeom>
              <a:solidFill>
                <a:srgbClr val="d8d8d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9"/>
              <p:cNvSpPr/>
              <p:nvPr/>
            </p:nvSpPr>
            <p:spPr>
              <a:xfrm>
                <a:off x="4442760" y="2174400"/>
                <a:ext cx="188280" cy="10944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811" h="1054">
                    <a:moveTo>
                      <a:pt x="0" y="44"/>
                    </a:moveTo>
                    <a:cubicBezTo>
                      <a:pt x="0" y="44"/>
                      <a:pt x="70" y="22"/>
                      <a:pt x="141" y="0"/>
                    </a:cubicBezTo>
                    <a:cubicBezTo>
                      <a:pt x="314" y="58"/>
                      <a:pt x="941" y="345"/>
                      <a:pt x="1811" y="879"/>
                    </a:cubicBezTo>
                    <a:cubicBezTo>
                      <a:pt x="1493" y="932"/>
                      <a:pt x="1667" y="1054"/>
                      <a:pt x="1365" y="915"/>
                    </a:cubicBezTo>
                    <a:cubicBezTo>
                      <a:pt x="689" y="411"/>
                      <a:pt x="0" y="44"/>
                      <a:pt x="0" y="44"/>
                    </a:cubicBez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8"/>
              <p:cNvSpPr/>
              <p:nvPr/>
            </p:nvSpPr>
            <p:spPr>
              <a:xfrm>
                <a:off x="4761360" y="2305800"/>
                <a:ext cx="70200" cy="471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76" h="455">
                    <a:moveTo>
                      <a:pt x="0" y="88"/>
                    </a:moveTo>
                    <a:cubicBezTo>
                      <a:pt x="139" y="44"/>
                      <a:pt x="278" y="0"/>
                      <a:pt x="278" y="0"/>
                    </a:cubicBezTo>
                    <a:cubicBezTo>
                      <a:pt x="278" y="0"/>
                      <a:pt x="539" y="88"/>
                      <a:pt x="676" y="402"/>
                    </a:cubicBezTo>
                    <a:cubicBezTo>
                      <a:pt x="256" y="455"/>
                      <a:pt x="252" y="353"/>
                      <a:pt x="0" y="88"/>
                    </a:cubicBezTo>
                    <a:close/>
                  </a:path>
                </a:pathLst>
              </a:custGeom>
              <a:solidFill>
                <a:srgbClr val="d8d8d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7"/>
              <p:cNvSpPr/>
              <p:nvPr/>
            </p:nvSpPr>
            <p:spPr>
              <a:xfrm>
                <a:off x="4338000" y="2176560"/>
                <a:ext cx="230040" cy="11196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2213" h="1078">
                    <a:moveTo>
                      <a:pt x="0" y="40"/>
                    </a:moveTo>
                    <a:cubicBezTo>
                      <a:pt x="77" y="512"/>
                      <a:pt x="155" y="985"/>
                      <a:pt x="155" y="985"/>
                    </a:cubicBezTo>
                    <a:cubicBezTo>
                      <a:pt x="155" y="985"/>
                      <a:pt x="1184" y="1031"/>
                      <a:pt x="2213" y="1078"/>
                    </a:cubicBezTo>
                    <a:cubicBezTo>
                      <a:pt x="1436" y="248"/>
                      <a:pt x="689" y="0"/>
                      <a:pt x="0" y="40"/>
                    </a:cubicBez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6"/>
              <p:cNvSpPr/>
              <p:nvPr/>
            </p:nvSpPr>
            <p:spPr>
              <a:xfrm>
                <a:off x="4139280" y="2179440"/>
                <a:ext cx="181800" cy="957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1749" h="923">
                    <a:moveTo>
                      <a:pt x="1719" y="13"/>
                    </a:moveTo>
                    <a:cubicBezTo>
                      <a:pt x="1734" y="468"/>
                      <a:pt x="1749" y="923"/>
                      <a:pt x="1749" y="923"/>
                    </a:cubicBezTo>
                    <a:lnTo>
                      <a:pt x="0" y="883"/>
                    </a:lnTo>
                    <a:cubicBezTo>
                      <a:pt x="0" y="883"/>
                      <a:pt x="195" y="442"/>
                      <a:pt x="442" y="62"/>
                    </a:cubicBezTo>
                    <a:cubicBezTo>
                      <a:pt x="1091" y="0"/>
                      <a:pt x="1136" y="0"/>
                      <a:pt x="1719" y="13"/>
                    </a:cubicBez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"/>
              <p:cNvSpPr/>
              <p:nvPr/>
            </p:nvSpPr>
            <p:spPr>
              <a:xfrm>
                <a:off x="4057560" y="2185920"/>
                <a:ext cx="115200" cy="849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109" h="817">
                    <a:moveTo>
                      <a:pt x="141" y="737"/>
                    </a:moveTo>
                    <a:cubicBezTo>
                      <a:pt x="141" y="737"/>
                      <a:pt x="0" y="667"/>
                      <a:pt x="168" y="552"/>
                    </a:cubicBezTo>
                    <a:cubicBezTo>
                      <a:pt x="329" y="429"/>
                      <a:pt x="800" y="57"/>
                      <a:pt x="1109" y="0"/>
                    </a:cubicBezTo>
                    <a:cubicBezTo>
                      <a:pt x="817" y="406"/>
                      <a:pt x="623" y="817"/>
                      <a:pt x="623" y="817"/>
                    </a:cubicBezTo>
                    <a:lnTo>
                      <a:pt x="141" y="737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>
                <a:off x="4119120" y="2171880"/>
                <a:ext cx="225360" cy="25668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2167" h="2469">
                    <a:moveTo>
                      <a:pt x="581" y="102"/>
                    </a:moveTo>
                    <a:cubicBezTo>
                      <a:pt x="342" y="528"/>
                      <a:pt x="164" y="743"/>
                      <a:pt x="82" y="981"/>
                    </a:cubicBezTo>
                    <a:cubicBezTo>
                      <a:pt x="0" y="1219"/>
                      <a:pt x="33" y="1290"/>
                      <a:pt x="91" y="1529"/>
                    </a:cubicBezTo>
                    <a:cubicBezTo>
                      <a:pt x="378" y="1714"/>
                      <a:pt x="550" y="1776"/>
                      <a:pt x="784" y="2412"/>
                    </a:cubicBezTo>
                    <a:cubicBezTo>
                      <a:pt x="1475" y="2440"/>
                      <a:pt x="2167" y="2469"/>
                      <a:pt x="2167" y="2469"/>
                    </a:cubicBezTo>
                    <a:lnTo>
                      <a:pt x="2087" y="1034"/>
                    </a:lnTo>
                    <a:cubicBezTo>
                      <a:pt x="2058" y="630"/>
                      <a:pt x="2025" y="283"/>
                      <a:pt x="1995" y="44"/>
                    </a:cubicBezTo>
                    <a:cubicBezTo>
                      <a:pt x="1288" y="0"/>
                      <a:pt x="1014" y="53"/>
                      <a:pt x="581" y="102"/>
                    </a:cubicBez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"/>
              <p:cNvSpPr/>
              <p:nvPr/>
            </p:nvSpPr>
            <p:spPr>
              <a:xfrm>
                <a:off x="4326480" y="2175120"/>
                <a:ext cx="270360" cy="25740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2600" h="2477">
                    <a:moveTo>
                      <a:pt x="933" y="102"/>
                    </a:moveTo>
                    <a:cubicBezTo>
                      <a:pt x="1390" y="232"/>
                      <a:pt x="2011" y="614"/>
                      <a:pt x="2366" y="1057"/>
                    </a:cubicBezTo>
                    <a:cubicBezTo>
                      <a:pt x="2600" y="1460"/>
                      <a:pt x="2503" y="2265"/>
                      <a:pt x="2318" y="2477"/>
                    </a:cubicBezTo>
                    <a:cubicBezTo>
                      <a:pt x="1397" y="2477"/>
                      <a:pt x="172" y="2440"/>
                      <a:pt x="172" y="2440"/>
                    </a:cubicBezTo>
                    <a:lnTo>
                      <a:pt x="92" y="1005"/>
                    </a:lnTo>
                    <a:cubicBezTo>
                      <a:pt x="63" y="601"/>
                      <a:pt x="46" y="314"/>
                      <a:pt x="0" y="15"/>
                    </a:cubicBezTo>
                    <a:cubicBezTo>
                      <a:pt x="482" y="0"/>
                      <a:pt x="640" y="34"/>
                      <a:pt x="933" y="102"/>
                    </a:cubicBez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2"/>
              <p:cNvSpPr/>
              <p:nvPr/>
            </p:nvSpPr>
            <p:spPr>
              <a:xfrm>
                <a:off x="3920760" y="2289240"/>
                <a:ext cx="55800" cy="4032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537" h="390">
                    <a:moveTo>
                      <a:pt x="49" y="0"/>
                    </a:moveTo>
                    <a:cubicBezTo>
                      <a:pt x="293" y="9"/>
                      <a:pt x="537" y="18"/>
                      <a:pt x="537" y="18"/>
                    </a:cubicBezTo>
                    <a:lnTo>
                      <a:pt x="311" y="384"/>
                    </a:lnTo>
                    <a:cubicBezTo>
                      <a:pt x="311" y="384"/>
                      <a:pt x="180" y="387"/>
                      <a:pt x="49" y="390"/>
                    </a:cubicBezTo>
                    <a:cubicBezTo>
                      <a:pt x="0" y="305"/>
                      <a:pt x="6" y="165"/>
                      <a:pt x="49" y="0"/>
                    </a:cubicBezTo>
                    <a:close/>
                  </a:path>
                </a:pathLst>
              </a:custGeom>
              <a:solidFill>
                <a:srgbClr val="d8d8d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11"/>
              <p:cNvSpPr/>
              <p:nvPr/>
            </p:nvSpPr>
            <p:spPr>
              <a:xfrm>
                <a:off x="4352760" y="2301840"/>
                <a:ext cx="43200" cy="14760"/>
              </a:xfrm>
              <a:prstGeom prst="ellipse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10"/>
              <p:cNvSpPr/>
              <p:nvPr/>
            </p:nvSpPr>
            <p:spPr>
              <a:xfrm>
                <a:off x="4144680" y="2290680"/>
                <a:ext cx="43200" cy="14760"/>
              </a:xfrm>
              <a:prstGeom prst="ellipse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8"/>
            <p:cNvSpPr/>
            <p:nvPr/>
          </p:nvSpPr>
          <p:spPr>
            <a:xfrm flipV="1">
              <a:off x="992520" y="2336040"/>
              <a:ext cx="2952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7"/>
            <p:cNvSpPr/>
            <p:nvPr/>
          </p:nvSpPr>
          <p:spPr>
            <a:xfrm>
              <a:off x="993240" y="168120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"/>
            <p:cNvSpPr/>
            <p:nvPr/>
          </p:nvSpPr>
          <p:spPr>
            <a:xfrm flipH="1" flipV="1">
              <a:off x="1073880" y="1680840"/>
              <a:ext cx="1800" cy="654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5"/>
            <p:cNvSpPr/>
            <p:nvPr/>
          </p:nvSpPr>
          <p:spPr>
            <a:xfrm>
              <a:off x="642960" y="1790280"/>
              <a:ext cx="47376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4"/>
            <p:cNvSpPr/>
            <p:nvPr/>
          </p:nvSpPr>
          <p:spPr>
            <a:xfrm>
              <a:off x="4822200" y="2343600"/>
              <a:ext cx="9180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"/>
            <p:cNvSpPr/>
            <p:nvPr/>
          </p:nvSpPr>
          <p:spPr>
            <a:xfrm>
              <a:off x="5549040" y="2116440"/>
              <a:ext cx="5695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4" name=""/>
          <p:cNvGraphicFramePr/>
          <p:nvPr/>
        </p:nvGraphicFramePr>
        <p:xfrm>
          <a:off x="5808600" y="3262320"/>
          <a:ext cx="2765520" cy="2103480"/>
        </p:xfrm>
        <a:graphic>
          <a:graphicData uri="http://schemas.openxmlformats.org/drawingml/2006/table">
            <a:tbl>
              <a:tblPr/>
              <a:tblGrid>
                <a:gridCol w="276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виг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Прямоугольник 65"/>
          <p:cNvSpPr/>
          <p:nvPr/>
        </p:nvSpPr>
        <p:spPr>
          <a:xfrm>
            <a:off x="484200" y="5557680"/>
            <a:ext cx="82249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роцедура или функция, принадлежащая классу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Picture 2" descr=""/>
          <p:cNvPicPr/>
          <p:nvPr/>
        </p:nvPicPr>
        <p:blipFill>
          <a:blip r:embed="rId1"/>
          <a:stretch/>
        </p:blipFill>
        <p:spPr>
          <a:xfrm>
            <a:off x="2849400" y="934920"/>
            <a:ext cx="2759400" cy="149400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2449-0F09-498E-A37C-FEF4D2ED561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Прямоугольник 5"/>
          <p:cNvSpPr/>
          <p:nvPr/>
        </p:nvSpPr>
        <p:spPr>
          <a:xfrm>
            <a:off x="366840" y="268128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я в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4"/>
          <p:cNvSpPr/>
          <p:nvPr/>
        </p:nvSpPr>
        <p:spPr>
          <a:xfrm>
            <a:off x="533520" y="3340080"/>
            <a:ext cx="8242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, 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23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Скругленная прямоугольная выноска 12"/>
          <p:cNvSpPr/>
          <p:nvPr/>
        </p:nvSpPr>
        <p:spPr>
          <a:xfrm>
            <a:off x="3944880" y="2562120"/>
            <a:ext cx="3030480" cy="732600"/>
          </a:xfrm>
          <a:prstGeom prst="wedgeRoundRectCallout">
            <a:avLst>
              <a:gd name="adj1" fmla="val -5449"/>
              <a:gd name="adj2" fmla="val 71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тот же, что и для м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Скругленная прямоугольная выноска 14"/>
          <p:cNvSpPr/>
          <p:nvPr/>
        </p:nvSpPr>
        <p:spPr>
          <a:xfrm>
            <a:off x="1473120" y="890640"/>
            <a:ext cx="1281240" cy="496440"/>
          </a:xfrm>
          <a:prstGeom prst="wedgeRoundRectCallout">
            <a:avLst>
              <a:gd name="adj1" fmla="val 107583"/>
              <a:gd name="adj2" fmla="val 5854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Скругленная прямоугольная выноска 17"/>
          <p:cNvSpPr/>
          <p:nvPr/>
        </p:nvSpPr>
        <p:spPr>
          <a:xfrm>
            <a:off x="5923080" y="3956040"/>
            <a:ext cx="2220840" cy="732600"/>
          </a:xfrm>
          <a:prstGeom prst="wedgeRoundRectCallout">
            <a:avLst>
              <a:gd name="adj1" fmla="val -20847"/>
              <a:gd name="adj2" fmla="val -922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в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мво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Скругленная прямоугольная выноска 13"/>
          <p:cNvSpPr/>
          <p:nvPr/>
        </p:nvSpPr>
        <p:spPr>
          <a:xfrm>
            <a:off x="1473120" y="1454040"/>
            <a:ext cx="1281240" cy="496440"/>
          </a:xfrm>
          <a:prstGeom prst="wedgeRoundRectCallout">
            <a:avLst>
              <a:gd name="adj1" fmla="val 105925"/>
              <a:gd name="adj2" fmla="val 905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Скругленная прямоугольная выноска 18"/>
          <p:cNvSpPr/>
          <p:nvPr/>
        </p:nvSpPr>
        <p:spPr>
          <a:xfrm>
            <a:off x="1473120" y="2038320"/>
            <a:ext cx="1281240" cy="496440"/>
          </a:xfrm>
          <a:prstGeom prst="wedgeRoundRectCallout">
            <a:avLst>
              <a:gd name="adj1" fmla="val 103425"/>
              <a:gd name="adj2" fmla="val -3580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Прямоугольник 5"/>
          <p:cNvSpPr/>
          <p:nvPr/>
        </p:nvSpPr>
        <p:spPr>
          <a:xfrm>
            <a:off x="611280" y="457344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– аналогич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4" dur="indefinite" restart="never" nodeType="tmRoot">
          <p:childTnLst>
            <p:seq>
              <p:cTn id="3005" dur="indefinite" nodeType="mainSeq">
                <p:childTnLst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7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2" dur="500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fill="hold">
                      <p:stCondLst>
                        <p:cond delay="indefinite"/>
                      </p:stCondLst>
                      <p:childTnLst>
                        <p:par>
                          <p:cTn id="3034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чик события «изменение пол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F692-1B99-4371-8F93-F5FE37C6808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Прямоугольник 8"/>
          <p:cNvSpPr/>
          <p:nvPr/>
        </p:nvSpPr>
        <p:spPr>
          <a:xfrm>
            <a:off x="404640" y="1670040"/>
            <a:ext cx="834552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rEdit.text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gEdit.text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bEdit.text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#{:02x}{:02x}{:02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, g, b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backgrou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Скругленная прямоугольная выноска 9"/>
          <p:cNvSpPr/>
          <p:nvPr/>
        </p:nvSpPr>
        <p:spPr>
          <a:xfrm>
            <a:off x="5241960" y="1955880"/>
            <a:ext cx="2763720" cy="732600"/>
          </a:xfrm>
          <a:prstGeom prst="wedgeRoundRectCallout">
            <a:avLst>
              <a:gd name="adj1" fmla="val -76930"/>
              <a:gd name="adj2" fmla="val 59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ть строки в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Скругленная прямоугольная выноска 11"/>
          <p:cNvSpPr/>
          <p:nvPr/>
        </p:nvSpPr>
        <p:spPr>
          <a:xfrm>
            <a:off x="5486400" y="3987720"/>
            <a:ext cx="3349800" cy="732600"/>
          </a:xfrm>
          <a:prstGeom prst="wedgeRoundRectCallout">
            <a:avLst>
              <a:gd name="adj1" fmla="val -60398"/>
              <a:gd name="adj2" fmla="val -73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стнадцатеричный к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Скругленная прямоугольная выноска 12"/>
          <p:cNvSpPr/>
          <p:nvPr/>
        </p:nvSpPr>
        <p:spPr>
          <a:xfrm>
            <a:off x="4379760" y="4870440"/>
            <a:ext cx="2265480" cy="732600"/>
          </a:xfrm>
          <a:prstGeom prst="wedgeRoundRectCallout">
            <a:avLst>
              <a:gd name="adj1" fmla="val -67902"/>
              <a:gd name="adj2" fmla="val -122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ить 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Скругленная прямоугольная выноска 13"/>
          <p:cNvSpPr/>
          <p:nvPr/>
        </p:nvSpPr>
        <p:spPr>
          <a:xfrm>
            <a:off x="1233360" y="5391000"/>
            <a:ext cx="2265480" cy="732600"/>
          </a:xfrm>
          <a:prstGeom prst="wedgeRoundRectCallout">
            <a:avLst>
              <a:gd name="adj1" fmla="val 27851"/>
              <a:gd name="adj2" fmla="val -115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ить текст м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Скругленная прямоугольная выноска 14"/>
          <p:cNvSpPr/>
          <p:nvPr/>
        </p:nvSpPr>
        <p:spPr>
          <a:xfrm>
            <a:off x="2906640" y="914400"/>
            <a:ext cx="2887560" cy="732600"/>
          </a:xfrm>
          <a:prstGeom prst="wedgeRoundRectCallout">
            <a:avLst>
              <a:gd name="adj1" fmla="val -23712"/>
              <a:gd name="adj2" fmla="val 77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источник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8" dur="indefinite" restart="never" nodeType="tmRoot">
          <p:childTnLst>
            <p:seq>
              <p:cTn id="3039" dur="indefinite" nodeType="mainSeq">
                <p:childTnLst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7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5" dur="500"/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8" dur="500"/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1" dur="500"/>
                                        <p:tgtEl>
                                          <p:spTgt spid="1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4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9" dur="500"/>
                                        <p:tgtEl>
                                          <p:spTgt spid="1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2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7" dur="500"/>
                                        <p:tgtEl>
                                          <p:spTgt spid="1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5" dur="500"/>
                                        <p:tgtEl>
                                          <p:spTgt spid="1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8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уск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FF16-6FC0-4A56-9279-470721D8E4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4"/>
          <p:cNvSpPr/>
          <p:nvPr/>
        </p:nvSpPr>
        <p:spPr>
          <a:xfrm>
            <a:off x="533520" y="1266840"/>
            <a:ext cx="8242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4"/>
          <p:cNvSpPr/>
          <p:nvPr/>
        </p:nvSpPr>
        <p:spPr>
          <a:xfrm>
            <a:off x="533520" y="3808440"/>
            <a:ext cx="3241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Прямоугольник 5"/>
          <p:cNvSpPr/>
          <p:nvPr/>
        </p:nvSpPr>
        <p:spPr>
          <a:xfrm>
            <a:off x="366840" y="332892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уск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рямоугольник 5"/>
          <p:cNvSpPr/>
          <p:nvPr/>
        </p:nvSpPr>
        <p:spPr>
          <a:xfrm>
            <a:off x="366840" y="82080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ключение обработч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Group 34"/>
          <p:cNvGrpSpPr/>
          <p:nvPr/>
        </p:nvGrpSpPr>
        <p:grpSpPr>
          <a:xfrm>
            <a:off x="468360" y="2584440"/>
            <a:ext cx="6793920" cy="663480"/>
            <a:chOff x="468360" y="2584440"/>
            <a:chExt cx="6793920" cy="663480"/>
          </a:xfrm>
        </p:grpSpPr>
        <p:sp>
          <p:nvSpPr>
            <p:cNvPr id="1315" name="Text Box 32"/>
            <p:cNvSpPr/>
            <p:nvPr/>
          </p:nvSpPr>
          <p:spPr>
            <a:xfrm>
              <a:off x="972720" y="2684520"/>
              <a:ext cx="6289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сле того, как все поля будут создан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33"/>
            <p:cNvSpPr/>
            <p:nvPr/>
          </p:nvSpPr>
          <p:spPr>
            <a:xfrm>
              <a:off x="468360" y="25844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9" dur="indefinite" restart="never" nodeType="tmRoot">
          <p:childTnLst>
            <p:seq>
              <p:cTn id="3090" dur="indefinite" nodeType="mainSeq">
                <p:childTnLst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5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500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4" dur="500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7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0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924C-A810-49B0-AFC9-A1678090E3C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34"/>
          <p:cNvGrpSpPr/>
          <p:nvPr/>
        </p:nvGrpSpPr>
        <p:grpSpPr>
          <a:xfrm>
            <a:off x="468360" y="915840"/>
            <a:ext cx="5691240" cy="663480"/>
            <a:chOff x="468360" y="915840"/>
            <a:chExt cx="5691240" cy="663480"/>
          </a:xfrm>
        </p:grpSpPr>
        <p:sp>
          <p:nvSpPr>
            <p:cNvPr id="1320" name="Text Box 32"/>
            <p:cNvSpPr/>
            <p:nvPr/>
          </p:nvSpPr>
          <p:spPr>
            <a:xfrm>
              <a:off x="973080" y="1015920"/>
              <a:ext cx="5186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вместо числа ввести букву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33"/>
            <p:cNvSpPr/>
            <p:nvPr/>
          </p:nvSpPr>
          <p:spPr>
            <a:xfrm>
              <a:off x="468360" y="915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Group 34"/>
          <p:cNvGrpSpPr/>
          <p:nvPr/>
        </p:nvGrpSpPr>
        <p:grpSpPr>
          <a:xfrm>
            <a:off x="468360" y="4721400"/>
            <a:ext cx="6084360" cy="663480"/>
            <a:chOff x="468360" y="4721400"/>
            <a:chExt cx="6084360" cy="663480"/>
          </a:xfrm>
        </p:grpSpPr>
        <p:sp>
          <p:nvSpPr>
            <p:cNvPr id="1323" name="Text Box 32"/>
            <p:cNvSpPr/>
            <p:nvPr/>
          </p:nvSpPr>
          <p:spPr>
            <a:xfrm>
              <a:off x="972720" y="4821480"/>
              <a:ext cx="5580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е должна «вылетать»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33"/>
            <p:cNvSpPr/>
            <p:nvPr/>
          </p:nvSpPr>
          <p:spPr>
            <a:xfrm>
              <a:off x="468360" y="4721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Прямоугольник 10"/>
          <p:cNvSpPr/>
          <p:nvPr/>
        </p:nvSpPr>
        <p:spPr>
          <a:xfrm>
            <a:off x="638280" y="1677960"/>
            <a:ext cx="802800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 in Tkinter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back (most recent call las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48, in on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Error: invalid literal for int() with base 10: '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Скругленная прямоугольная выноска 12"/>
          <p:cNvSpPr/>
          <p:nvPr/>
        </p:nvSpPr>
        <p:spPr>
          <a:xfrm>
            <a:off x="3508200" y="3743280"/>
            <a:ext cx="3030840" cy="732600"/>
          </a:xfrm>
          <a:prstGeom prst="wedgeRoundRectCallout">
            <a:avLst>
              <a:gd name="adj1" fmla="val -20537"/>
              <a:gd name="adj2" fmla="val -106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ые данные для функции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4" dur="indefinite" restart="never" nodeType="tmRoot">
          <p:childTnLst>
            <p:seq>
              <p:cTn id="3125" dur="indefinite" nodeType="mainSeq">
                <p:childTnLst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fill="hold">
                      <p:stCondLst>
                        <p:cond delay="indefinite"/>
                      </p:stCondLst>
                      <p:childTnLst>
                        <p:par>
                          <p:cTn id="3137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0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3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C7E9-4B4D-4862-B1CF-B8AB44F44F5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4"/>
          <p:cNvSpPr/>
          <p:nvPr/>
        </p:nvSpPr>
        <p:spPr>
          <a:xfrm>
            <a:off x="495360" y="1549440"/>
            <a:ext cx="8242200" cy="1849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«опасные» коман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обработка ошиб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Скругленная прямоугольная выноска 4"/>
          <p:cNvSpPr/>
          <p:nvPr/>
        </p:nvSpPr>
        <p:spPr>
          <a:xfrm>
            <a:off x="863640" y="923760"/>
            <a:ext cx="3619440" cy="891000"/>
          </a:xfrm>
          <a:prstGeom prst="wedgeRoundRectCallout">
            <a:avLst>
              <a:gd name="adj1" fmla="val -43745"/>
              <a:gd name="adj2" fmla="val 321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пытаться выпол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Скругленная прямоугольная выноска 10"/>
          <p:cNvSpPr/>
          <p:nvPr/>
        </p:nvSpPr>
        <p:spPr>
          <a:xfrm>
            <a:off x="4940280" y="2701800"/>
            <a:ext cx="3619440" cy="891000"/>
          </a:xfrm>
          <a:prstGeom prst="wedgeRoundRectCallout">
            <a:avLst>
              <a:gd name="adj1" fmla="val -65152"/>
              <a:gd name="adj2" fmla="val -868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Courier New"/>
              </a:rPr>
              <a:t>исклю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аварийная ситуа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Group 34"/>
          <p:cNvGrpSpPr/>
          <p:nvPr/>
        </p:nvGrpSpPr>
        <p:grpSpPr>
          <a:xfrm>
            <a:off x="582480" y="3745080"/>
            <a:ext cx="5538960" cy="663480"/>
            <a:chOff x="582480" y="3745080"/>
            <a:chExt cx="5538960" cy="663480"/>
          </a:xfrm>
        </p:grpSpPr>
        <p:sp>
          <p:nvSpPr>
            <p:cNvPr id="1333" name="Text Box 32"/>
            <p:cNvSpPr/>
            <p:nvPr/>
          </p:nvSpPr>
          <p:spPr>
            <a:xfrm>
              <a:off x="1087200" y="3845160"/>
              <a:ext cx="5034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ие у нас опасные операци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33"/>
            <p:cNvSpPr/>
            <p:nvPr/>
          </p:nvSpPr>
          <p:spPr>
            <a:xfrm>
              <a:off x="582480" y="3745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4" dur="indefinite" restart="never" nodeType="tmRoot">
          <p:childTnLst>
            <p:seq>
              <p:cTn id="3145" dur="indefinite" nodeType="mainSeq">
                <p:childTnLst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1" fill="hold">
                      <p:stCondLst>
                        <p:cond delay="indefinite"/>
                      </p:stCondLst>
                      <p:childTnLst>
                        <p:par>
                          <p:cTn id="3152" fill="hold">
                            <p:stCondLst>
                              <p:cond delay="0"/>
                            </p:stCondLst>
                            <p:childTnLst>
                              <p:par>
                                <p:cTn id="3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5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53FE-4915-4070-95BA-AB508C9FDB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4"/>
          <p:cNvSpPr/>
          <p:nvPr/>
        </p:nvSpPr>
        <p:spPr>
          <a:xfrm>
            <a:off x="395280" y="905040"/>
            <a:ext cx="822816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?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текст м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SystemButtonFac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получить новый цвет из полей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backgrou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Скругленная прямоугольная выноска 11"/>
          <p:cNvSpPr/>
          <p:nvPr/>
        </p:nvSpPr>
        <p:spPr>
          <a:xfrm>
            <a:off x="6105600" y="1009800"/>
            <a:ext cx="2836800" cy="732600"/>
          </a:xfrm>
          <a:prstGeom prst="wedgeRoundRectCallout">
            <a:avLst>
              <a:gd name="adj1" fmla="val -66125"/>
              <a:gd name="adj2" fmla="val 59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цвет прямо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1" dur="indefinite" restart="never" nodeType="tmRoot">
          <p:childTnLst>
            <p:seq>
              <p:cTn id="3162" dur="indefinite" nodeType="mainSeq">
                <p:childTnLst>
                  <p:par>
                    <p:cTn id="3163" fill="hold">
                      <p:stCondLst>
                        <p:cond delay="indefinite"/>
                      </p:stCondLst>
                      <p:childTnLst>
                        <p:par>
                          <p:cTn id="3164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7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0" dur="500"/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3" dur="500"/>
                                        <p:tgtEl>
                                          <p:spTgt spid="1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fill="hold">
                      <p:stCondLst>
                        <p:cond delay="indefinite"/>
                      </p:stCondLst>
                      <p:childTnLst>
                        <p:par>
                          <p:cTn id="3175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8" dur="500"/>
                                        <p:tgtEl>
                                          <p:spTgt spid="1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1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6" dur="500"/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9" dur="500"/>
                                        <p:tgtEl>
                                          <p:spTgt spid="1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4" dur="500"/>
                                        <p:tgtEl>
                                          <p:spTgt spid="1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7" dur="500"/>
                                        <p:tgtEl>
                                          <p:spTgt spid="1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2" dur="500"/>
                                        <p:tgtEl>
                                          <p:spTgt spid="1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5" dur="500"/>
                                        <p:tgtEl>
                                          <p:spTgt spid="1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6631-8289-44B3-83B2-364C24BEB3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"/>
          <p:cNvSpPr/>
          <p:nvPr/>
        </p:nvSpPr>
        <p:spPr>
          <a:xfrm>
            <a:off x="395280" y="905040"/>
            <a:ext cx="8556480" cy="558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SystemButtonFace"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rEdit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gEdit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bEdit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#{:02x}{:02x}{:02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, g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backgrou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6" dur="indefinite" restart="never" nodeType="tmRoot">
          <p:childTnLst>
            <p:seq>
              <p:cTn id="3207" dur="indefinite" nodeType="mainSeq">
                <p:childTnLst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2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5" dur="500"/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8" dur="500"/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1" dur="500"/>
                                        <p:tgtEl>
                                          <p:spTgt spid="1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2" fill="hold">
                      <p:stCondLst>
                        <p:cond delay="indefinite"/>
                      </p:stCondLst>
                      <p:childTnLst>
                        <p:par>
                          <p:cTn id="3223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6" dur="500"/>
                                        <p:tgtEl>
                                          <p:spTgt spid="1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9" dur="500"/>
                                        <p:tgtEl>
                                          <p:spTgt spid="1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2" dur="500"/>
                                        <p:tgtEl>
                                          <p:spTgt spid="1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5" dur="500"/>
                                        <p:tgtEl>
                                          <p:spTgt spid="1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fill="hold">
                      <p:stCondLst>
                        <p:cond delay="indefinite"/>
                      </p:stCondLst>
                      <p:childTnLst>
                        <p:par>
                          <p:cTn id="3237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3" dur="500"/>
                                        <p:tgtEl>
                                          <p:spTgt spid="1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6" dur="500"/>
                                        <p:tgtEl>
                                          <p:spTgt spid="1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9" dur="500"/>
                                        <p:tgtEl>
                                          <p:spTgt spid="1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4" dur="500"/>
                                        <p:tgtEl>
                                          <p:spTgt spid="1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7" dur="500"/>
                                        <p:tgtEl>
                                          <p:spTgt spid="1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8" fill="hold">
                      <p:stCondLst>
                        <p:cond delay="indefinite"/>
                      </p:stCondLst>
                      <p:childTnLst>
                        <p:par>
                          <p:cTn id="3259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2" dur="500"/>
                                        <p:tgtEl>
                                          <p:spTgt spid="1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5" dur="500"/>
                                        <p:tgtEl>
                                          <p:spTgt spid="13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5E33-294C-476B-BB6B-213100582FF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5"/>
          <p:cNvSpPr/>
          <p:nvPr/>
        </p:nvSpPr>
        <p:spPr>
          <a:xfrm>
            <a:off x="369720" y="809640"/>
            <a:ext cx="84204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программу, которая вычисляет площадь комнат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ребова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мер окна нельзя мен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опытке закрыть окно выдаётся запрос на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твержд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ощадь пересчитывается сразу же, как только изменяются значения длины или ширины комн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длина или ширина отрицательны или не числа, вместо площади выводится знак вопро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5" name="Picture 2" descr=""/>
          <p:cNvPicPr/>
          <p:nvPr/>
        </p:nvPicPr>
        <p:blipFill>
          <a:blip r:embed="rId1"/>
          <a:stretch/>
        </p:blipFill>
        <p:spPr>
          <a:xfrm>
            <a:off x="1511280" y="4379760"/>
            <a:ext cx="3438720" cy="183060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3" descr=""/>
          <p:cNvPicPr/>
          <p:nvPr/>
        </p:nvPicPr>
        <p:blipFill>
          <a:blip r:embed="rId2"/>
          <a:stretch/>
        </p:blipFill>
        <p:spPr>
          <a:xfrm>
            <a:off x="5156280" y="4379760"/>
            <a:ext cx="34383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6B53-AB2B-4022-8518-C16EE2726F3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5"/>
          <p:cNvSpPr/>
          <p:nvPr/>
        </p:nvSpPr>
        <p:spPr>
          <a:xfrm>
            <a:off x="357120" y="809640"/>
            <a:ext cx="84200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программу, которая вычисляет площадь стен комнаты и определяет, сколько рулонов обоев нужно на оклейку всех стен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личество рулонов – целое число. Остальные требования такие же, как в варианта «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2622600" y="2398680"/>
            <a:ext cx="37526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4CC4-2CFB-41C3-A6F9-1F8C1585FB1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5"/>
          <p:cNvSpPr/>
          <p:nvPr/>
        </p:nvSpPr>
        <p:spPr>
          <a:xfrm>
            <a:off x="357120" y="809640"/>
            <a:ext cx="842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работайте программу так, чтобы по щелчку по кнопке «Сохранить» все данные сохранялись в файле с расширением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d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файла можно выбра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а по щелчку по кнопке «Загрузить» данные загружались из файла (имя файла также выбираетс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2254320" y="2844720"/>
            <a:ext cx="48132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дороги с автомобил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AF0E-1FBF-43F2-8800-BCB15AB1256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376200" y="806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заимодействие объ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5302080" y="1360440"/>
          <a:ext cx="2764080" cy="2103480"/>
        </p:xfrm>
        <a:graphic>
          <a:graphicData uri="http://schemas.openxmlformats.org/drawingml/2006/table">
            <a:tbl>
              <a:tblPr/>
              <a:tblGrid>
                <a:gridCol w="2764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виг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757080" y="1360440"/>
          <a:ext cx="1635120" cy="1736640"/>
        </p:xfrm>
        <a:graphic>
          <a:graphicData uri="http://schemas.openxmlformats.org/drawingml/2006/table">
            <a:tbl>
              <a:tblPr/>
              <a:tblGrid>
                <a:gridCol w="163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Прямоугольник 47"/>
          <p:cNvSpPr/>
          <p:nvPr/>
        </p:nvSpPr>
        <p:spPr>
          <a:xfrm>
            <a:off x="2831760" y="157176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 д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олилиния 49"/>
          <p:cNvSpPr/>
          <p:nvPr/>
        </p:nvSpPr>
        <p:spPr>
          <a:xfrm>
            <a:off x="2390760" y="2009880"/>
            <a:ext cx="2914560" cy="360"/>
          </a:xfrm>
          <a:custGeom>
            <a:avLst/>
            <a:gdLst/>
            <a:ahLst/>
            <a:rect l="l" t="t" r="r" b="b"/>
            <a:pathLst>
              <a:path w="2915216" h="36214">
                <a:moveTo>
                  <a:pt x="2915216" y="0"/>
                </a:moveTo>
                <a:lnTo>
                  <a:pt x="0" y="3621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"/>
          <p:cNvSpPr/>
          <p:nvPr/>
        </p:nvSpPr>
        <p:spPr>
          <a:xfrm>
            <a:off x="660240" y="359856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операции, которые они могут выполн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бмен данными) между 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51"/>
          <p:cNvSpPr/>
          <p:nvPr/>
        </p:nvSpPr>
        <p:spPr>
          <a:xfrm>
            <a:off x="452520" y="3251160"/>
            <a:ext cx="35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опреде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34"/>
          <p:cNvGrpSpPr/>
          <p:nvPr/>
        </p:nvGrpSpPr>
        <p:grpSpPr>
          <a:xfrm>
            <a:off x="638280" y="4886280"/>
            <a:ext cx="7454880" cy="663480"/>
            <a:chOff x="638280" y="4886280"/>
            <a:chExt cx="7454880" cy="663480"/>
          </a:xfrm>
        </p:grpSpPr>
        <p:sp>
          <p:nvSpPr>
            <p:cNvPr id="438" name="Text Box 32"/>
            <p:cNvSpPr/>
            <p:nvPr/>
          </p:nvSpPr>
          <p:spPr>
            <a:xfrm>
              <a:off x="1143000" y="4986360"/>
              <a:ext cx="6950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и слова о внутреннем устройстве объектов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3"/>
            <p:cNvSpPr/>
            <p:nvPr/>
          </p:nvSpPr>
          <p:spPr>
            <a:xfrm>
              <a:off x="638280" y="4886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вершенствование компон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89C5-A52A-45DA-A994-C78FDF015D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ый класс для ввода целого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28F7-299E-4ED4-A5EF-3F0571C40F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Прямоугольник 3"/>
          <p:cNvSpPr/>
          <p:nvPr/>
        </p:nvSpPr>
        <p:spPr>
          <a:xfrm>
            <a:off x="414000" y="831960"/>
            <a:ext cx="85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строить поле для ввода целых чисел, в ко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Прямоугольник 3"/>
          <p:cNvSpPr/>
          <p:nvPr/>
        </p:nvSpPr>
        <p:spPr>
          <a:xfrm>
            <a:off x="786600" y="1212840"/>
            <a:ext cx="68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защита от ввода неверных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методы для чт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и цел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Group 34"/>
          <p:cNvGrpSpPr/>
          <p:nvPr/>
        </p:nvGrpSpPr>
        <p:grpSpPr>
          <a:xfrm>
            <a:off x="2266920" y="2097000"/>
            <a:ext cx="5037120" cy="663480"/>
            <a:chOff x="2266920" y="2097000"/>
            <a:chExt cx="5037120" cy="663480"/>
          </a:xfrm>
        </p:grpSpPr>
        <p:sp>
          <p:nvSpPr>
            <p:cNvPr id="1363" name="Text Box 32"/>
            <p:cNvSpPr/>
            <p:nvPr/>
          </p:nvSpPr>
          <p:spPr>
            <a:xfrm>
              <a:off x="2771640" y="2197080"/>
              <a:ext cx="4532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 основе класса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Edi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33"/>
            <p:cNvSpPr/>
            <p:nvPr/>
          </p:nvSpPr>
          <p:spPr>
            <a:xfrm>
              <a:off x="2266920" y="2097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Rectangle 4"/>
          <p:cNvSpPr/>
          <p:nvPr/>
        </p:nvSpPr>
        <p:spPr>
          <a:xfrm>
            <a:off x="395280" y="3000240"/>
            <a:ext cx="54957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Edit 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Прямоугольник 3"/>
          <p:cNvSpPr/>
          <p:nvPr/>
        </p:nvSpPr>
        <p:spPr>
          <a:xfrm>
            <a:off x="776160" y="4275000"/>
            <a:ext cx="815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ая блокировка недопустимых символов (всех, кроме циф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(целое чис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Прямоугольник 5"/>
          <p:cNvSpPr/>
          <p:nvPr/>
        </p:nvSpPr>
        <p:spPr>
          <a:xfrm>
            <a:off x="366840" y="386064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6" dur="indefinite" restart="never" nodeType="tmRoot">
          <p:childTnLst>
            <p:seq>
              <p:cTn id="3267" dur="indefinite" nodeType="mainSeq">
                <p:childTnLst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2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5" dur="500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0" dur="500"/>
                                        <p:tgtEl>
                                          <p:spTgt spid="1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5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0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3" dur="500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6" dur="500"/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4" dur="500"/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9" dur="500"/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бавление св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1CE3-25BD-431F-87F9-BAAC61D7A3C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4"/>
          <p:cNvSpPr/>
          <p:nvPr/>
        </p:nvSpPr>
        <p:spPr>
          <a:xfrm>
            <a:off x="395280" y="947880"/>
            <a:ext cx="8344080" cy="4848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Edit 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parent, **kw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di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parent, **kw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Valu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value )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value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val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setValue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Скругленная прямоугольная выноска 11"/>
          <p:cNvSpPr/>
          <p:nvPr/>
        </p:nvSpPr>
        <p:spPr>
          <a:xfrm>
            <a:off x="2349360" y="1401840"/>
            <a:ext cx="3094200" cy="732600"/>
          </a:xfrm>
          <a:prstGeom prst="wedgeRoundRectCallout">
            <a:avLst>
              <a:gd name="adj1" fmla="val 38328"/>
              <a:gd name="adj2" fmla="val 5171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объект-«родит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Скругленная прямоугольная выноска 12"/>
          <p:cNvSpPr/>
          <p:nvPr/>
        </p:nvSpPr>
        <p:spPr>
          <a:xfrm>
            <a:off x="6326280" y="892080"/>
            <a:ext cx="2190600" cy="1047960"/>
          </a:xfrm>
          <a:prstGeom prst="wedgeRoundRectCallout">
            <a:avLst>
              <a:gd name="adj1" fmla="val -37416"/>
              <a:gd name="adj2" fmla="val 70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остальные параметры (слов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Скругленная прямоугольная выноска 13"/>
          <p:cNvSpPr/>
          <p:nvPr/>
        </p:nvSpPr>
        <p:spPr>
          <a:xfrm>
            <a:off x="4624560" y="2954160"/>
            <a:ext cx="3095280" cy="732600"/>
          </a:xfrm>
          <a:prstGeom prst="wedgeRoundRectCallout">
            <a:avLst>
              <a:gd name="adj1" fmla="val -69222"/>
              <a:gd name="adj2" fmla="val -440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хранит цел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Полилиния 14"/>
          <p:cNvSpPr/>
          <p:nvPr/>
        </p:nvSpPr>
        <p:spPr>
          <a:xfrm>
            <a:off x="2722680" y="3189240"/>
            <a:ext cx="1608120" cy="2392560"/>
          </a:xfrm>
          <a:custGeom>
            <a:avLst/>
            <a:gdLst>
              <a:gd name="textAreaLeft" fmla="*/ 0 w 1608120"/>
              <a:gd name="textAreaRight" fmla="*/ 1608480 w 1608120"/>
              <a:gd name="textAreaTop" fmla="*/ 0 h 2392560"/>
              <a:gd name="textAreaBottom" fmla="*/ 2392920 h 2392560"/>
            </a:gdLst>
            <a:ahLst/>
            <a:rect l="textAreaLeft" t="textAreaTop" r="textAreaRight" b="textAreaBottom"/>
            <a:pathLst>
              <a:path w="1609060" h="2392326">
                <a:moveTo>
                  <a:pt x="1382232" y="2392326"/>
                </a:moveTo>
                <a:cubicBezTo>
                  <a:pt x="921488" y="1818168"/>
                  <a:pt x="1609060" y="0"/>
                  <a:pt x="0" y="669852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6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9" dur="500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4" dur="500"/>
                                        <p:tgtEl>
                                          <p:spTgt spid="1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7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0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5" dur="500"/>
                                        <p:tgtEl>
                                          <p:spTgt spid="1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0" dur="500"/>
                                        <p:tgtEl>
                                          <p:spTgt spid="1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3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8" dur="500"/>
                                        <p:tgtEl>
                                          <p:spTgt spid="1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1" dur="500"/>
                                        <p:tgtEl>
                                          <p:spTgt spid="1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6" dur="500"/>
                                        <p:tgtEl>
                                          <p:spTgt spid="1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9" dur="500"/>
                                        <p:tgtEl>
                                          <p:spTgt spid="1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2" dur="500"/>
                                        <p:tgtEl>
                                          <p:spTgt spid="1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3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6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верк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CF3B-CCD5-476E-A3F3-0F33EE6DBF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395280" y="1255680"/>
            <a:ext cx="8344080" cy="4421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Edit 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parent, **kw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nValida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validat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Прямоугольник 8"/>
          <p:cNvSpPr/>
          <p:nvPr/>
        </p:nvSpPr>
        <p:spPr>
          <a:xfrm>
            <a:off x="372960" y="822240"/>
            <a:ext cx="87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Validat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обработчик события «проверка данны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Скругленная прямоугольная выноска 9"/>
          <p:cNvSpPr/>
          <p:nvPr/>
        </p:nvSpPr>
        <p:spPr>
          <a:xfrm>
            <a:off x="5891040" y="3008160"/>
            <a:ext cx="3040200" cy="732600"/>
          </a:xfrm>
          <a:prstGeom prst="wedgeRoundRectCallout">
            <a:avLst>
              <a:gd name="adj1" fmla="val -71865"/>
              <a:gd name="adj2" fmla="val 652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ытаемся получить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Скругленная прямоугольная выноска 10"/>
          <p:cNvSpPr/>
          <p:nvPr/>
        </p:nvSpPr>
        <p:spPr>
          <a:xfrm>
            <a:off x="6380280" y="4167360"/>
            <a:ext cx="2189160" cy="732600"/>
          </a:xfrm>
          <a:prstGeom prst="wedgeRoundRectCallout">
            <a:avLst>
              <a:gd name="adj1" fmla="val -83981"/>
              <a:gd name="adj2" fmla="val -202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удачно, запомн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Скругленная прямоугольная выноска 15"/>
          <p:cNvSpPr/>
          <p:nvPr/>
        </p:nvSpPr>
        <p:spPr>
          <a:xfrm>
            <a:off x="4529160" y="5081760"/>
            <a:ext cx="3360600" cy="1047960"/>
          </a:xfrm>
          <a:prstGeom prst="wedgeRoundRectCallout">
            <a:avLst>
              <a:gd name="adj1" fmla="val -68055"/>
              <a:gd name="adj2" fmla="val -18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неудачно, отказаться от 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Прямоугольник 18"/>
          <p:cNvSpPr/>
          <p:nvPr/>
        </p:nvSpPr>
        <p:spPr>
          <a:xfrm>
            <a:off x="1200240" y="2490840"/>
            <a:ext cx="6083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nValida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Скругленная прямоугольная выноска 17"/>
          <p:cNvSpPr/>
          <p:nvPr/>
        </p:nvSpPr>
        <p:spPr>
          <a:xfrm>
            <a:off x="5273640" y="2062080"/>
            <a:ext cx="3562560" cy="732600"/>
          </a:xfrm>
          <a:prstGeom prst="wedgeRoundRectCallout">
            <a:avLst>
              <a:gd name="adj1" fmla="val -66476"/>
              <a:gd name="adj2" fmla="val 15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установить обрабо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4" name="Group 34"/>
          <p:cNvGrpSpPr/>
          <p:nvPr/>
        </p:nvGrpSpPr>
        <p:grpSpPr>
          <a:xfrm>
            <a:off x="395280" y="5840280"/>
            <a:ext cx="5037120" cy="663480"/>
            <a:chOff x="395280" y="5840280"/>
            <a:chExt cx="5037120" cy="663480"/>
          </a:xfrm>
        </p:grpSpPr>
        <p:sp>
          <p:nvSpPr>
            <p:cNvPr id="1385" name="Text Box 32"/>
            <p:cNvSpPr/>
            <p:nvPr/>
          </p:nvSpPr>
          <p:spPr>
            <a:xfrm>
              <a:off x="900000" y="5940360"/>
              <a:ext cx="4532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модуль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_edit.p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33"/>
            <p:cNvSpPr/>
            <p:nvPr/>
          </p:nvSpPr>
          <p:spPr>
            <a:xfrm>
              <a:off x="395280" y="5840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7" dur="indefinite" restart="never" nodeType="tmRoot">
          <p:childTnLst>
            <p:seq>
              <p:cTn id="3368" dur="indefinite" nodeType="mainSeq">
                <p:childTnLst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3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6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fill="hold">
                      <p:stCondLst>
                        <p:cond delay="indefinite"/>
                      </p:stCondLst>
                      <p:childTnLst>
                        <p:par>
                          <p:cTn id="3378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1" dur="500"/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4" dur="500"/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7" dur="500"/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0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5" dur="500"/>
                                        <p:tgtEl>
                                          <p:spTgt spid="1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1" dur="500"/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fill="hold">
                      <p:stCondLst>
                        <p:cond delay="indefinite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9" dur="500"/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2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7" dur="500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0" dur="500"/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3" dur="500"/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6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9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0" fill="hold">
                      <p:stCondLst>
                        <p:cond delay="indefinite"/>
                      </p:stCondLst>
                      <p:childTnLst>
                        <p:par>
                          <p:cTn id="3431" fill="hold">
                            <p:stCondLst>
                              <p:cond delay="0"/>
                            </p:stCondLst>
                            <p:childTnLst>
                              <p:par>
                                <p:cTn id="3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е для ввода цел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1B92-0BE1-4079-9F6C-C9CC8E9CD65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4"/>
          <p:cNvSpPr/>
          <p:nvPr/>
        </p:nvSpPr>
        <p:spPr>
          <a:xfrm>
            <a:off x="398520" y="3038400"/>
            <a:ext cx="8575560" cy="1099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Шестнадцатеричная система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6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Прямоугольник 7"/>
          <p:cNvSpPr/>
          <p:nvPr/>
        </p:nvSpPr>
        <p:spPr>
          <a:xfrm>
            <a:off x="395280" y="256068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-прилож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Group 14"/>
          <p:cNvGrpSpPr/>
          <p:nvPr/>
        </p:nvGrpSpPr>
        <p:grpSpPr>
          <a:xfrm>
            <a:off x="1106640" y="808200"/>
            <a:ext cx="6467400" cy="1701720"/>
            <a:chOff x="1106640" y="808200"/>
            <a:chExt cx="6467400" cy="1701720"/>
          </a:xfrm>
        </p:grpSpPr>
        <p:sp>
          <p:nvSpPr>
            <p:cNvPr id="1393" name="AutoShape 20"/>
            <p:cNvSpPr/>
            <p:nvPr/>
          </p:nvSpPr>
          <p:spPr>
            <a:xfrm>
              <a:off x="1106640" y="808200"/>
              <a:ext cx="646740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4" name="Picture 19" descr=""/>
            <p:cNvPicPr/>
            <p:nvPr/>
          </p:nvPicPr>
          <p:blipFill>
            <a:blip r:embed="rId1"/>
            <a:stretch/>
          </p:blipFill>
          <p:spPr>
            <a:xfrm>
              <a:off x="2839680" y="872640"/>
              <a:ext cx="3524400" cy="8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5" name="Freeform 18"/>
            <p:cNvSpPr/>
            <p:nvPr/>
          </p:nvSpPr>
          <p:spPr>
            <a:xfrm>
              <a:off x="5186880" y="1503360"/>
              <a:ext cx="2205000" cy="594000"/>
            </a:xfrm>
            <a:custGeom>
              <a:avLst/>
              <a:gdLst>
                <a:gd name="textAreaLeft" fmla="*/ 0 w 2205000"/>
                <a:gd name="textAreaRight" fmla="*/ 2205360 w 22050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770" h="477">
                  <a:moveTo>
                    <a:pt x="1770" y="472"/>
                  </a:moveTo>
                  <a:lnTo>
                    <a:pt x="230" y="47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Text Box 17"/>
            <p:cNvSpPr/>
            <p:nvPr/>
          </p:nvSpPr>
          <p:spPr>
            <a:xfrm>
              <a:off x="5326560" y="1802160"/>
              <a:ext cx="224748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етка </a:t>
              </a:r>
              <a:r>
                <a:rPr b="1" lang="ru-RU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hex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Lab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TLab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 flipH="1">
              <a:off x="1269000" y="1503360"/>
              <a:ext cx="2205000" cy="594000"/>
            </a:xfrm>
            <a:custGeom>
              <a:avLst/>
              <a:gdLst>
                <a:gd name="textAreaLeft" fmla="*/ -360 w 2205000"/>
                <a:gd name="textAreaRight" fmla="*/ 2205000 w 22050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770" h="477">
                  <a:moveTo>
                    <a:pt x="1770" y="472"/>
                  </a:moveTo>
                  <a:lnTo>
                    <a:pt x="230" y="47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Text Box 15"/>
            <p:cNvSpPr/>
            <p:nvPr/>
          </p:nvSpPr>
          <p:spPr>
            <a:xfrm>
              <a:off x="1106640" y="1802160"/>
              <a:ext cx="224748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оле </a:t>
              </a:r>
              <a:r>
                <a:rPr b="1" lang="ru-RU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dec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TInt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Прямоугольник 7"/>
          <p:cNvSpPr/>
          <p:nvPr/>
        </p:nvSpPr>
        <p:spPr>
          <a:xfrm>
            <a:off x="392040" y="41655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к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4"/>
          <p:cNvSpPr/>
          <p:nvPr/>
        </p:nvSpPr>
        <p:spPr>
          <a:xfrm>
            <a:off x="398520" y="4643280"/>
            <a:ext cx="85755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ourier Ne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bol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x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, f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navy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xLabel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Скругленная прямоугольная выноска 23"/>
          <p:cNvSpPr/>
          <p:nvPr/>
        </p:nvSpPr>
        <p:spPr>
          <a:xfrm>
            <a:off x="6559560" y="5921280"/>
            <a:ext cx="2190600" cy="416520"/>
          </a:xfrm>
          <a:prstGeom prst="wedgeRoundRectCallout">
            <a:avLst>
              <a:gd name="adj1" fmla="val -41768"/>
              <a:gd name="adj2" fmla="val -96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цвет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Скругленная прямоугольная выноска 24"/>
          <p:cNvSpPr/>
          <p:nvPr/>
        </p:nvSpPr>
        <p:spPr>
          <a:xfrm>
            <a:off x="4986360" y="4103640"/>
            <a:ext cx="1361880" cy="416520"/>
          </a:xfrm>
          <a:prstGeom prst="wedgeRoundRectCallout">
            <a:avLst>
              <a:gd name="adj1" fmla="val -45722"/>
              <a:gd name="adj2" fmla="val 86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5" dur="indefinite" restart="never" nodeType="tmRoot">
          <p:childTnLst>
            <p:seq>
              <p:cTn id="3436" dur="indefinite" nodeType="mainSeq">
                <p:childTnLst>
                  <p:par>
                    <p:cTn id="3437" fill="hold">
                      <p:stCondLst>
                        <p:cond delay="indefinite"/>
                      </p:stCondLst>
                      <p:childTnLst>
                        <p:par>
                          <p:cTn id="3438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1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4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5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8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fill="hold">
                      <p:stCondLst>
                        <p:cond delay="indefinite"/>
                      </p:stCondLst>
                      <p:childTnLst>
                        <p:par>
                          <p:cTn id="3460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3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6" dur="500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4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е для ввода цел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5348-86EB-4697-9CE4-7226A9AE64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Прямоугольник 7"/>
          <p:cNvSpPr/>
          <p:nvPr/>
        </p:nvSpPr>
        <p:spPr>
          <a:xfrm>
            <a:off x="387360" y="80640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е в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4"/>
          <p:cNvSpPr/>
          <p:nvPr/>
        </p:nvSpPr>
        <p:spPr>
          <a:xfrm>
            <a:off x="398520" y="1252440"/>
            <a:ext cx="85755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t_edit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001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Скругленная прямоугольная выноска 24"/>
          <p:cNvSpPr/>
          <p:nvPr/>
        </p:nvSpPr>
        <p:spPr>
          <a:xfrm>
            <a:off x="7197840" y="987480"/>
            <a:ext cx="1361880" cy="416520"/>
          </a:xfrm>
          <a:prstGeom prst="wedgeRoundRectCallout">
            <a:avLst>
              <a:gd name="adj1" fmla="val 8958"/>
              <a:gd name="adj2" fmla="val 11476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Прямоугольник 7"/>
          <p:cNvSpPr/>
          <p:nvPr/>
        </p:nvSpPr>
        <p:spPr>
          <a:xfrm>
            <a:off x="399240" y="283680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 собы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4"/>
          <p:cNvSpPr/>
          <p:nvPr/>
        </p:nvSpPr>
        <p:spPr>
          <a:xfrm>
            <a:off x="525600" y="3271680"/>
            <a:ext cx="8002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Num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x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orma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er.valu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Num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Скругленная прямоугольная выноска 19"/>
          <p:cNvSpPr/>
          <p:nvPr/>
        </p:nvSpPr>
        <p:spPr>
          <a:xfrm>
            <a:off x="6369120" y="4454640"/>
            <a:ext cx="2232000" cy="732600"/>
          </a:xfrm>
          <a:prstGeom prst="wedgeRoundRectCallout">
            <a:avLst>
              <a:gd name="adj1" fmla="val -73138"/>
              <a:gd name="adj2" fmla="val -2563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установить обрабо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Скругленная прямоугольная выноска 20"/>
          <p:cNvSpPr/>
          <p:nvPr/>
        </p:nvSpPr>
        <p:spPr>
          <a:xfrm>
            <a:off x="5581800" y="2773440"/>
            <a:ext cx="3328920" cy="627480"/>
          </a:xfrm>
          <a:prstGeom prst="wedgeRoundRectCallout">
            <a:avLst>
              <a:gd name="adj1" fmla="val -41578"/>
              <a:gd name="adj2" fmla="val 10361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ourier New"/>
              </a:rPr>
              <a:t>в шестнадцатерич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Прямоугольник 7"/>
          <p:cNvSpPr/>
          <p:nvPr/>
        </p:nvSpPr>
        <p:spPr>
          <a:xfrm>
            <a:off x="390960" y="4889520"/>
            <a:ext cx="13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4"/>
          <p:cNvSpPr/>
          <p:nvPr/>
        </p:nvSpPr>
        <p:spPr>
          <a:xfrm>
            <a:off x="525600" y="5334120"/>
            <a:ext cx="2547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Скругленная прямоугольная выноска 27"/>
          <p:cNvSpPr/>
          <p:nvPr/>
        </p:nvSpPr>
        <p:spPr>
          <a:xfrm>
            <a:off x="5635800" y="2125800"/>
            <a:ext cx="3349440" cy="416520"/>
          </a:xfrm>
          <a:prstGeom prst="wedgeRoundRectCallout">
            <a:avLst>
              <a:gd name="adj1" fmla="val -42148"/>
              <a:gd name="adj2" fmla="val -916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ирина в симво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5" dur="indefinite" restart="never" nodeType="tmRoot">
          <p:childTnLst>
            <p:seq>
              <p:cTn id="3476" dur="indefinite" nodeType="mainSeq">
                <p:childTnLst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1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4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7" dur="500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2" dur="500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5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8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9" fill="hold">
                      <p:stCondLst>
                        <p:cond delay="indefinite"/>
                      </p:stCondLst>
                      <p:childTnLst>
                        <p:par>
                          <p:cTn id="3500" fill="hold">
                            <p:stCondLst>
                              <p:cond delay="0"/>
                            </p:stCondLst>
                            <p:childTnLst>
                              <p:par>
                                <p:cTn id="3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3" dur="500"/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4" fill="hold">
                      <p:stCondLst>
                        <p:cond delay="indefinite"/>
                      </p:stCondLst>
                      <p:childTnLst>
                        <p:par>
                          <p:cTn id="3505" fill="hold">
                            <p:stCondLst>
                              <p:cond delay="0"/>
                            </p:stCondLst>
                            <p:childTnLst>
                              <p:par>
                                <p:cTn id="3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8" dur="500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3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6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9" dur="500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2" dur="500"/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5" dur="500"/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3" dur="500"/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1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4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7" dur="500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376200" y="4387320"/>
            <a:ext cx="83916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Модель и представл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7990-CFE5-4D8C-BF24-6E6D4E1354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Прямоугольник 9"/>
          <p:cNvSpPr/>
          <p:nvPr/>
        </p:nvSpPr>
        <p:spPr>
          <a:xfrm>
            <a:off x="955800" y="1690560"/>
            <a:ext cx="7203960" cy="2022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ще одна декомпози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D82E-5157-42E9-A004-993EFF2D6F8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Прямоугольник 5"/>
          <p:cNvSpPr/>
          <p:nvPr/>
        </p:nvSpPr>
        <p:spPr>
          <a:xfrm>
            <a:off x="387360" y="792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вторное использование написанного ранее готового к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3" name="Группа 11"/>
          <p:cNvGrpSpPr/>
          <p:nvPr/>
        </p:nvGrpSpPr>
        <p:grpSpPr>
          <a:xfrm>
            <a:off x="1136520" y="2174760"/>
            <a:ext cx="6843960" cy="1371600"/>
            <a:chOff x="1136520" y="2174760"/>
            <a:chExt cx="6843960" cy="1371600"/>
          </a:xfrm>
        </p:grpSpPr>
        <p:sp>
          <p:nvSpPr>
            <p:cNvPr id="1424" name="Прямоугольник 6"/>
            <p:cNvSpPr/>
            <p:nvPr/>
          </p:nvSpPr>
          <p:spPr>
            <a:xfrm>
              <a:off x="1136520" y="2174760"/>
              <a:ext cx="300672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мод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данные и методы их обработк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Прямоугольник 7"/>
            <p:cNvSpPr/>
            <p:nvPr/>
          </p:nvSpPr>
          <p:spPr>
            <a:xfrm>
              <a:off x="4973760" y="2174760"/>
              <a:ext cx="300672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представ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интерфейс с пользователе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Двойная стрелка влево/вправо 10"/>
            <p:cNvSpPr/>
            <p:nvPr/>
          </p:nvSpPr>
          <p:spPr>
            <a:xfrm>
              <a:off x="4199040" y="2714400"/>
              <a:ext cx="718920" cy="291960"/>
            </a:xfrm>
            <a:prstGeom prst="leftRightArrow">
              <a:avLst>
                <a:gd name="adj1" fmla="val 50000"/>
                <a:gd name="adj2" fmla="val 50000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7" name="Прямоугольник 18"/>
          <p:cNvSpPr/>
          <p:nvPr/>
        </p:nvSpPr>
        <p:spPr>
          <a:xfrm>
            <a:off x="955800" y="3851280"/>
            <a:ext cx="7203960" cy="2022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Группа 19"/>
          <p:cNvGrpSpPr/>
          <p:nvPr/>
        </p:nvGrpSpPr>
        <p:grpSpPr>
          <a:xfrm>
            <a:off x="2576520" y="3546360"/>
            <a:ext cx="5403960" cy="2162160"/>
            <a:chOff x="2576520" y="3546360"/>
            <a:chExt cx="5403960" cy="2162160"/>
          </a:xfrm>
        </p:grpSpPr>
        <p:sp>
          <p:nvSpPr>
            <p:cNvPr id="1429" name="Прямоугольник 21"/>
            <p:cNvSpPr/>
            <p:nvPr/>
          </p:nvSpPr>
          <p:spPr>
            <a:xfrm>
              <a:off x="4973760" y="4336920"/>
              <a:ext cx="300672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представ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интерфейс с пользователе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Стрелка углом 22"/>
            <p:cNvSpPr/>
            <p:nvPr/>
          </p:nvSpPr>
          <p:spPr>
            <a:xfrm flipV="1">
              <a:off x="2576520" y="3546360"/>
              <a:ext cx="2341440" cy="1981440"/>
            </a:xfrm>
            <a:custGeom>
              <a:avLst/>
              <a:gdLst/>
              <a:ahLst/>
              <a:rect l="l" t="t" r="r" b="b"/>
              <a:pathLst>
                <a:path w="2341318" h="1980408">
                  <a:moveTo>
                    <a:pt x="0" y="1980408"/>
                  </a:moveTo>
                  <a:lnTo>
                    <a:pt x="0" y="989333"/>
                  </a:lnTo>
                  <a:lnTo>
                    <a:pt x="0" y="989333"/>
                  </a:lnTo>
                  <a:arcTo wR="921821" hR="921821" stAng="-10799996" swAng="5400004"/>
                  <a:lnTo>
                    <a:pt x="1901608" y="67512"/>
                  </a:lnTo>
                  <a:lnTo>
                    <a:pt x="1901608" y="0"/>
                  </a:lnTo>
                  <a:lnTo>
                    <a:pt x="2341318" y="155799"/>
                  </a:lnTo>
                  <a:lnTo>
                    <a:pt x="1901608" y="311597"/>
                  </a:lnTo>
                  <a:lnTo>
                    <a:pt x="1901608" y="244085"/>
                  </a:lnTo>
                  <a:lnTo>
                    <a:pt x="921821" y="244085"/>
                  </a:lnTo>
                  <a:lnTo>
                    <a:pt x="921821" y="244085"/>
                  </a:lnTo>
                  <a:arcTo wR="745247" hR="745247" stAng="-5399995" swAng="-5400000"/>
                  <a:lnTo>
                    <a:pt x="176573" y="1980408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8" dur="indefinite" restart="never" nodeType="tmRoot">
          <p:childTnLst>
            <p:seq>
              <p:cTn id="3549" dur="indefinite" nodeType="mainSeq">
                <p:childTnLst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5" fill="hold">
                      <p:stCondLst>
                        <p:cond delay="indefinite"/>
                      </p:stCondLst>
                      <p:childTnLst>
                        <p:par>
                          <p:cTn id="3556" fill="hold">
                            <p:stCondLst>
                              <p:cond delay="0"/>
                            </p:stCondLst>
                            <p:childTnLst>
                              <p:par>
                                <p:cTn id="3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0" fill="hold">
                      <p:stCondLst>
                        <p:cond delay="indefinite"/>
                      </p:stCondLst>
                      <p:childTnLst>
                        <p:par>
                          <p:cTn id="3561" fill="hold">
                            <p:stCondLst>
                              <p:cond delay="0"/>
                            </p:stCondLst>
                            <p:childTnLst>
                              <p:par>
                                <p:cTn id="3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4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5" fill="hold">
                      <p:stCondLst>
                        <p:cond delay="indefinite"/>
                      </p:stCondLst>
                      <p:childTnLst>
                        <p:par>
                          <p:cTn id="3566" fill="hold">
                            <p:stCondLst>
                              <p:cond delay="0"/>
                            </p:stCondLst>
                            <p:childTnLst>
                              <p:par>
                                <p:cTn id="3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9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2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Group 1"/>
          <p:cNvGrpSpPr/>
          <p:nvPr/>
        </p:nvGrpSpPr>
        <p:grpSpPr>
          <a:xfrm>
            <a:off x="958680" y="4197240"/>
            <a:ext cx="7217640" cy="2179440"/>
            <a:chOff x="958680" y="4197240"/>
            <a:chExt cx="7217640" cy="2179440"/>
          </a:xfrm>
        </p:grpSpPr>
        <p:sp>
          <p:nvSpPr>
            <p:cNvPr id="1432" name="AutoShape 63"/>
            <p:cNvSpPr/>
            <p:nvPr/>
          </p:nvSpPr>
          <p:spPr>
            <a:xfrm>
              <a:off x="958680" y="4974480"/>
              <a:ext cx="1730520" cy="637920"/>
            </a:xfrm>
            <a:prstGeom prst="roundRect">
              <a:avLst>
                <a:gd name="adj" fmla="val 16667"/>
              </a:avLst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од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AutoShape 62"/>
            <p:cNvSpPr/>
            <p:nvPr/>
          </p:nvSpPr>
          <p:spPr>
            <a:xfrm>
              <a:off x="3604320" y="4343400"/>
              <a:ext cx="2436480" cy="6390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едстав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4" name="Group 26"/>
            <p:cNvGrpSpPr/>
            <p:nvPr/>
          </p:nvGrpSpPr>
          <p:grpSpPr>
            <a:xfrm>
              <a:off x="7425720" y="4197240"/>
              <a:ext cx="750600" cy="995400"/>
              <a:chOff x="7425720" y="4197240"/>
              <a:chExt cx="750600" cy="995400"/>
            </a:xfrm>
          </p:grpSpPr>
          <p:sp>
            <p:nvSpPr>
              <p:cNvPr id="1435" name="Rectangle 61"/>
              <p:cNvSpPr/>
              <p:nvPr/>
            </p:nvSpPr>
            <p:spPr>
              <a:xfrm>
                <a:off x="7801200" y="419724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6" name="Group 58"/>
              <p:cNvGrpSpPr/>
              <p:nvPr/>
            </p:nvGrpSpPr>
            <p:grpSpPr>
              <a:xfrm>
                <a:off x="7614000" y="4753440"/>
                <a:ext cx="546480" cy="439200"/>
                <a:chOff x="7614000" y="4753440"/>
                <a:chExt cx="546480" cy="439200"/>
              </a:xfrm>
            </p:grpSpPr>
            <p:sp>
              <p:nvSpPr>
                <p:cNvPr id="1437" name="Freeform 60"/>
                <p:cNvSpPr/>
                <p:nvPr/>
              </p:nvSpPr>
              <p:spPr>
                <a:xfrm>
                  <a:off x="7614000" y="4753440"/>
                  <a:ext cx="546480" cy="439200"/>
                </a:xfrm>
                <a:custGeom>
                  <a:avLst/>
                  <a:gdLst>
                    <a:gd name="textAreaLeft" fmla="*/ 0 w 546480"/>
                    <a:gd name="textAreaRight" fmla="*/ 546840 w 546480"/>
                    <a:gd name="textAreaTop" fmla="*/ 0 h 439200"/>
                    <a:gd name="textAreaBottom" fmla="*/ 439560 h 439200"/>
                  </a:gdLst>
                  <a:ahLst/>
                  <a:rect l="textAreaLeft" t="textAreaTop" r="textAreaRight" b="textAreaBottom"/>
                  <a:pathLst>
                    <a:path w="15480" h="12340">
                      <a:moveTo>
                        <a:pt x="4576" y="12340"/>
                      </a:moveTo>
                      <a:cubicBezTo>
                        <a:pt x="4322" y="11696"/>
                        <a:pt x="4068" y="11057"/>
                        <a:pt x="3717" y="10493"/>
                      </a:cubicBezTo>
                      <a:cubicBezTo>
                        <a:pt x="3365" y="9930"/>
                        <a:pt x="2824" y="9299"/>
                        <a:pt x="2472" y="8948"/>
                      </a:cubicBezTo>
                      <a:cubicBezTo>
                        <a:pt x="2121" y="8596"/>
                        <a:pt x="1892" y="8639"/>
                        <a:pt x="1613" y="8389"/>
                      </a:cubicBezTo>
                      <a:cubicBezTo>
                        <a:pt x="1334" y="8139"/>
                        <a:pt x="0" y="8490"/>
                        <a:pt x="796" y="7444"/>
                      </a:cubicBezTo>
                      <a:cubicBezTo>
                        <a:pt x="1592" y="6398"/>
                        <a:pt x="4991" y="3337"/>
                        <a:pt x="6379" y="2121"/>
                      </a:cubicBezTo>
                      <a:cubicBezTo>
                        <a:pt x="7768" y="906"/>
                        <a:pt x="8369" y="288"/>
                        <a:pt x="9126" y="144"/>
                      </a:cubicBezTo>
                      <a:cubicBezTo>
                        <a:pt x="9884" y="0"/>
                        <a:pt x="10392" y="868"/>
                        <a:pt x="10930" y="1262"/>
                      </a:cubicBezTo>
                      <a:cubicBezTo>
                        <a:pt x="11467" y="1656"/>
                        <a:pt x="12001" y="1969"/>
                        <a:pt x="12343" y="2507"/>
                      </a:cubicBezTo>
                      <a:cubicBezTo>
                        <a:pt x="12686" y="3045"/>
                        <a:pt x="12636" y="3574"/>
                        <a:pt x="12987" y="4484"/>
                      </a:cubicBezTo>
                      <a:cubicBezTo>
                        <a:pt x="13338" y="5395"/>
                        <a:pt x="14032" y="7195"/>
                        <a:pt x="14447" y="7961"/>
                      </a:cubicBezTo>
                      <a:cubicBezTo>
                        <a:pt x="14862" y="8728"/>
                        <a:pt x="15171" y="8901"/>
                        <a:pt x="15480" y="9079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Freeform 59"/>
                <p:cNvSpPr/>
                <p:nvPr/>
              </p:nvSpPr>
              <p:spPr>
                <a:xfrm>
                  <a:off x="7614000" y="4753440"/>
                  <a:ext cx="546480" cy="439200"/>
                </a:xfrm>
                <a:custGeom>
                  <a:avLst/>
                  <a:gdLst>
                    <a:gd name="textAreaLeft" fmla="*/ 0 w 546480"/>
                    <a:gd name="textAreaRight" fmla="*/ 546840 w 546480"/>
                    <a:gd name="textAreaTop" fmla="*/ 0 h 439200"/>
                    <a:gd name="textAreaBottom" fmla="*/ 439560 h 439200"/>
                  </a:gdLst>
                  <a:ahLst/>
                  <a:rect l="textAreaLeft" t="textAreaTop" r="textAreaRight" b="textAreaBottom"/>
                  <a:pathLst>
                    <a:path w="415" h="333">
                      <a:moveTo>
                        <a:pt x="123" y="333"/>
                      </a:moveTo>
                      <a:cubicBezTo>
                        <a:pt x="116" y="315"/>
                        <a:pt x="109" y="298"/>
                        <a:pt x="100" y="283"/>
                      </a:cubicBezTo>
                      <a:cubicBezTo>
                        <a:pt x="90" y="268"/>
                        <a:pt x="76" y="251"/>
                        <a:pt x="66" y="241"/>
                      </a:cubicBezTo>
                      <a:cubicBezTo>
                        <a:pt x="57" y="232"/>
                        <a:pt x="51" y="233"/>
                        <a:pt x="43" y="226"/>
                      </a:cubicBezTo>
                      <a:cubicBezTo>
                        <a:pt x="36" y="219"/>
                        <a:pt x="0" y="229"/>
                        <a:pt x="21" y="200"/>
                      </a:cubicBezTo>
                      <a:cubicBezTo>
                        <a:pt x="43" y="172"/>
                        <a:pt x="134" y="90"/>
                        <a:pt x="171" y="57"/>
                      </a:cubicBezTo>
                      <a:cubicBezTo>
                        <a:pt x="208" y="24"/>
                        <a:pt x="224" y="7"/>
                        <a:pt x="245" y="3"/>
                      </a:cubicBezTo>
                      <a:cubicBezTo>
                        <a:pt x="265" y="0"/>
                        <a:pt x="279" y="23"/>
                        <a:pt x="293" y="34"/>
                      </a:cubicBezTo>
                      <a:cubicBezTo>
                        <a:pt x="307" y="44"/>
                        <a:pt x="322" y="53"/>
                        <a:pt x="331" y="67"/>
                      </a:cubicBezTo>
                      <a:cubicBezTo>
                        <a:pt x="340" y="82"/>
                        <a:pt x="339" y="96"/>
                        <a:pt x="348" y="121"/>
                      </a:cubicBezTo>
                      <a:cubicBezTo>
                        <a:pt x="358" y="145"/>
                        <a:pt x="376" y="194"/>
                        <a:pt x="387" y="214"/>
                      </a:cubicBezTo>
                      <a:cubicBezTo>
                        <a:pt x="398" y="235"/>
                        <a:pt x="407" y="240"/>
                        <a:pt x="415" y="245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9" name="Group 55"/>
              <p:cNvGrpSpPr/>
              <p:nvPr/>
            </p:nvGrpSpPr>
            <p:grpSpPr>
              <a:xfrm>
                <a:off x="7425720" y="4389480"/>
                <a:ext cx="491040" cy="684360"/>
                <a:chOff x="7425720" y="4389480"/>
                <a:chExt cx="491040" cy="684360"/>
              </a:xfrm>
            </p:grpSpPr>
            <p:sp>
              <p:nvSpPr>
                <p:cNvPr id="1440" name="Freeform 57"/>
                <p:cNvSpPr/>
                <p:nvPr/>
              </p:nvSpPr>
              <p:spPr>
                <a:xfrm>
                  <a:off x="7425720" y="4389480"/>
                  <a:ext cx="491040" cy="684360"/>
                </a:xfrm>
                <a:custGeom>
                  <a:avLst/>
                  <a:gdLst>
                    <a:gd name="textAreaLeft" fmla="*/ 0 w 491040"/>
                    <a:gd name="textAreaRight" fmla="*/ 491400 w 4910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13920" h="19246">
                      <a:moveTo>
                        <a:pt x="3552" y="495"/>
                      </a:moveTo>
                      <a:cubicBezTo>
                        <a:pt x="3137" y="707"/>
                        <a:pt x="2722" y="918"/>
                        <a:pt x="2434" y="1354"/>
                      </a:cubicBezTo>
                      <a:cubicBezTo>
                        <a:pt x="2147" y="1790"/>
                        <a:pt x="2011" y="2514"/>
                        <a:pt x="1833" y="3115"/>
                      </a:cubicBezTo>
                      <a:cubicBezTo>
                        <a:pt x="1655" y="3716"/>
                        <a:pt x="1406" y="4419"/>
                        <a:pt x="1363" y="4961"/>
                      </a:cubicBezTo>
                      <a:cubicBezTo>
                        <a:pt x="1321" y="5502"/>
                        <a:pt x="1418" y="5926"/>
                        <a:pt x="1575" y="6374"/>
                      </a:cubicBezTo>
                      <a:cubicBezTo>
                        <a:pt x="1732" y="6823"/>
                        <a:pt x="2337" y="7259"/>
                        <a:pt x="2307" y="7665"/>
                      </a:cubicBezTo>
                      <a:cubicBezTo>
                        <a:pt x="2278" y="8072"/>
                        <a:pt x="1694" y="8343"/>
                        <a:pt x="1406" y="8821"/>
                      </a:cubicBezTo>
                      <a:cubicBezTo>
                        <a:pt x="1118" y="9299"/>
                        <a:pt x="817" y="10116"/>
                        <a:pt x="589" y="10540"/>
                      </a:cubicBezTo>
                      <a:cubicBezTo>
                        <a:pt x="360" y="10963"/>
                        <a:pt x="59" y="11086"/>
                        <a:pt x="30" y="11356"/>
                      </a:cubicBezTo>
                      <a:cubicBezTo>
                        <a:pt x="0" y="11627"/>
                        <a:pt x="220" y="11962"/>
                        <a:pt x="419" y="12169"/>
                      </a:cubicBezTo>
                      <a:cubicBezTo>
                        <a:pt x="618" y="12377"/>
                        <a:pt x="1033" y="12478"/>
                        <a:pt x="1232" y="12601"/>
                      </a:cubicBezTo>
                      <a:cubicBezTo>
                        <a:pt x="1431" y="12724"/>
                        <a:pt x="1571" y="12681"/>
                        <a:pt x="1622" y="12901"/>
                      </a:cubicBezTo>
                      <a:cubicBezTo>
                        <a:pt x="1672" y="13122"/>
                        <a:pt x="1478" y="13600"/>
                        <a:pt x="1533" y="13930"/>
                      </a:cubicBezTo>
                      <a:cubicBezTo>
                        <a:pt x="1588" y="14260"/>
                        <a:pt x="1863" y="14675"/>
                        <a:pt x="1965" y="14874"/>
                      </a:cubicBezTo>
                      <a:cubicBezTo>
                        <a:pt x="2066" y="15073"/>
                        <a:pt x="2147" y="14967"/>
                        <a:pt x="2134" y="15132"/>
                      </a:cubicBezTo>
                      <a:cubicBezTo>
                        <a:pt x="2121" y="15297"/>
                        <a:pt x="1770" y="15644"/>
                        <a:pt x="1876" y="15860"/>
                      </a:cubicBezTo>
                      <a:cubicBezTo>
                        <a:pt x="1981" y="16076"/>
                        <a:pt x="2583" y="16220"/>
                        <a:pt x="2777" y="16419"/>
                      </a:cubicBezTo>
                      <a:cubicBezTo>
                        <a:pt x="2972" y="16618"/>
                        <a:pt x="3027" y="16804"/>
                        <a:pt x="3036" y="17062"/>
                      </a:cubicBezTo>
                      <a:cubicBezTo>
                        <a:pt x="3044" y="17321"/>
                        <a:pt x="2608" y="17621"/>
                        <a:pt x="2824" y="17964"/>
                      </a:cubicBezTo>
                      <a:cubicBezTo>
                        <a:pt x="3040" y="18307"/>
                        <a:pt x="3607" y="19001"/>
                        <a:pt x="4323" y="19124"/>
                      </a:cubicBezTo>
                      <a:cubicBezTo>
                        <a:pt x="5038" y="19246"/>
                        <a:pt x="6020" y="19145"/>
                        <a:pt x="7117" y="18696"/>
                      </a:cubicBezTo>
                      <a:cubicBezTo>
                        <a:pt x="8213" y="18248"/>
                        <a:pt x="9970" y="17143"/>
                        <a:pt x="10893" y="16419"/>
                      </a:cubicBezTo>
                      <a:cubicBezTo>
                        <a:pt x="11816" y="15695"/>
                        <a:pt x="12201" y="15098"/>
                        <a:pt x="12654" y="14362"/>
                      </a:cubicBezTo>
                      <a:cubicBezTo>
                        <a:pt x="13107" y="13625"/>
                        <a:pt x="13442" y="12758"/>
                        <a:pt x="13598" y="12000"/>
                      </a:cubicBezTo>
                      <a:cubicBezTo>
                        <a:pt x="13755" y="11242"/>
                        <a:pt x="13920" y="10264"/>
                        <a:pt x="13598" y="9811"/>
                      </a:cubicBezTo>
                      <a:cubicBezTo>
                        <a:pt x="13277" y="9359"/>
                        <a:pt x="12066" y="9325"/>
                        <a:pt x="11659" y="9270"/>
                      </a:cubicBezTo>
                      <a:cubicBezTo>
                        <a:pt x="11253" y="9215"/>
                        <a:pt x="11287" y="9634"/>
                        <a:pt x="11168" y="9469"/>
                      </a:cubicBezTo>
                      <a:cubicBezTo>
                        <a:pt x="11050" y="9304"/>
                        <a:pt x="11139" y="9105"/>
                        <a:pt x="10935" y="8267"/>
                      </a:cubicBezTo>
                      <a:cubicBezTo>
                        <a:pt x="10732" y="7428"/>
                        <a:pt x="10491" y="5545"/>
                        <a:pt x="9949" y="4444"/>
                      </a:cubicBezTo>
                      <a:cubicBezTo>
                        <a:pt x="9407" y="3344"/>
                        <a:pt x="8374" y="2362"/>
                        <a:pt x="7671" y="1655"/>
                      </a:cubicBezTo>
                      <a:cubicBezTo>
                        <a:pt x="6969" y="948"/>
                        <a:pt x="6469" y="389"/>
                        <a:pt x="5741" y="195"/>
                      </a:cubicBezTo>
                      <a:cubicBezTo>
                        <a:pt x="5013" y="0"/>
                        <a:pt x="4153" y="245"/>
                        <a:pt x="3294" y="495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Freeform 56"/>
                <p:cNvSpPr/>
                <p:nvPr/>
              </p:nvSpPr>
              <p:spPr>
                <a:xfrm>
                  <a:off x="7425720" y="4389480"/>
                  <a:ext cx="491040" cy="684360"/>
                </a:xfrm>
                <a:custGeom>
                  <a:avLst/>
                  <a:gdLst>
                    <a:gd name="textAreaLeft" fmla="*/ 0 w 491040"/>
                    <a:gd name="textAreaRight" fmla="*/ 491400 w 4910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373" h="519">
                      <a:moveTo>
                        <a:pt x="96" y="13"/>
                      </a:moveTo>
                      <a:cubicBezTo>
                        <a:pt x="84" y="19"/>
                        <a:pt x="73" y="25"/>
                        <a:pt x="66" y="36"/>
                      </a:cubicBezTo>
                      <a:cubicBezTo>
                        <a:pt x="58" y="48"/>
                        <a:pt x="54" y="68"/>
                        <a:pt x="49" y="84"/>
                      </a:cubicBezTo>
                      <a:cubicBezTo>
                        <a:pt x="45" y="100"/>
                        <a:pt x="38" y="119"/>
                        <a:pt x="37" y="134"/>
                      </a:cubicBezTo>
                      <a:cubicBezTo>
                        <a:pt x="36" y="148"/>
                        <a:pt x="38" y="160"/>
                        <a:pt x="42" y="172"/>
                      </a:cubicBezTo>
                      <a:cubicBezTo>
                        <a:pt x="47" y="184"/>
                        <a:pt x="63" y="196"/>
                        <a:pt x="62" y="207"/>
                      </a:cubicBezTo>
                      <a:cubicBezTo>
                        <a:pt x="61" y="218"/>
                        <a:pt x="46" y="225"/>
                        <a:pt x="38" y="238"/>
                      </a:cubicBezTo>
                      <a:cubicBezTo>
                        <a:pt x="30" y="251"/>
                        <a:pt x="22" y="273"/>
                        <a:pt x="16" y="284"/>
                      </a:cubicBezTo>
                      <a:cubicBezTo>
                        <a:pt x="10" y="296"/>
                        <a:pt x="2" y="299"/>
                        <a:pt x="1" y="306"/>
                      </a:cubicBezTo>
                      <a:cubicBezTo>
                        <a:pt x="0" y="314"/>
                        <a:pt x="6" y="323"/>
                        <a:pt x="11" y="328"/>
                      </a:cubicBezTo>
                      <a:cubicBezTo>
                        <a:pt x="17" y="334"/>
                        <a:pt x="28" y="337"/>
                        <a:pt x="33" y="340"/>
                      </a:cubicBezTo>
                      <a:cubicBezTo>
                        <a:pt x="39" y="343"/>
                        <a:pt x="42" y="342"/>
                        <a:pt x="44" y="348"/>
                      </a:cubicBezTo>
                      <a:cubicBezTo>
                        <a:pt x="45" y="354"/>
                        <a:pt x="40" y="367"/>
                        <a:pt x="41" y="376"/>
                      </a:cubicBezTo>
                      <a:cubicBezTo>
                        <a:pt x="43" y="385"/>
                        <a:pt x="50" y="396"/>
                        <a:pt x="53" y="401"/>
                      </a:cubicBezTo>
                      <a:cubicBezTo>
                        <a:pt x="56" y="407"/>
                        <a:pt x="58" y="404"/>
                        <a:pt x="57" y="408"/>
                      </a:cubicBezTo>
                      <a:cubicBezTo>
                        <a:pt x="57" y="413"/>
                        <a:pt x="48" y="422"/>
                        <a:pt x="51" y="428"/>
                      </a:cubicBezTo>
                      <a:cubicBezTo>
                        <a:pt x="53" y="434"/>
                        <a:pt x="70" y="437"/>
                        <a:pt x="75" y="443"/>
                      </a:cubicBezTo>
                      <a:cubicBezTo>
                        <a:pt x="80" y="448"/>
                        <a:pt x="81" y="453"/>
                        <a:pt x="82" y="460"/>
                      </a:cubicBezTo>
                      <a:cubicBezTo>
                        <a:pt x="82" y="467"/>
                        <a:pt x="70" y="475"/>
                        <a:pt x="76" y="485"/>
                      </a:cubicBezTo>
                      <a:cubicBezTo>
                        <a:pt x="82" y="494"/>
                        <a:pt x="97" y="513"/>
                        <a:pt x="116" y="516"/>
                      </a:cubicBezTo>
                      <a:cubicBezTo>
                        <a:pt x="135" y="519"/>
                        <a:pt x="162" y="516"/>
                        <a:pt x="191" y="504"/>
                      </a:cubicBezTo>
                      <a:cubicBezTo>
                        <a:pt x="220" y="492"/>
                        <a:pt x="268" y="462"/>
                        <a:pt x="292" y="443"/>
                      </a:cubicBezTo>
                      <a:cubicBezTo>
                        <a:pt x="317" y="423"/>
                        <a:pt x="327" y="407"/>
                        <a:pt x="340" y="387"/>
                      </a:cubicBezTo>
                      <a:cubicBezTo>
                        <a:pt x="352" y="367"/>
                        <a:pt x="361" y="344"/>
                        <a:pt x="365" y="324"/>
                      </a:cubicBezTo>
                      <a:cubicBezTo>
                        <a:pt x="369" y="303"/>
                        <a:pt x="373" y="277"/>
                        <a:pt x="365" y="265"/>
                      </a:cubicBezTo>
                      <a:cubicBezTo>
                        <a:pt x="356" y="252"/>
                        <a:pt x="324" y="251"/>
                        <a:pt x="313" y="250"/>
                      </a:cubicBezTo>
                      <a:cubicBezTo>
                        <a:pt x="302" y="248"/>
                        <a:pt x="303" y="260"/>
                        <a:pt x="300" y="255"/>
                      </a:cubicBezTo>
                      <a:cubicBezTo>
                        <a:pt x="297" y="251"/>
                        <a:pt x="299" y="246"/>
                        <a:pt x="293" y="223"/>
                      </a:cubicBezTo>
                      <a:cubicBezTo>
                        <a:pt x="288" y="200"/>
                        <a:pt x="282" y="149"/>
                        <a:pt x="267" y="120"/>
                      </a:cubicBezTo>
                      <a:cubicBezTo>
                        <a:pt x="252" y="90"/>
                        <a:pt x="225" y="64"/>
                        <a:pt x="206" y="45"/>
                      </a:cubicBezTo>
                      <a:cubicBezTo>
                        <a:pt x="187" y="25"/>
                        <a:pt x="174" y="10"/>
                        <a:pt x="154" y="5"/>
                      </a:cubicBezTo>
                      <a:cubicBezTo>
                        <a:pt x="135" y="0"/>
                        <a:pt x="112" y="6"/>
                        <a:pt x="89" y="13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2" name="Group 52"/>
              <p:cNvGrpSpPr/>
              <p:nvPr/>
            </p:nvGrpSpPr>
            <p:grpSpPr>
              <a:xfrm>
                <a:off x="7445520" y="4202280"/>
                <a:ext cx="730800" cy="709560"/>
                <a:chOff x="7445520" y="4202280"/>
                <a:chExt cx="730800" cy="709560"/>
              </a:xfrm>
            </p:grpSpPr>
            <p:sp>
              <p:nvSpPr>
                <p:cNvPr id="1443" name="Freeform 54"/>
                <p:cNvSpPr/>
                <p:nvPr/>
              </p:nvSpPr>
              <p:spPr>
                <a:xfrm>
                  <a:off x="7445520" y="4202280"/>
                  <a:ext cx="730800" cy="709560"/>
                </a:xfrm>
                <a:custGeom>
                  <a:avLst/>
                  <a:gdLst>
                    <a:gd name="textAreaLeft" fmla="*/ 0 w 730800"/>
                    <a:gd name="textAreaRight" fmla="*/ 731160 w 73080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20720" h="19940">
                      <a:moveTo>
                        <a:pt x="10424" y="15803"/>
                      </a:moveTo>
                      <a:cubicBezTo>
                        <a:pt x="10297" y="14969"/>
                        <a:pt x="10174" y="14134"/>
                        <a:pt x="9996" y="13355"/>
                      </a:cubicBezTo>
                      <a:cubicBezTo>
                        <a:pt x="9818" y="12576"/>
                        <a:pt x="9738" y="11623"/>
                        <a:pt x="9353" y="11124"/>
                      </a:cubicBezTo>
                      <a:cubicBezTo>
                        <a:pt x="8967" y="10624"/>
                        <a:pt x="8091" y="10764"/>
                        <a:pt x="7676" y="10349"/>
                      </a:cubicBezTo>
                      <a:cubicBezTo>
                        <a:pt x="7261" y="9934"/>
                        <a:pt x="6999" y="9129"/>
                        <a:pt x="6863" y="8630"/>
                      </a:cubicBezTo>
                      <a:cubicBezTo>
                        <a:pt x="6728" y="8130"/>
                        <a:pt x="7037" y="7770"/>
                        <a:pt x="6863" y="7342"/>
                      </a:cubicBezTo>
                      <a:cubicBezTo>
                        <a:pt x="6689" y="6915"/>
                        <a:pt x="6630" y="6182"/>
                        <a:pt x="5830" y="6055"/>
                      </a:cubicBezTo>
                      <a:cubicBezTo>
                        <a:pt x="5030" y="5928"/>
                        <a:pt x="3006" y="6923"/>
                        <a:pt x="2054" y="6572"/>
                      </a:cubicBezTo>
                      <a:cubicBezTo>
                        <a:pt x="1101" y="6220"/>
                        <a:pt x="246" y="4586"/>
                        <a:pt x="123" y="3951"/>
                      </a:cubicBezTo>
                      <a:cubicBezTo>
                        <a:pt x="0" y="3315"/>
                        <a:pt x="127" y="3328"/>
                        <a:pt x="1321" y="2748"/>
                      </a:cubicBezTo>
                      <a:cubicBezTo>
                        <a:pt x="2515" y="2168"/>
                        <a:pt x="5601" y="898"/>
                        <a:pt x="7291" y="474"/>
                      </a:cubicBezTo>
                      <a:cubicBezTo>
                        <a:pt x="8980" y="51"/>
                        <a:pt x="9992" y="0"/>
                        <a:pt x="11457" y="216"/>
                      </a:cubicBezTo>
                      <a:cubicBezTo>
                        <a:pt x="12922" y="432"/>
                        <a:pt x="14861" y="1025"/>
                        <a:pt x="16093" y="1761"/>
                      </a:cubicBezTo>
                      <a:cubicBezTo>
                        <a:pt x="17325" y="2498"/>
                        <a:pt x="18112" y="3425"/>
                        <a:pt x="18840" y="4637"/>
                      </a:cubicBezTo>
                      <a:cubicBezTo>
                        <a:pt x="19569" y="5848"/>
                        <a:pt x="20221" y="7503"/>
                        <a:pt x="20470" y="9019"/>
                      </a:cubicBezTo>
                      <a:cubicBezTo>
                        <a:pt x="20720" y="10535"/>
                        <a:pt x="20623" y="12432"/>
                        <a:pt x="20343" y="13741"/>
                      </a:cubicBezTo>
                      <a:cubicBezTo>
                        <a:pt x="20064" y="15049"/>
                        <a:pt x="19171" y="16019"/>
                        <a:pt x="18798" y="16878"/>
                      </a:cubicBezTo>
                      <a:cubicBezTo>
                        <a:pt x="18425" y="17738"/>
                        <a:pt x="18125" y="18386"/>
                        <a:pt x="18112" y="18894"/>
                      </a:cubicBezTo>
                      <a:cubicBezTo>
                        <a:pt x="18099" y="19402"/>
                        <a:pt x="18887" y="19914"/>
                        <a:pt x="18713" y="19927"/>
                      </a:cubicBezTo>
                      <a:cubicBezTo>
                        <a:pt x="18540" y="19940"/>
                        <a:pt x="17744" y="19597"/>
                        <a:pt x="17079" y="18979"/>
                      </a:cubicBezTo>
                      <a:cubicBezTo>
                        <a:pt x="16414" y="18360"/>
                        <a:pt x="15331" y="16832"/>
                        <a:pt x="14717" y="16230"/>
                      </a:cubicBezTo>
                      <a:cubicBezTo>
                        <a:pt x="14103" y="15629"/>
                        <a:pt x="14099" y="15451"/>
                        <a:pt x="13387" y="15375"/>
                      </a:cubicBezTo>
                      <a:cubicBezTo>
                        <a:pt x="12676" y="15299"/>
                        <a:pt x="11063" y="15697"/>
                        <a:pt x="10449" y="15782"/>
                      </a:cubicBezTo>
                      <a:cubicBezTo>
                        <a:pt x="10449" y="15782"/>
                        <a:pt x="10424" y="15803"/>
                        <a:pt x="10424" y="15803"/>
                      </a:cubicBezTo>
                    </a:path>
                  </a:pathLst>
                </a:custGeom>
                <a:solidFill>
                  <a:srgbClr val="8080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Freeform 53"/>
                <p:cNvSpPr/>
                <p:nvPr/>
              </p:nvSpPr>
              <p:spPr>
                <a:xfrm>
                  <a:off x="7445520" y="4202280"/>
                  <a:ext cx="730800" cy="709560"/>
                </a:xfrm>
                <a:custGeom>
                  <a:avLst/>
                  <a:gdLst>
                    <a:gd name="textAreaLeft" fmla="*/ 0 w 730800"/>
                    <a:gd name="textAreaRight" fmla="*/ 731160 w 73080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555" h="538">
                      <a:moveTo>
                        <a:pt x="279" y="426"/>
                      </a:moveTo>
                      <a:cubicBezTo>
                        <a:pt x="276" y="404"/>
                        <a:pt x="273" y="381"/>
                        <a:pt x="268" y="360"/>
                      </a:cubicBezTo>
                      <a:cubicBezTo>
                        <a:pt x="263" y="339"/>
                        <a:pt x="261" y="314"/>
                        <a:pt x="251" y="300"/>
                      </a:cubicBezTo>
                      <a:cubicBezTo>
                        <a:pt x="240" y="287"/>
                        <a:pt x="217" y="290"/>
                        <a:pt x="206" y="279"/>
                      </a:cubicBezTo>
                      <a:cubicBezTo>
                        <a:pt x="194" y="268"/>
                        <a:pt x="187" y="246"/>
                        <a:pt x="184" y="233"/>
                      </a:cubicBezTo>
                      <a:cubicBezTo>
                        <a:pt x="180" y="219"/>
                        <a:pt x="188" y="210"/>
                        <a:pt x="184" y="198"/>
                      </a:cubicBezTo>
                      <a:cubicBezTo>
                        <a:pt x="179" y="187"/>
                        <a:pt x="178" y="167"/>
                        <a:pt x="156" y="163"/>
                      </a:cubicBezTo>
                      <a:cubicBezTo>
                        <a:pt x="135" y="160"/>
                        <a:pt x="80" y="187"/>
                        <a:pt x="55" y="177"/>
                      </a:cubicBezTo>
                      <a:cubicBezTo>
                        <a:pt x="29" y="168"/>
                        <a:pt x="6" y="124"/>
                        <a:pt x="3" y="107"/>
                      </a:cubicBezTo>
                      <a:cubicBezTo>
                        <a:pt x="0" y="89"/>
                        <a:pt x="3" y="90"/>
                        <a:pt x="35" y="74"/>
                      </a:cubicBezTo>
                      <a:cubicBezTo>
                        <a:pt x="67" y="58"/>
                        <a:pt x="150" y="24"/>
                        <a:pt x="195" y="13"/>
                      </a:cubicBezTo>
                      <a:cubicBezTo>
                        <a:pt x="241" y="1"/>
                        <a:pt x="268" y="0"/>
                        <a:pt x="307" y="6"/>
                      </a:cubicBezTo>
                      <a:cubicBezTo>
                        <a:pt x="346" y="12"/>
                        <a:pt x="398" y="28"/>
                        <a:pt x="431" y="47"/>
                      </a:cubicBezTo>
                      <a:cubicBezTo>
                        <a:pt x="464" y="67"/>
                        <a:pt x="485" y="92"/>
                        <a:pt x="505" y="125"/>
                      </a:cubicBezTo>
                      <a:cubicBezTo>
                        <a:pt x="524" y="158"/>
                        <a:pt x="542" y="202"/>
                        <a:pt x="549" y="243"/>
                      </a:cubicBezTo>
                      <a:cubicBezTo>
                        <a:pt x="555" y="284"/>
                        <a:pt x="553" y="335"/>
                        <a:pt x="545" y="371"/>
                      </a:cubicBezTo>
                      <a:cubicBezTo>
                        <a:pt x="538" y="406"/>
                        <a:pt x="514" y="432"/>
                        <a:pt x="504" y="455"/>
                      </a:cubicBezTo>
                      <a:cubicBezTo>
                        <a:pt x="494" y="479"/>
                        <a:pt x="486" y="496"/>
                        <a:pt x="485" y="510"/>
                      </a:cubicBezTo>
                      <a:cubicBezTo>
                        <a:pt x="485" y="523"/>
                        <a:pt x="506" y="537"/>
                        <a:pt x="501" y="538"/>
                      </a:cubicBezTo>
                      <a:cubicBezTo>
                        <a:pt x="497" y="538"/>
                        <a:pt x="476" y="529"/>
                        <a:pt x="458" y="512"/>
                      </a:cubicBezTo>
                      <a:cubicBezTo>
                        <a:pt x="440" y="495"/>
                        <a:pt x="411" y="454"/>
                        <a:pt x="394" y="438"/>
                      </a:cubicBezTo>
                      <a:cubicBezTo>
                        <a:pt x="378" y="422"/>
                        <a:pt x="378" y="417"/>
                        <a:pt x="359" y="415"/>
                      </a:cubicBezTo>
                      <a:cubicBezTo>
                        <a:pt x="340" y="413"/>
                        <a:pt x="296" y="423"/>
                        <a:pt x="280" y="426"/>
                      </a:cubicBezTo>
                      <a:cubicBezTo>
                        <a:pt x="280" y="426"/>
                        <a:pt x="279" y="426"/>
                        <a:pt x="279" y="426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5" name="Group 49"/>
              <p:cNvGrpSpPr/>
              <p:nvPr/>
            </p:nvGrpSpPr>
            <p:grpSpPr>
              <a:xfrm>
                <a:off x="7490520" y="4946040"/>
                <a:ext cx="69480" cy="30240"/>
                <a:chOff x="7490520" y="4946040"/>
                <a:chExt cx="69480" cy="30240"/>
              </a:xfrm>
            </p:grpSpPr>
            <p:sp>
              <p:nvSpPr>
                <p:cNvPr id="1446" name="Freeform 51"/>
                <p:cNvSpPr/>
                <p:nvPr/>
              </p:nvSpPr>
              <p:spPr>
                <a:xfrm>
                  <a:off x="7490520" y="4946040"/>
                  <a:ext cx="69480" cy="30240"/>
                </a:xfrm>
                <a:custGeom>
                  <a:avLst/>
                  <a:gdLst>
                    <a:gd name="textAreaLeft" fmla="*/ 0 w 69480"/>
                    <a:gd name="textAreaRight" fmla="*/ 69840 w 694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954" h="880">
                      <a:moveTo>
                        <a:pt x="0" y="0"/>
                      </a:moveTo>
                      <a:cubicBezTo>
                        <a:pt x="199" y="119"/>
                        <a:pt x="398" y="241"/>
                        <a:pt x="626" y="267"/>
                      </a:cubicBezTo>
                      <a:cubicBezTo>
                        <a:pt x="855" y="292"/>
                        <a:pt x="1146" y="72"/>
                        <a:pt x="1362" y="157"/>
                      </a:cubicBezTo>
                      <a:cubicBezTo>
                        <a:pt x="1578" y="241"/>
                        <a:pt x="1954" y="677"/>
                        <a:pt x="1920" y="779"/>
                      </a:cubicBezTo>
                      <a:cubicBezTo>
                        <a:pt x="1886" y="880"/>
                        <a:pt x="1383" y="800"/>
                        <a:pt x="1159" y="757"/>
                      </a:cubicBezTo>
                      <a:cubicBezTo>
                        <a:pt x="935" y="715"/>
                        <a:pt x="770" y="614"/>
                        <a:pt x="580" y="512"/>
                      </a:cubicBezTo>
                      <a:cubicBezTo>
                        <a:pt x="389" y="411"/>
                        <a:pt x="98" y="229"/>
                        <a:pt x="0" y="15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Freeform 50"/>
                <p:cNvSpPr/>
                <p:nvPr/>
              </p:nvSpPr>
              <p:spPr>
                <a:xfrm>
                  <a:off x="7490520" y="4946040"/>
                  <a:ext cx="69480" cy="30240"/>
                </a:xfrm>
                <a:custGeom>
                  <a:avLst/>
                  <a:gdLst>
                    <a:gd name="textAreaLeft" fmla="*/ 0 w 69480"/>
                    <a:gd name="textAreaRight" fmla="*/ 69840 w 694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53" h="23">
                      <a:moveTo>
                        <a:pt x="0" y="0"/>
                      </a:moveTo>
                      <a:cubicBezTo>
                        <a:pt x="6" y="3"/>
                        <a:pt x="11" y="6"/>
                        <a:pt x="17" y="7"/>
                      </a:cubicBezTo>
                      <a:cubicBezTo>
                        <a:pt x="23" y="8"/>
                        <a:pt x="31" y="2"/>
                        <a:pt x="37" y="4"/>
                      </a:cubicBezTo>
                      <a:cubicBezTo>
                        <a:pt x="43" y="6"/>
                        <a:pt x="53" y="18"/>
                        <a:pt x="52" y="21"/>
                      </a:cubicBezTo>
                      <a:cubicBezTo>
                        <a:pt x="51" y="23"/>
                        <a:pt x="37" y="21"/>
                        <a:pt x="31" y="20"/>
                      </a:cubicBezTo>
                      <a:cubicBezTo>
                        <a:pt x="25" y="19"/>
                        <a:pt x="21" y="16"/>
                        <a:pt x="16" y="13"/>
                      </a:cubicBezTo>
                      <a:cubicBezTo>
                        <a:pt x="11" y="11"/>
                        <a:pt x="3" y="6"/>
                        <a:pt x="0" y="4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8" name="Group 46"/>
              <p:cNvGrpSpPr/>
              <p:nvPr/>
            </p:nvGrpSpPr>
            <p:grpSpPr>
              <a:xfrm>
                <a:off x="7477200" y="4885560"/>
                <a:ext cx="115920" cy="52920"/>
                <a:chOff x="7477200" y="4885560"/>
                <a:chExt cx="115920" cy="52920"/>
              </a:xfrm>
            </p:grpSpPr>
            <p:sp>
              <p:nvSpPr>
                <p:cNvPr id="1449" name="Freeform 48"/>
                <p:cNvSpPr/>
                <p:nvPr/>
              </p:nvSpPr>
              <p:spPr>
                <a:xfrm>
                  <a:off x="7477200" y="4885560"/>
                  <a:ext cx="115920" cy="5292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3293" h="1460">
                      <a:moveTo>
                        <a:pt x="139" y="30"/>
                      </a:moveTo>
                      <a:cubicBezTo>
                        <a:pt x="279" y="59"/>
                        <a:pt x="660" y="229"/>
                        <a:pt x="990" y="385"/>
                      </a:cubicBezTo>
                      <a:cubicBezTo>
                        <a:pt x="1321" y="542"/>
                        <a:pt x="1837" y="872"/>
                        <a:pt x="2129" y="965"/>
                      </a:cubicBezTo>
                      <a:cubicBezTo>
                        <a:pt x="2421" y="1058"/>
                        <a:pt x="2590" y="893"/>
                        <a:pt x="2751" y="944"/>
                      </a:cubicBezTo>
                      <a:cubicBezTo>
                        <a:pt x="2912" y="995"/>
                        <a:pt x="3005" y="1172"/>
                        <a:pt x="3086" y="1257"/>
                      </a:cubicBezTo>
                      <a:cubicBezTo>
                        <a:pt x="3166" y="1342"/>
                        <a:pt x="3293" y="1460"/>
                        <a:pt x="3242" y="1456"/>
                      </a:cubicBezTo>
                      <a:cubicBezTo>
                        <a:pt x="3192" y="1452"/>
                        <a:pt x="2925" y="1270"/>
                        <a:pt x="2777" y="1232"/>
                      </a:cubicBezTo>
                      <a:cubicBezTo>
                        <a:pt x="2629" y="1194"/>
                        <a:pt x="2552" y="1261"/>
                        <a:pt x="2349" y="1232"/>
                      </a:cubicBezTo>
                      <a:cubicBezTo>
                        <a:pt x="2146" y="1202"/>
                        <a:pt x="1803" y="1071"/>
                        <a:pt x="1545" y="1054"/>
                      </a:cubicBezTo>
                      <a:cubicBezTo>
                        <a:pt x="1287" y="1037"/>
                        <a:pt x="978" y="1143"/>
                        <a:pt x="808" y="1122"/>
                      </a:cubicBezTo>
                      <a:cubicBezTo>
                        <a:pt x="639" y="1100"/>
                        <a:pt x="631" y="1075"/>
                        <a:pt x="520" y="923"/>
                      </a:cubicBezTo>
                      <a:cubicBezTo>
                        <a:pt x="410" y="770"/>
                        <a:pt x="203" y="351"/>
                        <a:pt x="139" y="207"/>
                      </a:cubicBezTo>
                      <a:cubicBezTo>
                        <a:pt x="76" y="64"/>
                        <a:pt x="0" y="0"/>
                        <a:pt x="139" y="30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Freeform 47"/>
                <p:cNvSpPr/>
                <p:nvPr/>
              </p:nvSpPr>
              <p:spPr>
                <a:xfrm>
                  <a:off x="7477200" y="4885560"/>
                  <a:ext cx="115920" cy="5292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88" h="40">
                      <a:moveTo>
                        <a:pt x="4" y="1"/>
                      </a:moveTo>
                      <a:cubicBezTo>
                        <a:pt x="8" y="2"/>
                        <a:pt x="18" y="7"/>
                        <a:pt x="27" y="11"/>
                      </a:cubicBezTo>
                      <a:cubicBezTo>
                        <a:pt x="35" y="15"/>
                        <a:pt x="49" y="24"/>
                        <a:pt x="57" y="26"/>
                      </a:cubicBezTo>
                      <a:cubicBezTo>
                        <a:pt x="65" y="29"/>
                        <a:pt x="70" y="24"/>
                        <a:pt x="74" y="26"/>
                      </a:cubicBezTo>
                      <a:cubicBezTo>
                        <a:pt x="78" y="27"/>
                        <a:pt x="81" y="32"/>
                        <a:pt x="83" y="34"/>
                      </a:cubicBezTo>
                      <a:cubicBezTo>
                        <a:pt x="85" y="37"/>
                        <a:pt x="88" y="40"/>
                        <a:pt x="87" y="40"/>
                      </a:cubicBezTo>
                      <a:cubicBezTo>
                        <a:pt x="86" y="40"/>
                        <a:pt x="78" y="35"/>
                        <a:pt x="75" y="34"/>
                      </a:cubicBezTo>
                      <a:cubicBezTo>
                        <a:pt x="71" y="33"/>
                        <a:pt x="68" y="34"/>
                        <a:pt x="63" y="34"/>
                      </a:cubicBezTo>
                      <a:cubicBezTo>
                        <a:pt x="58" y="33"/>
                        <a:pt x="48" y="29"/>
                        <a:pt x="41" y="29"/>
                      </a:cubicBezTo>
                      <a:cubicBezTo>
                        <a:pt x="35" y="28"/>
                        <a:pt x="26" y="31"/>
                        <a:pt x="22" y="31"/>
                      </a:cubicBezTo>
                      <a:cubicBezTo>
                        <a:pt x="17" y="30"/>
                        <a:pt x="17" y="29"/>
                        <a:pt x="14" y="25"/>
                      </a:cubicBezTo>
                      <a:cubicBezTo>
                        <a:pt x="11" y="21"/>
                        <a:pt x="6" y="10"/>
                        <a:pt x="4" y="6"/>
                      </a:cubicBezTo>
                      <a:cubicBezTo>
                        <a:pt x="2" y="2"/>
                        <a:pt x="0" y="0"/>
                        <a:pt x="4" y="1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1" name="Group 43"/>
              <p:cNvGrpSpPr/>
              <p:nvPr/>
            </p:nvGrpSpPr>
            <p:grpSpPr>
              <a:xfrm>
                <a:off x="7461360" y="4815720"/>
                <a:ext cx="61560" cy="24480"/>
                <a:chOff x="7461360" y="4815720"/>
                <a:chExt cx="61560" cy="24480"/>
              </a:xfrm>
            </p:grpSpPr>
            <p:sp>
              <p:nvSpPr>
                <p:cNvPr id="1452" name="Freeform 45"/>
                <p:cNvSpPr/>
                <p:nvPr/>
              </p:nvSpPr>
              <p:spPr>
                <a:xfrm>
                  <a:off x="7461360" y="4815720"/>
                  <a:ext cx="61560" cy="244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1773" h="733">
                      <a:moveTo>
                        <a:pt x="321" y="72"/>
                      </a:moveTo>
                      <a:cubicBezTo>
                        <a:pt x="211" y="85"/>
                        <a:pt x="0" y="34"/>
                        <a:pt x="9" y="118"/>
                      </a:cubicBezTo>
                      <a:cubicBezTo>
                        <a:pt x="17" y="203"/>
                        <a:pt x="228" y="500"/>
                        <a:pt x="363" y="589"/>
                      </a:cubicBezTo>
                      <a:cubicBezTo>
                        <a:pt x="498" y="678"/>
                        <a:pt x="646" y="640"/>
                        <a:pt x="811" y="653"/>
                      </a:cubicBezTo>
                      <a:cubicBezTo>
                        <a:pt x="975" y="665"/>
                        <a:pt x="1212" y="665"/>
                        <a:pt x="1364" y="678"/>
                      </a:cubicBezTo>
                      <a:cubicBezTo>
                        <a:pt x="1516" y="691"/>
                        <a:pt x="1672" y="733"/>
                        <a:pt x="1723" y="720"/>
                      </a:cubicBezTo>
                      <a:cubicBezTo>
                        <a:pt x="1773" y="708"/>
                        <a:pt x="1744" y="648"/>
                        <a:pt x="1655" y="610"/>
                      </a:cubicBezTo>
                      <a:cubicBezTo>
                        <a:pt x="1567" y="572"/>
                        <a:pt x="1288" y="568"/>
                        <a:pt x="1187" y="500"/>
                      </a:cubicBezTo>
                      <a:cubicBezTo>
                        <a:pt x="1085" y="432"/>
                        <a:pt x="1140" y="288"/>
                        <a:pt x="1056" y="208"/>
                      </a:cubicBezTo>
                      <a:cubicBezTo>
                        <a:pt x="971" y="127"/>
                        <a:pt x="798" y="59"/>
                        <a:pt x="676" y="29"/>
                      </a:cubicBezTo>
                      <a:cubicBezTo>
                        <a:pt x="553" y="0"/>
                        <a:pt x="431" y="59"/>
                        <a:pt x="321" y="72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Freeform 44"/>
                <p:cNvSpPr/>
                <p:nvPr/>
              </p:nvSpPr>
              <p:spPr>
                <a:xfrm>
                  <a:off x="7461360" y="4815720"/>
                  <a:ext cx="61560" cy="244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47" h="19">
                      <a:moveTo>
                        <a:pt x="8" y="1"/>
                      </a:moveTo>
                      <a:cubicBezTo>
                        <a:pt x="5" y="2"/>
                        <a:pt x="0" y="0"/>
                        <a:pt x="0" y="3"/>
                      </a:cubicBezTo>
                      <a:cubicBezTo>
                        <a:pt x="0" y="5"/>
                        <a:pt x="6" y="13"/>
                        <a:pt x="9" y="15"/>
                      </a:cubicBezTo>
                      <a:cubicBezTo>
                        <a:pt x="13" y="18"/>
                        <a:pt x="17" y="17"/>
                        <a:pt x="21" y="17"/>
                      </a:cubicBezTo>
                      <a:cubicBezTo>
                        <a:pt x="26" y="17"/>
                        <a:pt x="32" y="17"/>
                        <a:pt x="36" y="18"/>
                      </a:cubicBezTo>
                      <a:cubicBezTo>
                        <a:pt x="40" y="18"/>
                        <a:pt x="44" y="19"/>
                        <a:pt x="46" y="19"/>
                      </a:cubicBezTo>
                      <a:cubicBezTo>
                        <a:pt x="47" y="19"/>
                        <a:pt x="46" y="17"/>
                        <a:pt x="44" y="16"/>
                      </a:cubicBezTo>
                      <a:cubicBezTo>
                        <a:pt x="42" y="15"/>
                        <a:pt x="34" y="15"/>
                        <a:pt x="31" y="13"/>
                      </a:cubicBezTo>
                      <a:cubicBezTo>
                        <a:pt x="29" y="11"/>
                        <a:pt x="30" y="7"/>
                        <a:pt x="28" y="5"/>
                      </a:cubicBezTo>
                      <a:cubicBezTo>
                        <a:pt x="26" y="3"/>
                        <a:pt x="21" y="1"/>
                        <a:pt x="18" y="0"/>
                      </a:cubicBezTo>
                      <a:cubicBezTo>
                        <a:pt x="14" y="0"/>
                        <a:pt x="11" y="1"/>
                        <a:pt x="8" y="1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4" name="Freeform 42"/>
              <p:cNvSpPr/>
              <p:nvPr/>
            </p:nvSpPr>
            <p:spPr>
              <a:xfrm>
                <a:off x="7517880" y="4768200"/>
                <a:ext cx="54000" cy="1076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41" h="82">
                    <a:moveTo>
                      <a:pt x="0" y="0"/>
                    </a:moveTo>
                    <a:cubicBezTo>
                      <a:pt x="0" y="4"/>
                      <a:pt x="0" y="9"/>
                      <a:pt x="3" y="15"/>
                    </a:cubicBezTo>
                    <a:cubicBezTo>
                      <a:pt x="7" y="20"/>
                      <a:pt x="16" y="24"/>
                      <a:pt x="22" y="33"/>
                    </a:cubicBezTo>
                    <a:cubicBezTo>
                      <a:pt x="28" y="43"/>
                      <a:pt x="35" y="63"/>
                      <a:pt x="38" y="71"/>
                    </a:cubicBezTo>
                    <a:cubicBezTo>
                      <a:pt x="41" y="79"/>
                      <a:pt x="40" y="80"/>
                      <a:pt x="39" y="82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41"/>
              <p:cNvSpPr/>
              <p:nvPr/>
            </p:nvSpPr>
            <p:spPr>
              <a:xfrm>
                <a:off x="7516800" y="4798440"/>
                <a:ext cx="31320" cy="406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4" h="31">
                    <a:moveTo>
                      <a:pt x="14" y="0"/>
                    </a:moveTo>
                    <a:cubicBezTo>
                      <a:pt x="19" y="5"/>
                      <a:pt x="23" y="11"/>
                      <a:pt x="24" y="16"/>
                    </a:cubicBezTo>
                    <a:cubicBezTo>
                      <a:pt x="24" y="20"/>
                      <a:pt x="19" y="24"/>
                      <a:pt x="16" y="26"/>
                    </a:cubicBezTo>
                    <a:cubicBezTo>
                      <a:pt x="13" y="29"/>
                      <a:pt x="9" y="30"/>
                      <a:pt x="6" y="30"/>
                    </a:cubicBezTo>
                    <a:cubicBezTo>
                      <a:pt x="3" y="31"/>
                      <a:pt x="2" y="31"/>
                      <a:pt x="0" y="3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6" name="Group 38"/>
              <p:cNvGrpSpPr/>
              <p:nvPr/>
            </p:nvGrpSpPr>
            <p:grpSpPr>
              <a:xfrm>
                <a:off x="7502040" y="4573080"/>
                <a:ext cx="151560" cy="79200"/>
                <a:chOff x="7502040" y="4573080"/>
                <a:chExt cx="151560" cy="79200"/>
              </a:xfrm>
            </p:grpSpPr>
            <p:sp>
              <p:nvSpPr>
                <p:cNvPr id="1457" name="Freeform 40"/>
                <p:cNvSpPr/>
                <p:nvPr/>
              </p:nvSpPr>
              <p:spPr>
                <a:xfrm>
                  <a:off x="7502040" y="4573080"/>
                  <a:ext cx="151560" cy="7920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4300" h="2214">
                      <a:moveTo>
                        <a:pt x="275" y="906"/>
                      </a:moveTo>
                      <a:cubicBezTo>
                        <a:pt x="550" y="720"/>
                        <a:pt x="1676" y="204"/>
                        <a:pt x="2019" y="102"/>
                      </a:cubicBezTo>
                      <a:cubicBezTo>
                        <a:pt x="2362" y="0"/>
                        <a:pt x="2167" y="178"/>
                        <a:pt x="2332" y="284"/>
                      </a:cubicBezTo>
                      <a:cubicBezTo>
                        <a:pt x="2497" y="390"/>
                        <a:pt x="2802" y="623"/>
                        <a:pt x="3001" y="728"/>
                      </a:cubicBezTo>
                      <a:cubicBezTo>
                        <a:pt x="3200" y="834"/>
                        <a:pt x="3335" y="703"/>
                        <a:pt x="3534" y="932"/>
                      </a:cubicBezTo>
                      <a:cubicBezTo>
                        <a:pt x="3733" y="1160"/>
                        <a:pt x="4300" y="2011"/>
                        <a:pt x="4207" y="2112"/>
                      </a:cubicBezTo>
                      <a:cubicBezTo>
                        <a:pt x="4114" y="2214"/>
                        <a:pt x="3352" y="1668"/>
                        <a:pt x="2975" y="1554"/>
                      </a:cubicBezTo>
                      <a:cubicBezTo>
                        <a:pt x="2599" y="1439"/>
                        <a:pt x="2366" y="1435"/>
                        <a:pt x="1951" y="1422"/>
                      </a:cubicBezTo>
                      <a:cubicBezTo>
                        <a:pt x="1536" y="1410"/>
                        <a:pt x="741" y="1520"/>
                        <a:pt x="478" y="1486"/>
                      </a:cubicBezTo>
                      <a:cubicBezTo>
                        <a:pt x="216" y="1452"/>
                        <a:pt x="402" y="1312"/>
                        <a:pt x="364" y="1219"/>
                      </a:cubicBezTo>
                      <a:cubicBezTo>
                        <a:pt x="326" y="1126"/>
                        <a:pt x="0" y="1092"/>
                        <a:pt x="275" y="906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Freeform 39"/>
                <p:cNvSpPr/>
                <p:nvPr/>
              </p:nvSpPr>
              <p:spPr>
                <a:xfrm>
                  <a:off x="7502040" y="4573080"/>
                  <a:ext cx="151560" cy="7920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15" h="60">
                      <a:moveTo>
                        <a:pt x="7" y="25"/>
                      </a:moveTo>
                      <a:cubicBezTo>
                        <a:pt x="14" y="20"/>
                        <a:pt x="45" y="6"/>
                        <a:pt x="54" y="3"/>
                      </a:cubicBezTo>
                      <a:cubicBezTo>
                        <a:pt x="63" y="0"/>
                        <a:pt x="58" y="5"/>
                        <a:pt x="62" y="8"/>
                      </a:cubicBezTo>
                      <a:cubicBezTo>
                        <a:pt x="67" y="11"/>
                        <a:pt x="75" y="17"/>
                        <a:pt x="80" y="20"/>
                      </a:cubicBezTo>
                      <a:cubicBezTo>
                        <a:pt x="85" y="23"/>
                        <a:pt x="89" y="19"/>
                        <a:pt x="94" y="25"/>
                      </a:cubicBezTo>
                      <a:cubicBezTo>
                        <a:pt x="100" y="32"/>
                        <a:pt x="115" y="55"/>
                        <a:pt x="112" y="57"/>
                      </a:cubicBezTo>
                      <a:cubicBezTo>
                        <a:pt x="110" y="60"/>
                        <a:pt x="90" y="45"/>
                        <a:pt x="79" y="42"/>
                      </a:cubicBezTo>
                      <a:cubicBezTo>
                        <a:pt x="69" y="39"/>
                        <a:pt x="63" y="39"/>
                        <a:pt x="52" y="39"/>
                      </a:cubicBezTo>
                      <a:cubicBezTo>
                        <a:pt x="41" y="38"/>
                        <a:pt x="20" y="41"/>
                        <a:pt x="12" y="40"/>
                      </a:cubicBezTo>
                      <a:cubicBezTo>
                        <a:pt x="5" y="39"/>
                        <a:pt x="10" y="36"/>
                        <a:pt x="9" y="33"/>
                      </a:cubicBezTo>
                      <a:cubicBezTo>
                        <a:pt x="8" y="31"/>
                        <a:pt x="0" y="30"/>
                        <a:pt x="7" y="25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9" name="Group 35"/>
              <p:cNvGrpSpPr/>
              <p:nvPr/>
            </p:nvGrpSpPr>
            <p:grpSpPr>
              <a:xfrm>
                <a:off x="7568280" y="4654800"/>
                <a:ext cx="31320" cy="38160"/>
                <a:chOff x="7568280" y="4654800"/>
                <a:chExt cx="31320" cy="38160"/>
              </a:xfrm>
            </p:grpSpPr>
            <p:sp>
              <p:nvSpPr>
                <p:cNvPr id="1460" name="Freeform 37"/>
                <p:cNvSpPr/>
                <p:nvPr/>
              </p:nvSpPr>
              <p:spPr>
                <a:xfrm>
                  <a:off x="7568280" y="4654800"/>
                  <a:ext cx="31320" cy="381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87" h="1073">
                      <a:moveTo>
                        <a:pt x="718" y="249"/>
                      </a:moveTo>
                      <a:cubicBezTo>
                        <a:pt x="688" y="220"/>
                        <a:pt x="671" y="271"/>
                        <a:pt x="562" y="249"/>
                      </a:cubicBezTo>
                      <a:cubicBezTo>
                        <a:pt x="452" y="228"/>
                        <a:pt x="101" y="0"/>
                        <a:pt x="51" y="118"/>
                      </a:cubicBezTo>
                      <a:cubicBezTo>
                        <a:pt x="0" y="237"/>
                        <a:pt x="123" y="854"/>
                        <a:pt x="249" y="964"/>
                      </a:cubicBezTo>
                      <a:cubicBezTo>
                        <a:pt x="376" y="1073"/>
                        <a:pt x="726" y="854"/>
                        <a:pt x="807" y="765"/>
                      </a:cubicBezTo>
                      <a:cubicBezTo>
                        <a:pt x="887" y="676"/>
                        <a:pt x="756" y="516"/>
                        <a:pt x="739" y="431"/>
                      </a:cubicBezTo>
                      <a:cubicBezTo>
                        <a:pt x="722" y="347"/>
                        <a:pt x="747" y="279"/>
                        <a:pt x="718" y="249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Freeform 36"/>
                <p:cNvSpPr/>
                <p:nvPr/>
              </p:nvSpPr>
              <p:spPr>
                <a:xfrm>
                  <a:off x="7568280" y="4654800"/>
                  <a:ext cx="31320" cy="381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4" h="29">
                      <a:moveTo>
                        <a:pt x="19" y="7"/>
                      </a:moveTo>
                      <a:cubicBezTo>
                        <a:pt x="18" y="6"/>
                        <a:pt x="18" y="7"/>
                        <a:pt x="15" y="7"/>
                      </a:cubicBezTo>
                      <a:cubicBezTo>
                        <a:pt x="12" y="6"/>
                        <a:pt x="3" y="0"/>
                        <a:pt x="1" y="3"/>
                      </a:cubicBezTo>
                      <a:cubicBezTo>
                        <a:pt x="0" y="6"/>
                        <a:pt x="3" y="23"/>
                        <a:pt x="7" y="26"/>
                      </a:cubicBezTo>
                      <a:cubicBezTo>
                        <a:pt x="10" y="29"/>
                        <a:pt x="20" y="23"/>
                        <a:pt x="22" y="21"/>
                      </a:cubicBezTo>
                      <a:cubicBezTo>
                        <a:pt x="24" y="18"/>
                        <a:pt x="20" y="14"/>
                        <a:pt x="20" y="12"/>
                      </a:cubicBezTo>
                      <a:cubicBezTo>
                        <a:pt x="19" y="9"/>
                        <a:pt x="20" y="7"/>
                        <a:pt x="19" y="7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2" name="Freeform 34"/>
              <p:cNvSpPr/>
              <p:nvPr/>
            </p:nvSpPr>
            <p:spPr>
              <a:xfrm>
                <a:off x="7562880" y="4633560"/>
                <a:ext cx="91080" cy="435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69" h="33">
                    <a:moveTo>
                      <a:pt x="69" y="33"/>
                    </a:moveTo>
                    <a:cubicBezTo>
                      <a:pt x="55" y="30"/>
                      <a:pt x="41" y="28"/>
                      <a:pt x="30" y="25"/>
                    </a:cubicBezTo>
                    <a:cubicBezTo>
                      <a:pt x="19" y="22"/>
                      <a:pt x="8" y="19"/>
                      <a:pt x="4" y="15"/>
                    </a:cubicBezTo>
                    <a:cubicBezTo>
                      <a:pt x="0" y="11"/>
                      <a:pt x="3" y="5"/>
                      <a:pt x="4" y="3"/>
                    </a:cubicBezTo>
                    <a:cubicBezTo>
                      <a:pt x="5" y="1"/>
                      <a:pt x="2" y="0"/>
                      <a:pt x="10" y="3"/>
                    </a:cubicBezTo>
                    <a:cubicBezTo>
                      <a:pt x="18" y="5"/>
                      <a:pt x="42" y="16"/>
                      <a:pt x="51" y="18"/>
                    </a:cubicBezTo>
                    <a:cubicBezTo>
                      <a:pt x="59" y="21"/>
                      <a:pt x="57" y="19"/>
                      <a:pt x="60" y="20"/>
                    </a:cubicBezTo>
                    <a:cubicBezTo>
                      <a:pt x="62" y="21"/>
                      <a:pt x="64" y="22"/>
                      <a:pt x="65" y="24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33"/>
              <p:cNvSpPr/>
              <p:nvPr/>
            </p:nvSpPr>
            <p:spPr>
              <a:xfrm>
                <a:off x="7574760" y="4675680"/>
                <a:ext cx="77400" cy="460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9" h="35">
                    <a:moveTo>
                      <a:pt x="41" y="0"/>
                    </a:moveTo>
                    <a:cubicBezTo>
                      <a:pt x="32" y="3"/>
                      <a:pt x="23" y="5"/>
                      <a:pt x="16" y="6"/>
                    </a:cubicBezTo>
                    <a:cubicBezTo>
                      <a:pt x="10" y="8"/>
                      <a:pt x="4" y="8"/>
                      <a:pt x="2" y="11"/>
                    </a:cubicBezTo>
                    <a:cubicBezTo>
                      <a:pt x="0" y="15"/>
                      <a:pt x="2" y="22"/>
                      <a:pt x="3" y="26"/>
                    </a:cubicBezTo>
                    <a:cubicBezTo>
                      <a:pt x="5" y="29"/>
                      <a:pt x="4" y="35"/>
                      <a:pt x="10" y="34"/>
                    </a:cubicBezTo>
                    <a:cubicBezTo>
                      <a:pt x="15" y="32"/>
                      <a:pt x="29" y="22"/>
                      <a:pt x="37" y="18"/>
                    </a:cubicBezTo>
                    <a:cubicBezTo>
                      <a:pt x="45" y="14"/>
                      <a:pt x="52" y="12"/>
                      <a:pt x="59" y="11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4" name="Group 30"/>
              <p:cNvGrpSpPr/>
              <p:nvPr/>
            </p:nvGrpSpPr>
            <p:grpSpPr>
              <a:xfrm>
                <a:off x="7854120" y="4601880"/>
                <a:ext cx="160560" cy="230760"/>
                <a:chOff x="7854120" y="4601880"/>
                <a:chExt cx="160560" cy="230760"/>
              </a:xfrm>
            </p:grpSpPr>
            <p:sp>
              <p:nvSpPr>
                <p:cNvPr id="1465" name="Freeform 32"/>
                <p:cNvSpPr/>
                <p:nvPr/>
              </p:nvSpPr>
              <p:spPr>
                <a:xfrm>
                  <a:off x="7854120" y="4601880"/>
                  <a:ext cx="160560" cy="230760"/>
                </a:xfrm>
                <a:custGeom>
                  <a:avLst/>
                  <a:gdLst>
                    <a:gd name="textAreaLeft" fmla="*/ 0 w 160560"/>
                    <a:gd name="textAreaRight" fmla="*/ 160920 w 16056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4553" h="6494">
                      <a:moveTo>
                        <a:pt x="563" y="6011"/>
                      </a:moveTo>
                      <a:cubicBezTo>
                        <a:pt x="736" y="6210"/>
                        <a:pt x="1007" y="6468"/>
                        <a:pt x="1380" y="6481"/>
                      </a:cubicBezTo>
                      <a:cubicBezTo>
                        <a:pt x="1752" y="6494"/>
                        <a:pt x="2425" y="6337"/>
                        <a:pt x="2797" y="6096"/>
                      </a:cubicBezTo>
                      <a:cubicBezTo>
                        <a:pt x="3170" y="5854"/>
                        <a:pt x="3369" y="5299"/>
                        <a:pt x="3610" y="5020"/>
                      </a:cubicBezTo>
                      <a:cubicBezTo>
                        <a:pt x="3851" y="4740"/>
                        <a:pt x="4096" y="4833"/>
                        <a:pt x="4253" y="4418"/>
                      </a:cubicBezTo>
                      <a:cubicBezTo>
                        <a:pt x="4410" y="4003"/>
                        <a:pt x="4553" y="3101"/>
                        <a:pt x="4553" y="2529"/>
                      </a:cubicBezTo>
                      <a:cubicBezTo>
                        <a:pt x="4553" y="1957"/>
                        <a:pt x="4401" y="1356"/>
                        <a:pt x="4253" y="983"/>
                      </a:cubicBezTo>
                      <a:cubicBezTo>
                        <a:pt x="4105" y="610"/>
                        <a:pt x="3986" y="433"/>
                        <a:pt x="3656" y="297"/>
                      </a:cubicBezTo>
                      <a:cubicBezTo>
                        <a:pt x="3326" y="161"/>
                        <a:pt x="2708" y="0"/>
                        <a:pt x="2281" y="170"/>
                      </a:cubicBezTo>
                      <a:cubicBezTo>
                        <a:pt x="1854" y="339"/>
                        <a:pt x="1346" y="975"/>
                        <a:pt x="1079" y="1326"/>
                      </a:cubicBezTo>
                      <a:cubicBezTo>
                        <a:pt x="813" y="1678"/>
                        <a:pt x="808" y="1885"/>
                        <a:pt x="694" y="2271"/>
                      </a:cubicBezTo>
                      <a:cubicBezTo>
                        <a:pt x="580" y="2656"/>
                        <a:pt x="508" y="3304"/>
                        <a:pt x="394" y="3647"/>
                      </a:cubicBezTo>
                      <a:cubicBezTo>
                        <a:pt x="279" y="3991"/>
                        <a:pt x="17" y="4063"/>
                        <a:pt x="9" y="4334"/>
                      </a:cubicBezTo>
                      <a:cubicBezTo>
                        <a:pt x="0" y="4605"/>
                        <a:pt x="246" y="4999"/>
                        <a:pt x="351" y="5278"/>
                      </a:cubicBezTo>
                      <a:cubicBezTo>
                        <a:pt x="457" y="5558"/>
                        <a:pt x="389" y="5812"/>
                        <a:pt x="563" y="6011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31"/>
                <p:cNvSpPr/>
                <p:nvPr/>
              </p:nvSpPr>
              <p:spPr>
                <a:xfrm>
                  <a:off x="7854120" y="4601880"/>
                  <a:ext cx="160560" cy="230760"/>
                </a:xfrm>
                <a:custGeom>
                  <a:avLst/>
                  <a:gdLst>
                    <a:gd name="textAreaLeft" fmla="*/ 0 w 160560"/>
                    <a:gd name="textAreaRight" fmla="*/ 160920 w 16056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15" y="162"/>
                      </a:moveTo>
                      <a:cubicBezTo>
                        <a:pt x="19" y="167"/>
                        <a:pt x="27" y="174"/>
                        <a:pt x="37" y="175"/>
                      </a:cubicBezTo>
                      <a:cubicBezTo>
                        <a:pt x="47" y="175"/>
                        <a:pt x="65" y="171"/>
                        <a:pt x="75" y="164"/>
                      </a:cubicBezTo>
                      <a:cubicBezTo>
                        <a:pt x="85" y="158"/>
                        <a:pt x="90" y="143"/>
                        <a:pt x="96" y="135"/>
                      </a:cubicBezTo>
                      <a:cubicBezTo>
                        <a:pt x="103" y="128"/>
                        <a:pt x="110" y="130"/>
                        <a:pt x="114" y="119"/>
                      </a:cubicBezTo>
                      <a:cubicBezTo>
                        <a:pt x="118" y="108"/>
                        <a:pt x="122" y="84"/>
                        <a:pt x="122" y="68"/>
                      </a:cubicBezTo>
                      <a:cubicBezTo>
                        <a:pt x="122" y="53"/>
                        <a:pt x="118" y="36"/>
                        <a:pt x="114" y="26"/>
                      </a:cubicBezTo>
                      <a:cubicBezTo>
                        <a:pt x="110" y="16"/>
                        <a:pt x="107" y="12"/>
                        <a:pt x="98" y="8"/>
                      </a:cubicBezTo>
                      <a:cubicBezTo>
                        <a:pt x="89" y="4"/>
                        <a:pt x="72" y="0"/>
                        <a:pt x="61" y="4"/>
                      </a:cubicBezTo>
                      <a:cubicBezTo>
                        <a:pt x="49" y="9"/>
                        <a:pt x="36" y="26"/>
                        <a:pt x="29" y="36"/>
                      </a:cubicBezTo>
                      <a:cubicBezTo>
                        <a:pt x="21" y="45"/>
                        <a:pt x="21" y="51"/>
                        <a:pt x="18" y="61"/>
                      </a:cubicBezTo>
                      <a:cubicBezTo>
                        <a:pt x="15" y="71"/>
                        <a:pt x="13" y="89"/>
                        <a:pt x="10" y="98"/>
                      </a:cubicBezTo>
                      <a:cubicBezTo>
                        <a:pt x="7" y="108"/>
                        <a:pt x="0" y="109"/>
                        <a:pt x="0" y="117"/>
                      </a:cubicBezTo>
                      <a:cubicBezTo>
                        <a:pt x="0" y="124"/>
                        <a:pt x="6" y="135"/>
                        <a:pt x="9" y="142"/>
                      </a:cubicBezTo>
                      <a:cubicBezTo>
                        <a:pt x="12" y="150"/>
                        <a:pt x="10" y="157"/>
                        <a:pt x="15" y="162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7" name="Group 27"/>
              <p:cNvGrpSpPr/>
              <p:nvPr/>
            </p:nvGrpSpPr>
            <p:grpSpPr>
              <a:xfrm>
                <a:off x="7892280" y="4642920"/>
                <a:ext cx="89280" cy="127800"/>
                <a:chOff x="7892280" y="4642920"/>
                <a:chExt cx="89280" cy="127800"/>
              </a:xfrm>
            </p:grpSpPr>
            <p:sp>
              <p:nvSpPr>
                <p:cNvPr id="1468" name="Freeform 29"/>
                <p:cNvSpPr/>
                <p:nvPr/>
              </p:nvSpPr>
              <p:spPr>
                <a:xfrm>
                  <a:off x="7892280" y="4642920"/>
                  <a:ext cx="89280" cy="12780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127800"/>
                    <a:gd name="textAreaBottom" fmla="*/ 128160 h 127800"/>
                  </a:gdLst>
                  <a:ahLst/>
                  <a:rect l="textAreaLeft" t="textAreaTop" r="textAreaRight" b="textAreaBottom"/>
                  <a:pathLst>
                    <a:path w="2547" h="3627">
                      <a:moveTo>
                        <a:pt x="1958" y="144"/>
                      </a:moveTo>
                      <a:cubicBezTo>
                        <a:pt x="1695" y="0"/>
                        <a:pt x="1204" y="309"/>
                        <a:pt x="924" y="618"/>
                      </a:cubicBezTo>
                      <a:cubicBezTo>
                        <a:pt x="644" y="927"/>
                        <a:pt x="386" y="1511"/>
                        <a:pt x="280" y="1989"/>
                      </a:cubicBezTo>
                      <a:cubicBezTo>
                        <a:pt x="174" y="2468"/>
                        <a:pt x="0" y="3356"/>
                        <a:pt x="280" y="3492"/>
                      </a:cubicBezTo>
                      <a:cubicBezTo>
                        <a:pt x="559" y="3627"/>
                        <a:pt x="1585" y="3140"/>
                        <a:pt x="1958" y="2806"/>
                      </a:cubicBezTo>
                      <a:cubicBezTo>
                        <a:pt x="2331" y="2472"/>
                        <a:pt x="2479" y="1901"/>
                        <a:pt x="2513" y="1477"/>
                      </a:cubicBezTo>
                      <a:cubicBezTo>
                        <a:pt x="2547" y="1054"/>
                        <a:pt x="2221" y="288"/>
                        <a:pt x="1958" y="144"/>
                      </a:cubicBez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Freeform 28"/>
                <p:cNvSpPr/>
                <p:nvPr/>
              </p:nvSpPr>
              <p:spPr>
                <a:xfrm>
                  <a:off x="7892280" y="4642920"/>
                  <a:ext cx="89280" cy="12780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127800"/>
                    <a:gd name="textAreaBottom" fmla="*/ 128160 h 127800"/>
                  </a:gdLst>
                  <a:ahLst/>
                  <a:rect l="textAreaLeft" t="textAreaTop" r="textAreaRight" b="textAreaBottom"/>
                  <a:pathLst>
                    <a:path w="68" h="97">
                      <a:moveTo>
                        <a:pt x="53" y="3"/>
                      </a:moveTo>
                      <a:cubicBezTo>
                        <a:pt x="46" y="0"/>
                        <a:pt x="32" y="8"/>
                        <a:pt x="25" y="16"/>
                      </a:cubicBezTo>
                      <a:cubicBezTo>
                        <a:pt x="17" y="25"/>
                        <a:pt x="11" y="40"/>
                        <a:pt x="8" y="53"/>
                      </a:cubicBezTo>
                      <a:cubicBezTo>
                        <a:pt x="5" y="66"/>
                        <a:pt x="0" y="90"/>
                        <a:pt x="8" y="94"/>
                      </a:cubicBezTo>
                      <a:cubicBezTo>
                        <a:pt x="15" y="97"/>
                        <a:pt x="43" y="84"/>
                        <a:pt x="53" y="75"/>
                      </a:cubicBezTo>
                      <a:cubicBezTo>
                        <a:pt x="63" y="66"/>
                        <a:pt x="67" y="51"/>
                        <a:pt x="68" y="39"/>
                      </a:cubicBezTo>
                      <a:cubicBezTo>
                        <a:pt x="68" y="28"/>
                        <a:pt x="60" y="7"/>
                        <a:pt x="53" y="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0" name="Line 25"/>
            <p:cNvSpPr/>
            <p:nvPr/>
          </p:nvSpPr>
          <p:spPr>
            <a:xfrm>
              <a:off x="6069960" y="4662720"/>
              <a:ext cx="126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Line 24"/>
            <p:cNvSpPr/>
            <p:nvPr/>
          </p:nvSpPr>
          <p:spPr>
            <a:xfrm flipV="1">
              <a:off x="2673360" y="4663800"/>
              <a:ext cx="93600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23"/>
            <p:cNvSpPr/>
            <p:nvPr/>
          </p:nvSpPr>
          <p:spPr>
            <a:xfrm>
              <a:off x="6326280" y="4335120"/>
              <a:ext cx="769320" cy="70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AutoShape 22"/>
            <p:cNvSpPr/>
            <p:nvPr/>
          </p:nvSpPr>
          <p:spPr>
            <a:xfrm>
              <a:off x="3604320" y="5604840"/>
              <a:ext cx="2436480" cy="636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едстав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Line 21"/>
            <p:cNvSpPr/>
            <p:nvPr/>
          </p:nvSpPr>
          <p:spPr>
            <a:xfrm>
              <a:off x="6069960" y="5925960"/>
              <a:ext cx="1264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5" name="Picture 20" descr=""/>
            <p:cNvPicPr/>
            <p:nvPr/>
          </p:nvPicPr>
          <p:blipFill>
            <a:blip r:embed="rId1"/>
            <a:stretch/>
          </p:blipFill>
          <p:spPr>
            <a:xfrm>
              <a:off x="6315840" y="5542920"/>
              <a:ext cx="788760" cy="7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Line 19"/>
            <p:cNvSpPr/>
            <p:nvPr/>
          </p:nvSpPr>
          <p:spPr>
            <a:xfrm>
              <a:off x="2673360" y="5353200"/>
              <a:ext cx="936000" cy="58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7" name="Group 2"/>
            <p:cNvGrpSpPr/>
            <p:nvPr/>
          </p:nvGrpSpPr>
          <p:grpSpPr>
            <a:xfrm>
              <a:off x="7383600" y="5356080"/>
              <a:ext cx="762480" cy="1020600"/>
              <a:chOff x="7383600" y="5356080"/>
              <a:chExt cx="762480" cy="1020600"/>
            </a:xfrm>
          </p:grpSpPr>
          <p:sp>
            <p:nvSpPr>
              <p:cNvPr id="1478" name="Freeform 18"/>
              <p:cNvSpPr/>
              <p:nvPr/>
            </p:nvSpPr>
            <p:spPr>
              <a:xfrm>
                <a:off x="7582320" y="6166800"/>
                <a:ext cx="113760" cy="17820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550" h="856">
                    <a:moveTo>
                      <a:pt x="0" y="30"/>
                    </a:moveTo>
                    <a:cubicBezTo>
                      <a:pt x="152" y="15"/>
                      <a:pt x="305" y="0"/>
                      <a:pt x="396" y="65"/>
                    </a:cubicBezTo>
                    <a:cubicBezTo>
                      <a:pt x="487" y="130"/>
                      <a:pt x="542" y="287"/>
                      <a:pt x="546" y="419"/>
                    </a:cubicBezTo>
                    <a:cubicBezTo>
                      <a:pt x="550" y="551"/>
                      <a:pt x="486" y="703"/>
                      <a:pt x="423" y="856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17"/>
              <p:cNvSpPr/>
              <p:nvPr/>
            </p:nvSpPr>
            <p:spPr>
              <a:xfrm>
                <a:off x="7434360" y="5900760"/>
                <a:ext cx="51840" cy="6012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50" h="289">
                    <a:moveTo>
                      <a:pt x="0" y="253"/>
                    </a:moveTo>
                    <a:cubicBezTo>
                      <a:pt x="52" y="271"/>
                      <a:pt x="104" y="289"/>
                      <a:pt x="144" y="287"/>
                    </a:cubicBezTo>
                    <a:cubicBezTo>
                      <a:pt x="184" y="285"/>
                      <a:pt x="228" y="287"/>
                      <a:pt x="239" y="239"/>
                    </a:cubicBezTo>
                    <a:cubicBezTo>
                      <a:pt x="250" y="191"/>
                      <a:pt x="231" y="95"/>
                      <a:pt x="212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16"/>
              <p:cNvSpPr/>
              <p:nvPr/>
            </p:nvSpPr>
            <p:spPr>
              <a:xfrm>
                <a:off x="7429320" y="5997960"/>
                <a:ext cx="62280" cy="464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361" h="269">
                    <a:moveTo>
                      <a:pt x="351" y="246"/>
                    </a:moveTo>
                    <a:cubicBezTo>
                      <a:pt x="342" y="223"/>
                      <a:pt x="182" y="126"/>
                      <a:pt x="130" y="87"/>
                    </a:cubicBezTo>
                    <a:cubicBezTo>
                      <a:pt x="78" y="48"/>
                      <a:pt x="51" y="0"/>
                      <a:pt x="40" y="12"/>
                    </a:cubicBezTo>
                    <a:cubicBezTo>
                      <a:pt x="29" y="24"/>
                      <a:pt x="0" y="89"/>
                      <a:pt x="64" y="163"/>
                    </a:cubicBezTo>
                    <a:cubicBezTo>
                      <a:pt x="122" y="231"/>
                      <a:pt x="142" y="231"/>
                      <a:pt x="187" y="229"/>
                    </a:cubicBezTo>
                    <a:cubicBezTo>
                      <a:pt x="231" y="246"/>
                      <a:pt x="361" y="269"/>
                      <a:pt x="351" y="246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15"/>
              <p:cNvSpPr/>
              <p:nvPr/>
            </p:nvSpPr>
            <p:spPr>
              <a:xfrm>
                <a:off x="7445880" y="6036480"/>
                <a:ext cx="61200" cy="3132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354" h="182">
                    <a:moveTo>
                      <a:pt x="348" y="91"/>
                    </a:moveTo>
                    <a:cubicBezTo>
                      <a:pt x="354" y="77"/>
                      <a:pt x="312" y="46"/>
                      <a:pt x="261" y="32"/>
                    </a:cubicBezTo>
                    <a:cubicBezTo>
                      <a:pt x="211" y="19"/>
                      <a:pt x="86" y="11"/>
                      <a:pt x="47" y="9"/>
                    </a:cubicBezTo>
                    <a:cubicBezTo>
                      <a:pt x="8" y="7"/>
                      <a:pt x="36" y="0"/>
                      <a:pt x="29" y="21"/>
                    </a:cubicBezTo>
                    <a:cubicBezTo>
                      <a:pt x="22" y="42"/>
                      <a:pt x="0" y="110"/>
                      <a:pt x="4" y="136"/>
                    </a:cubicBezTo>
                    <a:cubicBezTo>
                      <a:pt x="8" y="162"/>
                      <a:pt x="17" y="182"/>
                      <a:pt x="53" y="180"/>
                    </a:cubicBezTo>
                    <a:cubicBezTo>
                      <a:pt x="89" y="177"/>
                      <a:pt x="175" y="131"/>
                      <a:pt x="223" y="119"/>
                    </a:cubicBezTo>
                    <a:cubicBezTo>
                      <a:pt x="271" y="107"/>
                      <a:pt x="342" y="106"/>
                      <a:pt x="348" y="91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14"/>
              <p:cNvSpPr/>
              <p:nvPr/>
            </p:nvSpPr>
            <p:spPr>
              <a:xfrm>
                <a:off x="7443720" y="6036480"/>
                <a:ext cx="320760" cy="15480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544" h="748">
                    <a:moveTo>
                      <a:pt x="42" y="0"/>
                    </a:moveTo>
                    <a:cubicBezTo>
                      <a:pt x="21" y="46"/>
                      <a:pt x="0" y="92"/>
                      <a:pt x="15" y="130"/>
                    </a:cubicBezTo>
                    <a:cubicBezTo>
                      <a:pt x="30" y="168"/>
                      <a:pt x="100" y="207"/>
                      <a:pt x="131" y="226"/>
                    </a:cubicBezTo>
                    <a:cubicBezTo>
                      <a:pt x="162" y="245"/>
                      <a:pt x="193" y="205"/>
                      <a:pt x="199" y="246"/>
                    </a:cubicBezTo>
                    <a:cubicBezTo>
                      <a:pt x="205" y="287"/>
                      <a:pt x="143" y="392"/>
                      <a:pt x="165" y="471"/>
                    </a:cubicBezTo>
                    <a:cubicBezTo>
                      <a:pt x="187" y="550"/>
                      <a:pt x="236" y="686"/>
                      <a:pt x="329" y="717"/>
                    </a:cubicBezTo>
                    <a:cubicBezTo>
                      <a:pt x="422" y="748"/>
                      <a:pt x="586" y="699"/>
                      <a:pt x="725" y="656"/>
                    </a:cubicBezTo>
                    <a:cubicBezTo>
                      <a:pt x="864" y="613"/>
                      <a:pt x="1051" y="508"/>
                      <a:pt x="1161" y="458"/>
                    </a:cubicBezTo>
                    <a:cubicBezTo>
                      <a:pt x="1271" y="408"/>
                      <a:pt x="1323" y="423"/>
                      <a:pt x="1387" y="355"/>
                    </a:cubicBezTo>
                    <a:cubicBezTo>
                      <a:pt x="1451" y="287"/>
                      <a:pt x="1497" y="167"/>
                      <a:pt x="1544" y="48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3"/>
              <p:cNvSpPr/>
              <p:nvPr/>
            </p:nvSpPr>
            <p:spPr>
              <a:xfrm>
                <a:off x="7383600" y="5612400"/>
                <a:ext cx="135720" cy="453960"/>
              </a:xfrm>
              <a:custGeom>
                <a:avLst/>
                <a:gdLst>
                  <a:gd name="textAreaLeft" fmla="*/ 0 w 135720"/>
                  <a:gd name="textAreaRight" fmla="*/ 136080 w 135720"/>
                  <a:gd name="textAreaTop" fmla="*/ 0 h 453960"/>
                  <a:gd name="textAreaBottom" fmla="*/ 453960 h 453960"/>
                </a:gdLst>
                <a:ahLst/>
                <a:rect l="textAreaLeft" t="textAreaTop" r="textAreaRight" b="textAreaBottom"/>
                <a:pathLst>
                  <a:path w="656" h="2184">
                    <a:moveTo>
                      <a:pt x="431" y="0"/>
                    </a:moveTo>
                    <a:cubicBezTo>
                      <a:pt x="402" y="126"/>
                      <a:pt x="374" y="253"/>
                      <a:pt x="342" y="361"/>
                    </a:cubicBezTo>
                    <a:cubicBezTo>
                      <a:pt x="310" y="469"/>
                      <a:pt x="256" y="573"/>
                      <a:pt x="240" y="648"/>
                    </a:cubicBezTo>
                    <a:cubicBezTo>
                      <a:pt x="224" y="723"/>
                      <a:pt x="240" y="772"/>
                      <a:pt x="246" y="812"/>
                    </a:cubicBezTo>
                    <a:cubicBezTo>
                      <a:pt x="252" y="852"/>
                      <a:pt x="261" y="869"/>
                      <a:pt x="274" y="887"/>
                    </a:cubicBezTo>
                    <a:cubicBezTo>
                      <a:pt x="287" y="905"/>
                      <a:pt x="345" y="860"/>
                      <a:pt x="322" y="921"/>
                    </a:cubicBezTo>
                    <a:cubicBezTo>
                      <a:pt x="299" y="982"/>
                      <a:pt x="189" y="1158"/>
                      <a:pt x="137" y="1255"/>
                    </a:cubicBezTo>
                    <a:cubicBezTo>
                      <a:pt x="85" y="1352"/>
                      <a:pt x="16" y="1435"/>
                      <a:pt x="8" y="1501"/>
                    </a:cubicBezTo>
                    <a:cubicBezTo>
                      <a:pt x="0" y="1567"/>
                      <a:pt x="48" y="1628"/>
                      <a:pt x="89" y="1651"/>
                    </a:cubicBezTo>
                    <a:cubicBezTo>
                      <a:pt x="130" y="1674"/>
                      <a:pt x="215" y="1625"/>
                      <a:pt x="253" y="1638"/>
                    </a:cubicBezTo>
                    <a:cubicBezTo>
                      <a:pt x="291" y="1651"/>
                      <a:pt x="317" y="1682"/>
                      <a:pt x="315" y="1726"/>
                    </a:cubicBezTo>
                    <a:cubicBezTo>
                      <a:pt x="313" y="1770"/>
                      <a:pt x="237" y="1852"/>
                      <a:pt x="240" y="1904"/>
                    </a:cubicBezTo>
                    <a:cubicBezTo>
                      <a:pt x="243" y="1956"/>
                      <a:pt x="284" y="2012"/>
                      <a:pt x="335" y="2040"/>
                    </a:cubicBezTo>
                    <a:cubicBezTo>
                      <a:pt x="386" y="2068"/>
                      <a:pt x="494" y="2050"/>
                      <a:pt x="547" y="2074"/>
                    </a:cubicBezTo>
                    <a:cubicBezTo>
                      <a:pt x="600" y="2098"/>
                      <a:pt x="628" y="2141"/>
                      <a:pt x="656" y="2184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12"/>
              <p:cNvSpPr/>
              <p:nvPr/>
            </p:nvSpPr>
            <p:spPr>
              <a:xfrm>
                <a:off x="7432920" y="5775840"/>
                <a:ext cx="113760" cy="83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46" h="400">
                    <a:moveTo>
                      <a:pt x="10" y="8"/>
                    </a:moveTo>
                    <a:cubicBezTo>
                      <a:pt x="20" y="0"/>
                      <a:pt x="80" y="63"/>
                      <a:pt x="101" y="67"/>
                    </a:cubicBezTo>
                    <a:cubicBezTo>
                      <a:pt x="122" y="71"/>
                      <a:pt x="126" y="22"/>
                      <a:pt x="138" y="30"/>
                    </a:cubicBezTo>
                    <a:cubicBezTo>
                      <a:pt x="150" y="38"/>
                      <a:pt x="154" y="103"/>
                      <a:pt x="174" y="117"/>
                    </a:cubicBezTo>
                    <a:cubicBezTo>
                      <a:pt x="194" y="131"/>
                      <a:pt x="241" y="105"/>
                      <a:pt x="260" y="117"/>
                    </a:cubicBezTo>
                    <a:cubicBezTo>
                      <a:pt x="279" y="129"/>
                      <a:pt x="261" y="169"/>
                      <a:pt x="287" y="189"/>
                    </a:cubicBezTo>
                    <a:cubicBezTo>
                      <a:pt x="313" y="209"/>
                      <a:pt x="405" y="224"/>
                      <a:pt x="415" y="235"/>
                    </a:cubicBezTo>
                    <a:cubicBezTo>
                      <a:pt x="425" y="246"/>
                      <a:pt x="341" y="248"/>
                      <a:pt x="347" y="257"/>
                    </a:cubicBezTo>
                    <a:cubicBezTo>
                      <a:pt x="353" y="266"/>
                      <a:pt x="420" y="271"/>
                      <a:pt x="451" y="289"/>
                    </a:cubicBezTo>
                    <a:cubicBezTo>
                      <a:pt x="482" y="307"/>
                      <a:pt x="546" y="348"/>
                      <a:pt x="533" y="366"/>
                    </a:cubicBezTo>
                    <a:cubicBezTo>
                      <a:pt x="520" y="384"/>
                      <a:pt x="416" y="396"/>
                      <a:pt x="374" y="398"/>
                    </a:cubicBezTo>
                    <a:cubicBezTo>
                      <a:pt x="332" y="400"/>
                      <a:pt x="292" y="385"/>
                      <a:pt x="283" y="376"/>
                    </a:cubicBezTo>
                    <a:cubicBezTo>
                      <a:pt x="274" y="367"/>
                      <a:pt x="311" y="357"/>
                      <a:pt x="319" y="344"/>
                    </a:cubicBezTo>
                    <a:cubicBezTo>
                      <a:pt x="327" y="331"/>
                      <a:pt x="341" y="307"/>
                      <a:pt x="333" y="298"/>
                    </a:cubicBezTo>
                    <a:cubicBezTo>
                      <a:pt x="325" y="289"/>
                      <a:pt x="290" y="301"/>
                      <a:pt x="274" y="289"/>
                    </a:cubicBezTo>
                    <a:cubicBezTo>
                      <a:pt x="258" y="277"/>
                      <a:pt x="255" y="246"/>
                      <a:pt x="238" y="226"/>
                    </a:cubicBezTo>
                    <a:cubicBezTo>
                      <a:pt x="221" y="206"/>
                      <a:pt x="207" y="189"/>
                      <a:pt x="174" y="171"/>
                    </a:cubicBezTo>
                    <a:cubicBezTo>
                      <a:pt x="141" y="153"/>
                      <a:pt x="70" y="141"/>
                      <a:pt x="42" y="117"/>
                    </a:cubicBezTo>
                    <a:cubicBezTo>
                      <a:pt x="14" y="93"/>
                      <a:pt x="0" y="16"/>
                      <a:pt x="10" y="8"/>
                    </a:cubicBezTo>
                    <a:close/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11"/>
              <p:cNvSpPr/>
              <p:nvPr/>
            </p:nvSpPr>
            <p:spPr>
              <a:xfrm>
                <a:off x="7490520" y="5866200"/>
                <a:ext cx="25920" cy="244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28" h="123">
                    <a:moveTo>
                      <a:pt x="0" y="0"/>
                    </a:moveTo>
                    <a:cubicBezTo>
                      <a:pt x="19" y="28"/>
                      <a:pt x="38" y="57"/>
                      <a:pt x="59" y="77"/>
                    </a:cubicBezTo>
                    <a:cubicBezTo>
                      <a:pt x="80" y="97"/>
                      <a:pt x="104" y="110"/>
                      <a:pt x="128" y="123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Oval 10"/>
              <p:cNvSpPr/>
              <p:nvPr/>
            </p:nvSpPr>
            <p:spPr>
              <a:xfrm>
                <a:off x="7504200" y="5834880"/>
                <a:ext cx="14760" cy="190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"/>
              <p:cNvSpPr/>
              <p:nvPr/>
            </p:nvSpPr>
            <p:spPr>
              <a:xfrm>
                <a:off x="7760880" y="5819760"/>
                <a:ext cx="113760" cy="20304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549" h="977">
                    <a:moveTo>
                      <a:pt x="59" y="856"/>
                    </a:moveTo>
                    <a:cubicBezTo>
                      <a:pt x="87" y="916"/>
                      <a:pt x="115" y="977"/>
                      <a:pt x="172" y="970"/>
                    </a:cubicBezTo>
                    <a:cubicBezTo>
                      <a:pt x="229" y="963"/>
                      <a:pt x="346" y="887"/>
                      <a:pt x="404" y="811"/>
                    </a:cubicBezTo>
                    <a:cubicBezTo>
                      <a:pt x="462" y="735"/>
                      <a:pt x="502" y="612"/>
                      <a:pt x="522" y="511"/>
                    </a:cubicBezTo>
                    <a:cubicBezTo>
                      <a:pt x="542" y="410"/>
                      <a:pt x="549" y="282"/>
                      <a:pt x="522" y="206"/>
                    </a:cubicBezTo>
                    <a:cubicBezTo>
                      <a:pt x="495" y="130"/>
                      <a:pt x="415" y="90"/>
                      <a:pt x="363" y="57"/>
                    </a:cubicBezTo>
                    <a:cubicBezTo>
                      <a:pt x="311" y="24"/>
                      <a:pt x="258" y="0"/>
                      <a:pt x="209" y="7"/>
                    </a:cubicBezTo>
                    <a:cubicBezTo>
                      <a:pt x="160" y="14"/>
                      <a:pt x="96" y="46"/>
                      <a:pt x="68" y="97"/>
                    </a:cubicBezTo>
                    <a:cubicBezTo>
                      <a:pt x="40" y="148"/>
                      <a:pt x="51" y="249"/>
                      <a:pt x="40" y="315"/>
                    </a:cubicBezTo>
                    <a:cubicBezTo>
                      <a:pt x="29" y="381"/>
                      <a:pt x="14" y="437"/>
                      <a:pt x="0" y="493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8"/>
              <p:cNvSpPr/>
              <p:nvPr/>
            </p:nvSpPr>
            <p:spPr>
              <a:xfrm>
                <a:off x="7777080" y="5840280"/>
                <a:ext cx="76680" cy="14652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46520"/>
                  <a:gd name="textAreaBottom" fmla="*/ 146520 h 146520"/>
                </a:gdLst>
                <a:ahLst/>
                <a:rect l="textAreaLeft" t="textAreaTop" r="textAreaRight" b="textAreaBottom"/>
                <a:pathLst>
                  <a:path w="373" h="705">
                    <a:moveTo>
                      <a:pt x="0" y="446"/>
                    </a:moveTo>
                    <a:cubicBezTo>
                      <a:pt x="7" y="491"/>
                      <a:pt x="14" y="536"/>
                      <a:pt x="36" y="546"/>
                    </a:cubicBezTo>
                    <a:cubicBezTo>
                      <a:pt x="58" y="556"/>
                      <a:pt x="92" y="517"/>
                      <a:pt x="132" y="505"/>
                    </a:cubicBezTo>
                    <a:cubicBezTo>
                      <a:pt x="172" y="493"/>
                      <a:pt x="252" y="493"/>
                      <a:pt x="277" y="473"/>
                    </a:cubicBezTo>
                    <a:cubicBezTo>
                      <a:pt x="302" y="453"/>
                      <a:pt x="291" y="419"/>
                      <a:pt x="281" y="387"/>
                    </a:cubicBezTo>
                    <a:cubicBezTo>
                      <a:pt x="271" y="355"/>
                      <a:pt x="229" y="314"/>
                      <a:pt x="218" y="278"/>
                    </a:cubicBezTo>
                    <a:cubicBezTo>
                      <a:pt x="207" y="242"/>
                      <a:pt x="229" y="202"/>
                      <a:pt x="213" y="169"/>
                    </a:cubicBezTo>
                    <a:cubicBezTo>
                      <a:pt x="197" y="136"/>
                      <a:pt x="143" y="101"/>
                      <a:pt x="122" y="78"/>
                    </a:cubicBezTo>
                    <a:cubicBezTo>
                      <a:pt x="101" y="55"/>
                      <a:pt x="63" y="35"/>
                      <a:pt x="86" y="28"/>
                    </a:cubicBezTo>
                    <a:cubicBezTo>
                      <a:pt x="109" y="21"/>
                      <a:pt x="213" y="0"/>
                      <a:pt x="259" y="33"/>
                    </a:cubicBezTo>
                    <a:cubicBezTo>
                      <a:pt x="305" y="66"/>
                      <a:pt x="353" y="139"/>
                      <a:pt x="363" y="224"/>
                    </a:cubicBezTo>
                    <a:cubicBezTo>
                      <a:pt x="373" y="309"/>
                      <a:pt x="357" y="462"/>
                      <a:pt x="322" y="542"/>
                    </a:cubicBezTo>
                    <a:cubicBezTo>
                      <a:pt x="287" y="622"/>
                      <a:pt x="220" y="663"/>
                      <a:pt x="154" y="705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"/>
              <p:cNvSpPr/>
              <p:nvPr/>
            </p:nvSpPr>
            <p:spPr>
              <a:xfrm>
                <a:off x="7774560" y="5907600"/>
                <a:ext cx="49320" cy="20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35" h="98">
                    <a:moveTo>
                      <a:pt x="227" y="5"/>
                    </a:moveTo>
                    <a:cubicBezTo>
                      <a:pt x="219" y="0"/>
                      <a:pt x="165" y="31"/>
                      <a:pt x="136" y="32"/>
                    </a:cubicBezTo>
                    <a:cubicBezTo>
                      <a:pt x="107" y="33"/>
                      <a:pt x="76" y="8"/>
                      <a:pt x="54" y="10"/>
                    </a:cubicBezTo>
                    <a:cubicBezTo>
                      <a:pt x="32" y="12"/>
                      <a:pt x="8" y="27"/>
                      <a:pt x="4" y="41"/>
                    </a:cubicBezTo>
                    <a:cubicBezTo>
                      <a:pt x="0" y="55"/>
                      <a:pt x="16" y="94"/>
                      <a:pt x="27" y="96"/>
                    </a:cubicBezTo>
                    <a:cubicBezTo>
                      <a:pt x="38" y="98"/>
                      <a:pt x="42" y="55"/>
                      <a:pt x="68" y="50"/>
                    </a:cubicBezTo>
                    <a:cubicBezTo>
                      <a:pt x="94" y="45"/>
                      <a:pt x="160" y="70"/>
                      <a:pt x="186" y="64"/>
                    </a:cubicBezTo>
                    <a:cubicBezTo>
                      <a:pt x="212" y="58"/>
                      <a:pt x="235" y="10"/>
                      <a:pt x="227" y="5"/>
                    </a:cubicBezTo>
                    <a:close/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6"/>
              <p:cNvSpPr/>
              <p:nvPr/>
            </p:nvSpPr>
            <p:spPr>
              <a:xfrm>
                <a:off x="7781040" y="5845680"/>
                <a:ext cx="45360" cy="53280"/>
              </a:xfrm>
              <a:custGeom>
                <a:avLst/>
                <a:gdLst>
                  <a:gd name="textAreaLeft" fmla="*/ 0 w 45360"/>
                  <a:gd name="textAreaRight" fmla="*/ 45360 w 453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18" h="259">
                    <a:moveTo>
                      <a:pt x="146" y="214"/>
                    </a:moveTo>
                    <a:cubicBezTo>
                      <a:pt x="143" y="236"/>
                      <a:pt x="140" y="259"/>
                      <a:pt x="123" y="255"/>
                    </a:cubicBezTo>
                    <a:cubicBezTo>
                      <a:pt x="106" y="251"/>
                      <a:pt x="61" y="209"/>
                      <a:pt x="41" y="187"/>
                    </a:cubicBezTo>
                    <a:cubicBezTo>
                      <a:pt x="21" y="165"/>
                      <a:pt x="1" y="154"/>
                      <a:pt x="1" y="123"/>
                    </a:cubicBezTo>
                    <a:cubicBezTo>
                      <a:pt x="1" y="92"/>
                      <a:pt x="8" y="0"/>
                      <a:pt x="41" y="1"/>
                    </a:cubicBezTo>
                    <a:cubicBezTo>
                      <a:pt x="74" y="2"/>
                      <a:pt x="182" y="102"/>
                      <a:pt x="200" y="128"/>
                    </a:cubicBezTo>
                    <a:cubicBezTo>
                      <a:pt x="218" y="154"/>
                      <a:pt x="170" y="156"/>
                      <a:pt x="150" y="155"/>
                    </a:cubicBezTo>
                    <a:cubicBezTo>
                      <a:pt x="130" y="154"/>
                      <a:pt x="95" y="140"/>
                      <a:pt x="82" y="119"/>
                    </a:cubicBezTo>
                    <a:cubicBezTo>
                      <a:pt x="69" y="98"/>
                      <a:pt x="82" y="43"/>
                      <a:pt x="73" y="32"/>
                    </a:cubicBezTo>
                    <a:cubicBezTo>
                      <a:pt x="64" y="21"/>
                      <a:pt x="38" y="41"/>
                      <a:pt x="28" y="55"/>
                    </a:cubicBezTo>
                    <a:cubicBezTo>
                      <a:pt x="18" y="69"/>
                      <a:pt x="0" y="93"/>
                      <a:pt x="14" y="119"/>
                    </a:cubicBezTo>
                    <a:cubicBezTo>
                      <a:pt x="28" y="145"/>
                      <a:pt x="94" y="196"/>
                      <a:pt x="114" y="210"/>
                    </a:cubicBezTo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5"/>
              <p:cNvSpPr/>
              <p:nvPr/>
            </p:nvSpPr>
            <p:spPr>
              <a:xfrm>
                <a:off x="7600320" y="6025680"/>
                <a:ext cx="469080" cy="351000"/>
              </a:xfrm>
              <a:custGeom>
                <a:avLst/>
                <a:gdLst>
                  <a:gd name="textAreaLeft" fmla="*/ 0 w 469080"/>
                  <a:gd name="textAreaRight" fmla="*/ 469440 w 4690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2255" h="1688">
                    <a:moveTo>
                      <a:pt x="1683" y="40"/>
                    </a:moveTo>
                    <a:cubicBezTo>
                      <a:pt x="1550" y="345"/>
                      <a:pt x="1418" y="650"/>
                      <a:pt x="1193" y="890"/>
                    </a:cubicBezTo>
                    <a:cubicBezTo>
                      <a:pt x="968" y="1130"/>
                      <a:pt x="506" y="1348"/>
                      <a:pt x="333" y="1480"/>
                    </a:cubicBezTo>
                    <a:cubicBezTo>
                      <a:pt x="160" y="1612"/>
                      <a:pt x="0" y="1688"/>
                      <a:pt x="153" y="1680"/>
                    </a:cubicBezTo>
                    <a:cubicBezTo>
                      <a:pt x="306" y="1672"/>
                      <a:pt x="938" y="1490"/>
                      <a:pt x="1253" y="1430"/>
                    </a:cubicBezTo>
                    <a:cubicBezTo>
                      <a:pt x="1568" y="1370"/>
                      <a:pt x="1876" y="1432"/>
                      <a:pt x="2043" y="1320"/>
                    </a:cubicBezTo>
                    <a:cubicBezTo>
                      <a:pt x="2210" y="1208"/>
                      <a:pt x="2251" y="920"/>
                      <a:pt x="2253" y="760"/>
                    </a:cubicBezTo>
                    <a:cubicBezTo>
                      <a:pt x="2255" y="600"/>
                      <a:pt x="2136" y="487"/>
                      <a:pt x="2053" y="360"/>
                    </a:cubicBezTo>
                    <a:cubicBezTo>
                      <a:pt x="1970" y="233"/>
                      <a:pt x="1803" y="62"/>
                      <a:pt x="1753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4"/>
              <p:cNvSpPr/>
              <p:nvPr/>
            </p:nvSpPr>
            <p:spPr>
              <a:xfrm>
                <a:off x="7428600" y="5356080"/>
                <a:ext cx="717480" cy="684720"/>
              </a:xfrm>
              <a:custGeom>
                <a:avLst/>
                <a:gdLst>
                  <a:gd name="textAreaLeft" fmla="*/ 0 w 717480"/>
                  <a:gd name="textAreaRight" fmla="*/ 717840 w 71748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4138" h="3948">
                    <a:moveTo>
                      <a:pt x="1994" y="2801"/>
                    </a:moveTo>
                    <a:cubicBezTo>
                      <a:pt x="1994" y="2785"/>
                      <a:pt x="1994" y="2777"/>
                      <a:pt x="1962" y="2793"/>
                    </a:cubicBezTo>
                    <a:cubicBezTo>
                      <a:pt x="1931" y="2809"/>
                      <a:pt x="1867" y="2864"/>
                      <a:pt x="1788" y="2896"/>
                    </a:cubicBezTo>
                    <a:cubicBezTo>
                      <a:pt x="1709" y="2927"/>
                      <a:pt x="1543" y="3006"/>
                      <a:pt x="1472" y="2991"/>
                    </a:cubicBezTo>
                    <a:cubicBezTo>
                      <a:pt x="1400" y="2975"/>
                      <a:pt x="1393" y="2888"/>
                      <a:pt x="1361" y="2801"/>
                    </a:cubicBezTo>
                    <a:cubicBezTo>
                      <a:pt x="1337" y="2706"/>
                      <a:pt x="1353" y="2556"/>
                      <a:pt x="1298" y="2429"/>
                    </a:cubicBezTo>
                    <a:cubicBezTo>
                      <a:pt x="1242" y="2310"/>
                      <a:pt x="1068" y="2160"/>
                      <a:pt x="1044" y="2057"/>
                    </a:cubicBezTo>
                    <a:cubicBezTo>
                      <a:pt x="1021" y="1954"/>
                      <a:pt x="1187" y="1891"/>
                      <a:pt x="1155" y="1804"/>
                    </a:cubicBezTo>
                    <a:cubicBezTo>
                      <a:pt x="1131" y="1725"/>
                      <a:pt x="965" y="1590"/>
                      <a:pt x="870" y="1559"/>
                    </a:cubicBezTo>
                    <a:cubicBezTo>
                      <a:pt x="783" y="1519"/>
                      <a:pt x="720" y="1622"/>
                      <a:pt x="609" y="1614"/>
                    </a:cubicBezTo>
                    <a:cubicBezTo>
                      <a:pt x="506" y="1606"/>
                      <a:pt x="316" y="1582"/>
                      <a:pt x="237" y="1527"/>
                    </a:cubicBezTo>
                    <a:cubicBezTo>
                      <a:pt x="150" y="1472"/>
                      <a:pt x="135" y="1369"/>
                      <a:pt x="103" y="1274"/>
                    </a:cubicBezTo>
                    <a:cubicBezTo>
                      <a:pt x="71" y="1187"/>
                      <a:pt x="32" y="1100"/>
                      <a:pt x="24" y="973"/>
                    </a:cubicBezTo>
                    <a:cubicBezTo>
                      <a:pt x="16" y="839"/>
                      <a:pt x="0" y="601"/>
                      <a:pt x="40" y="498"/>
                    </a:cubicBezTo>
                    <a:cubicBezTo>
                      <a:pt x="87" y="396"/>
                      <a:pt x="237" y="411"/>
                      <a:pt x="277" y="380"/>
                    </a:cubicBezTo>
                    <a:cubicBezTo>
                      <a:pt x="316" y="340"/>
                      <a:pt x="245" y="301"/>
                      <a:pt x="285" y="277"/>
                    </a:cubicBezTo>
                    <a:cubicBezTo>
                      <a:pt x="316" y="261"/>
                      <a:pt x="435" y="269"/>
                      <a:pt x="498" y="253"/>
                    </a:cubicBezTo>
                    <a:cubicBezTo>
                      <a:pt x="554" y="237"/>
                      <a:pt x="593" y="237"/>
                      <a:pt x="641" y="206"/>
                    </a:cubicBezTo>
                    <a:cubicBezTo>
                      <a:pt x="688" y="166"/>
                      <a:pt x="728" y="55"/>
                      <a:pt x="775" y="32"/>
                    </a:cubicBezTo>
                    <a:cubicBezTo>
                      <a:pt x="815" y="0"/>
                      <a:pt x="870" y="16"/>
                      <a:pt x="902" y="32"/>
                    </a:cubicBezTo>
                    <a:cubicBezTo>
                      <a:pt x="926" y="40"/>
                      <a:pt x="918" y="119"/>
                      <a:pt x="934" y="119"/>
                    </a:cubicBezTo>
                    <a:cubicBezTo>
                      <a:pt x="949" y="119"/>
                      <a:pt x="965" y="40"/>
                      <a:pt x="1013" y="32"/>
                    </a:cubicBezTo>
                    <a:cubicBezTo>
                      <a:pt x="1052" y="16"/>
                      <a:pt x="1131" y="40"/>
                      <a:pt x="1179" y="55"/>
                    </a:cubicBezTo>
                    <a:cubicBezTo>
                      <a:pt x="1226" y="79"/>
                      <a:pt x="1250" y="142"/>
                      <a:pt x="1290" y="150"/>
                    </a:cubicBezTo>
                    <a:cubicBezTo>
                      <a:pt x="1337" y="150"/>
                      <a:pt x="1400" y="79"/>
                      <a:pt x="1432" y="71"/>
                    </a:cubicBezTo>
                    <a:cubicBezTo>
                      <a:pt x="1472" y="63"/>
                      <a:pt x="1472" y="119"/>
                      <a:pt x="1495" y="103"/>
                    </a:cubicBezTo>
                    <a:cubicBezTo>
                      <a:pt x="1527" y="95"/>
                      <a:pt x="1567" y="0"/>
                      <a:pt x="1622" y="8"/>
                    </a:cubicBezTo>
                    <a:cubicBezTo>
                      <a:pt x="1685" y="16"/>
                      <a:pt x="1804" y="135"/>
                      <a:pt x="1867" y="135"/>
                    </a:cubicBezTo>
                    <a:cubicBezTo>
                      <a:pt x="1923" y="135"/>
                      <a:pt x="1923" y="8"/>
                      <a:pt x="1970" y="16"/>
                    </a:cubicBezTo>
                    <a:cubicBezTo>
                      <a:pt x="2018" y="16"/>
                      <a:pt x="2065" y="119"/>
                      <a:pt x="2152" y="150"/>
                    </a:cubicBezTo>
                    <a:cubicBezTo>
                      <a:pt x="2247" y="174"/>
                      <a:pt x="2429" y="158"/>
                      <a:pt x="2516" y="174"/>
                    </a:cubicBezTo>
                    <a:cubicBezTo>
                      <a:pt x="2595" y="190"/>
                      <a:pt x="2524" y="206"/>
                      <a:pt x="2658" y="245"/>
                    </a:cubicBezTo>
                    <a:cubicBezTo>
                      <a:pt x="2801" y="285"/>
                      <a:pt x="3228" y="364"/>
                      <a:pt x="3347" y="419"/>
                    </a:cubicBezTo>
                    <a:cubicBezTo>
                      <a:pt x="3473" y="475"/>
                      <a:pt x="3323" y="491"/>
                      <a:pt x="3394" y="593"/>
                    </a:cubicBezTo>
                    <a:cubicBezTo>
                      <a:pt x="3473" y="696"/>
                      <a:pt x="3719" y="926"/>
                      <a:pt x="3790" y="1044"/>
                    </a:cubicBezTo>
                    <a:cubicBezTo>
                      <a:pt x="3861" y="1155"/>
                      <a:pt x="3782" y="1203"/>
                      <a:pt x="3814" y="1274"/>
                    </a:cubicBezTo>
                    <a:cubicBezTo>
                      <a:pt x="3845" y="1353"/>
                      <a:pt x="3932" y="1353"/>
                      <a:pt x="3988" y="1511"/>
                    </a:cubicBezTo>
                    <a:cubicBezTo>
                      <a:pt x="4035" y="1669"/>
                      <a:pt x="4138" y="2010"/>
                      <a:pt x="4130" y="2207"/>
                    </a:cubicBezTo>
                    <a:cubicBezTo>
                      <a:pt x="4130" y="2405"/>
                      <a:pt x="4003" y="2571"/>
                      <a:pt x="3972" y="2698"/>
                    </a:cubicBezTo>
                    <a:cubicBezTo>
                      <a:pt x="3948" y="2817"/>
                      <a:pt x="3980" y="2912"/>
                      <a:pt x="3964" y="2967"/>
                    </a:cubicBezTo>
                    <a:cubicBezTo>
                      <a:pt x="3948" y="3022"/>
                      <a:pt x="3901" y="3006"/>
                      <a:pt x="3885" y="3046"/>
                    </a:cubicBezTo>
                    <a:cubicBezTo>
                      <a:pt x="3869" y="3086"/>
                      <a:pt x="3853" y="3149"/>
                      <a:pt x="3845" y="3220"/>
                    </a:cubicBezTo>
                    <a:cubicBezTo>
                      <a:pt x="3837" y="3291"/>
                      <a:pt x="3869" y="3434"/>
                      <a:pt x="3845" y="3457"/>
                    </a:cubicBezTo>
                    <a:cubicBezTo>
                      <a:pt x="3822" y="3481"/>
                      <a:pt x="3742" y="3339"/>
                      <a:pt x="3687" y="3363"/>
                    </a:cubicBezTo>
                    <a:cubicBezTo>
                      <a:pt x="3632" y="3386"/>
                      <a:pt x="3560" y="3505"/>
                      <a:pt x="3513" y="3576"/>
                    </a:cubicBezTo>
                    <a:cubicBezTo>
                      <a:pt x="3465" y="3647"/>
                      <a:pt x="3434" y="3782"/>
                      <a:pt x="3394" y="3790"/>
                    </a:cubicBezTo>
                    <a:cubicBezTo>
                      <a:pt x="3355" y="3798"/>
                      <a:pt x="3315" y="3624"/>
                      <a:pt x="3276" y="3624"/>
                    </a:cubicBezTo>
                    <a:cubicBezTo>
                      <a:pt x="3236" y="3624"/>
                      <a:pt x="3212" y="3719"/>
                      <a:pt x="3157" y="3766"/>
                    </a:cubicBezTo>
                    <a:cubicBezTo>
                      <a:pt x="3102" y="3813"/>
                      <a:pt x="2991" y="3948"/>
                      <a:pt x="2927" y="3932"/>
                    </a:cubicBezTo>
                    <a:cubicBezTo>
                      <a:pt x="2864" y="3916"/>
                      <a:pt x="2840" y="3711"/>
                      <a:pt x="2777" y="3679"/>
                    </a:cubicBezTo>
                    <a:cubicBezTo>
                      <a:pt x="2706" y="3647"/>
                      <a:pt x="2571" y="3798"/>
                      <a:pt x="2524" y="3758"/>
                    </a:cubicBezTo>
                    <a:cubicBezTo>
                      <a:pt x="2476" y="3719"/>
                      <a:pt x="2500" y="3544"/>
                      <a:pt x="2508" y="3450"/>
                    </a:cubicBezTo>
                    <a:cubicBezTo>
                      <a:pt x="2516" y="3355"/>
                      <a:pt x="2564" y="3283"/>
                      <a:pt x="2571" y="3196"/>
                    </a:cubicBezTo>
                    <a:cubicBezTo>
                      <a:pt x="2579" y="3109"/>
                      <a:pt x="2584" y="3002"/>
                      <a:pt x="2556" y="2927"/>
                    </a:cubicBezTo>
                    <a:cubicBezTo>
                      <a:pt x="2528" y="2852"/>
                      <a:pt x="2469" y="2791"/>
                      <a:pt x="2406" y="2749"/>
                    </a:cubicBezTo>
                    <a:cubicBezTo>
                      <a:pt x="2343" y="2707"/>
                      <a:pt x="2240" y="2675"/>
                      <a:pt x="2176" y="2674"/>
                    </a:cubicBezTo>
                    <a:cubicBezTo>
                      <a:pt x="2112" y="2673"/>
                      <a:pt x="2055" y="2730"/>
                      <a:pt x="2023" y="2745"/>
                    </a:cubicBezTo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3"/>
              <p:cNvSpPr/>
              <p:nvPr/>
            </p:nvSpPr>
            <p:spPr>
              <a:xfrm>
                <a:off x="7412760" y="5964840"/>
                <a:ext cx="129600" cy="10080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748" h="582">
                    <a:moveTo>
                      <a:pt x="212" y="16"/>
                    </a:moveTo>
                    <a:cubicBezTo>
                      <a:pt x="0" y="35"/>
                      <a:pt x="58" y="243"/>
                      <a:pt x="65" y="298"/>
                    </a:cubicBezTo>
                    <a:cubicBezTo>
                      <a:pt x="72" y="353"/>
                      <a:pt x="186" y="326"/>
                      <a:pt x="252" y="349"/>
                    </a:cubicBezTo>
                    <a:cubicBezTo>
                      <a:pt x="318" y="372"/>
                      <a:pt x="382" y="403"/>
                      <a:pt x="461" y="439"/>
                    </a:cubicBezTo>
                    <a:cubicBezTo>
                      <a:pt x="540" y="475"/>
                      <a:pt x="698" y="582"/>
                      <a:pt x="723" y="562"/>
                    </a:cubicBezTo>
                    <a:cubicBezTo>
                      <a:pt x="748" y="542"/>
                      <a:pt x="667" y="400"/>
                      <a:pt x="611" y="320"/>
                    </a:cubicBezTo>
                    <a:cubicBezTo>
                      <a:pt x="555" y="240"/>
                      <a:pt x="454" y="133"/>
                      <a:pt x="386" y="84"/>
                    </a:cubicBezTo>
                    <a:cubicBezTo>
                      <a:pt x="318" y="35"/>
                      <a:pt x="256" y="0"/>
                      <a:pt x="212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4" name="Прямоугольник 9"/>
          <p:cNvSpPr/>
          <p:nvPr/>
        </p:nvSpPr>
        <p:spPr>
          <a:xfrm>
            <a:off x="955800" y="1690560"/>
            <a:ext cx="7203960" cy="24386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и предста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7BAE-282E-4217-8CF0-F1A4BBA23C4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Прямоугольник 5"/>
          <p:cNvSpPr/>
          <p:nvPr/>
        </p:nvSpPr>
        <p:spPr>
          <a:xfrm>
            <a:off x="387360" y="792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хранить и использовать данные об изменении курса долл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8" name="Группа 11"/>
          <p:cNvGrpSpPr/>
          <p:nvPr/>
        </p:nvGrpSpPr>
        <p:grpSpPr>
          <a:xfrm>
            <a:off x="1136520" y="2174760"/>
            <a:ext cx="6843960" cy="1787760"/>
            <a:chOff x="1136520" y="2174760"/>
            <a:chExt cx="6843960" cy="1787760"/>
          </a:xfrm>
        </p:grpSpPr>
        <p:sp>
          <p:nvSpPr>
            <p:cNvPr id="1499" name="Прямоугольник 6"/>
            <p:cNvSpPr/>
            <p:nvPr/>
          </p:nvSpPr>
          <p:spPr>
            <a:xfrm>
              <a:off x="1136520" y="2174760"/>
              <a:ext cx="3006720" cy="1787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мод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ассив, поиск минимума и максимума, прогнозирование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Прямоугольник 7"/>
            <p:cNvSpPr/>
            <p:nvPr/>
          </p:nvSpPr>
          <p:spPr>
            <a:xfrm>
              <a:off x="4973760" y="2174760"/>
              <a:ext cx="3006720" cy="1787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представ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формулы, диаграммы, графики, таблицы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Двойная стрелка влево/вправо 10"/>
            <p:cNvSpPr/>
            <p:nvPr/>
          </p:nvSpPr>
          <p:spPr>
            <a:xfrm>
              <a:off x="4199040" y="2946240"/>
              <a:ext cx="718920" cy="244440"/>
            </a:xfrm>
            <a:prstGeom prst="leftRightArrow">
              <a:avLst>
                <a:gd name="adj1" fmla="val 50000"/>
                <a:gd name="adj2" fmla="val 59285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02" name=""/>
          <p:cNvGraphicFramePr/>
          <p:nvPr/>
        </p:nvGraphicFramePr>
        <p:xfrm>
          <a:off x="6275520" y="4272120"/>
          <a:ext cx="906480" cy="787320"/>
        </p:xfrm>
        <a:graphic>
          <a:graphicData uri="http://schemas.openxmlformats.org/drawingml/2006/table">
            <a:tbl>
              <a:tblPr/>
              <a:tblGrid>
                <a:gridCol w="301320"/>
                <a:gridCol w="301680"/>
                <a:gridCol w="303480"/>
              </a:tblGrid>
              <a:tr h="196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3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3" dur="indefinite" restart="never" nodeType="tmRoot">
          <p:childTnLst>
            <p:seq>
              <p:cTn id="3574" dur="indefinite" nodeType="mainSeq">
                <p:childTnLst>
                  <p:par>
                    <p:cTn id="3575" fill="hold">
                      <p:stCondLst>
                        <p:cond delay="indefinite"/>
                      </p:stCondLst>
                      <p:childTnLst>
                        <p:par>
                          <p:cTn id="3576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9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fill="hold">
                      <p:stCondLst>
                        <p:cond delay="indefinite"/>
                      </p:stCondLst>
                      <p:childTnLst>
                        <p:par>
                          <p:cTn id="3589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2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5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и предста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07E6-404E-4653-A8D6-E57B3B36051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Прямоугольник 5"/>
          <p:cNvSpPr/>
          <p:nvPr/>
        </p:nvSpPr>
        <p:spPr>
          <a:xfrm>
            <a:off x="387360" y="792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числение арифмет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Прямоугольник 74"/>
          <p:cNvSpPr/>
          <p:nvPr/>
        </p:nvSpPr>
        <p:spPr>
          <a:xfrm>
            <a:off x="647640" y="1135080"/>
            <a:ext cx="81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и арифметических действий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+ - *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Прямоугольник 75"/>
          <p:cNvSpPr/>
          <p:nvPr/>
        </p:nvSpPr>
        <p:spPr>
          <a:xfrm>
            <a:off x="393120" y="187956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Прямоугольник 76"/>
          <p:cNvSpPr/>
          <p:nvPr/>
        </p:nvSpPr>
        <p:spPr>
          <a:xfrm>
            <a:off x="647640" y="2255760"/>
            <a:ext cx="81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выч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1"/>
          <p:cNvSpPr/>
          <p:nvPr/>
        </p:nvSpPr>
        <p:spPr>
          <a:xfrm>
            <a:off x="1066680" y="3114000"/>
            <a:ext cx="7094520" cy="1761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омер последней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1 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ле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 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пра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езультат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операция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1, n2)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3" name="Group 1"/>
          <p:cNvGrpSpPr/>
          <p:nvPr/>
        </p:nvGrpSpPr>
        <p:grpSpPr>
          <a:xfrm>
            <a:off x="1041480" y="4915080"/>
            <a:ext cx="3425760" cy="1587240"/>
            <a:chOff x="1041480" y="4915080"/>
            <a:chExt cx="3425760" cy="1587240"/>
          </a:xfrm>
        </p:grpSpPr>
        <p:sp>
          <p:nvSpPr>
            <p:cNvPr id="1514" name="AutoShape 6"/>
            <p:cNvSpPr/>
            <p:nvPr/>
          </p:nvSpPr>
          <p:spPr>
            <a:xfrm>
              <a:off x="1052640" y="5592600"/>
              <a:ext cx="1588320" cy="4269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AutoShape 5"/>
            <p:cNvSpPr/>
            <p:nvPr/>
          </p:nvSpPr>
          <p:spPr>
            <a:xfrm>
              <a:off x="3053160" y="5592600"/>
              <a:ext cx="1132560" cy="4269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AutoShape 9"/>
            <p:cNvSpPr/>
            <p:nvPr/>
          </p:nvSpPr>
          <p:spPr>
            <a:xfrm>
              <a:off x="1041480" y="4915080"/>
              <a:ext cx="342576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Text Box 8"/>
            <p:cNvSpPr/>
            <p:nvPr/>
          </p:nvSpPr>
          <p:spPr>
            <a:xfrm>
              <a:off x="1144080" y="5575320"/>
              <a:ext cx="332280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22 + 13 </a:t>
              </a:r>
              <a:r>
                <a:rPr b="1" lang="ru-RU" sz="2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–</a:t>
              </a: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 3 * 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Line 7"/>
            <p:cNvSpPr/>
            <p:nvPr/>
          </p:nvSpPr>
          <p:spPr>
            <a:xfrm>
              <a:off x="2842560" y="5298840"/>
              <a:ext cx="1440" cy="33408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Text Box 4"/>
            <p:cNvSpPr/>
            <p:nvPr/>
          </p:nvSpPr>
          <p:spPr>
            <a:xfrm>
              <a:off x="1319400" y="6002640"/>
              <a:ext cx="117468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n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Text Box 3"/>
            <p:cNvSpPr/>
            <p:nvPr/>
          </p:nvSpPr>
          <p:spPr>
            <a:xfrm>
              <a:off x="3041640" y="6002640"/>
              <a:ext cx="117432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n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Text Box 2"/>
            <p:cNvSpPr/>
            <p:nvPr/>
          </p:nvSpPr>
          <p:spPr>
            <a:xfrm>
              <a:off x="2260800" y="4915080"/>
              <a:ext cx="117468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Скругленная прямоугольная выноска 88"/>
          <p:cNvSpPr/>
          <p:nvPr/>
        </p:nvSpPr>
        <p:spPr>
          <a:xfrm>
            <a:off x="4925880" y="2181240"/>
            <a:ext cx="3208320" cy="891000"/>
          </a:xfrm>
          <a:prstGeom prst="wedgeRoundRectCallout">
            <a:avLst>
              <a:gd name="adj1" fmla="val -42564"/>
              <a:gd name="adj2" fmla="val 68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функция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astO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глава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3" name="Group 34"/>
          <p:cNvGrpSpPr/>
          <p:nvPr/>
        </p:nvGrpSpPr>
        <p:grpSpPr>
          <a:xfrm>
            <a:off x="6359400" y="3608280"/>
            <a:ext cx="2468520" cy="663480"/>
            <a:chOff x="6359400" y="3608280"/>
            <a:chExt cx="2468520" cy="663480"/>
          </a:xfrm>
        </p:grpSpPr>
        <p:sp>
          <p:nvSpPr>
            <p:cNvPr id="1524" name="Text Box 32"/>
            <p:cNvSpPr/>
            <p:nvPr/>
          </p:nvSpPr>
          <p:spPr>
            <a:xfrm>
              <a:off x="6864120" y="3708360"/>
              <a:ext cx="1963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курс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Oval 33"/>
            <p:cNvSpPr/>
            <p:nvPr/>
          </p:nvSpPr>
          <p:spPr>
            <a:xfrm>
              <a:off x="6359400" y="3608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Group 34"/>
          <p:cNvGrpSpPr/>
          <p:nvPr/>
        </p:nvGrpSpPr>
        <p:grpSpPr>
          <a:xfrm>
            <a:off x="5254560" y="5437080"/>
            <a:ext cx="3394080" cy="663480"/>
            <a:chOff x="5254560" y="5437080"/>
            <a:chExt cx="3394080" cy="663480"/>
          </a:xfrm>
        </p:grpSpPr>
        <p:sp>
          <p:nvSpPr>
            <p:cNvPr id="1527" name="Text Box 32"/>
            <p:cNvSpPr/>
            <p:nvPr/>
          </p:nvSpPr>
          <p:spPr>
            <a:xfrm>
              <a:off x="5759280" y="5537160"/>
              <a:ext cx="2889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го не хват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Oval 33"/>
            <p:cNvSpPr/>
            <p:nvPr/>
          </p:nvSpPr>
          <p:spPr>
            <a:xfrm>
              <a:off x="5254560" y="5437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6" dur="indefinite" restart="never" nodeType="tmRoot">
          <p:childTnLst>
            <p:seq>
              <p:cTn id="3597" dur="indefinite" nodeType="mainSeq">
                <p:childTnLst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2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5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0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3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4" fill="hold">
                      <p:stCondLst>
                        <p:cond delay="indefinite"/>
                      </p:stCondLst>
                      <p:childTnLst>
                        <p:par>
                          <p:cTn id="3615" fill="hold">
                            <p:stCondLst>
                              <p:cond delay="0"/>
                            </p:stCondLst>
                            <p:childTnLst>
                              <p:par>
                                <p:cTn id="3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1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2" fill="hold">
                      <p:stCondLst>
                        <p:cond delay="indefinite"/>
                      </p:stCondLst>
                      <p:childTnLst>
                        <p:par>
                          <p:cTn id="3623" fill="hold">
                            <p:stCondLst>
                              <p:cond delay="0"/>
                            </p:stCondLst>
                            <p:childTnLst>
                              <p:par>
                                <p:cTn id="3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6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7" fill="hold">
                      <p:stCondLst>
                        <p:cond delay="indefinite"/>
                      </p:stCondLst>
                      <p:childTnLst>
                        <p:par>
                          <p:cTn id="3628" fill="hold">
                            <p:stCondLst>
                              <p:cond delay="0"/>
                            </p:stCondLst>
                            <p:childTnLst>
                              <p:par>
                                <p:cTn id="3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1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2" fill="hold">
                      <p:stCondLst>
                        <p:cond delay="indefinite"/>
                      </p:stCondLst>
                      <p:childTnLst>
                        <p:par>
                          <p:cTn id="3633" fill="hold">
                            <p:stCondLst>
                              <p:cond delay="0"/>
                            </p:stCondLst>
                            <p:childTnLst>
                              <p:par>
                                <p:cTn id="3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6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здание объектов в програм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6DE8-3370-484B-8B79-89C16AAA840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B2D0-DE95-4F92-A470-C1037CBF5E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1"/>
          <p:cNvSpPr/>
          <p:nvPr/>
        </p:nvSpPr>
        <p:spPr>
          <a:xfrm>
            <a:off x="660240" y="1271880"/>
            <a:ext cx="7094520" cy="3012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омер последней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трока в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ле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пра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операция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1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Прямоугольник 26"/>
          <p:cNvSpPr/>
          <p:nvPr/>
        </p:nvSpPr>
        <p:spPr>
          <a:xfrm>
            <a:off x="393480" y="78732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евдок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7" dur="indefinite" restart="never" nodeType="tmRoot">
          <p:childTnLst>
            <p:seq>
              <p:cTn id="3638" dur="indefinite" nodeType="mainSeq">
                <p:childTnLst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4" fill="hold">
                      <p:stCondLst>
                        <p:cond delay="indefinite"/>
                      </p:stCondLst>
                      <p:childTnLst>
                        <p:par>
                          <p:cTn id="3645" fill="hold">
                            <p:stCondLst>
                              <p:cond delay="0"/>
                            </p:stCondLst>
                            <p:childTnLst>
                              <p:par>
                                <p:cTn id="3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1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6" dur="500"/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9" dur="500"/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4" dur="500"/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7" dur="500"/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0" dur="500"/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3" dur="500"/>
                                        <p:tgtEl>
                                          <p:spTgt spid="1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: вы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E516-B534-403B-93B2-246E864023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1"/>
          <p:cNvSpPr/>
          <p:nvPr/>
        </p:nvSpPr>
        <p:spPr>
          <a:xfrm>
            <a:off x="431640" y="866520"/>
            <a:ext cx="833148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stO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вся строка -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:k] )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левая част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k+1:] )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правая част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выполнить опер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s[k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+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[k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-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[k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*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4" dur="indefinite" restart="never" nodeType="tmRoot">
          <p:childTnLst>
            <p:seq>
              <p:cTn id="3675" dur="indefinite" nodeType="mainSeq">
                <p:childTnLst>
                  <p:par>
                    <p:cTn id="3676" fill="hold">
                      <p:stCondLst>
                        <p:cond delay="indefinite"/>
                      </p:stCondLst>
                      <p:childTnLst>
                        <p:par>
                          <p:cTn id="3677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0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3" dur="50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4" fill="hold">
                      <p:stCondLst>
                        <p:cond delay="indefinite"/>
                      </p:stCondLst>
                      <p:childTnLst>
                        <p:par>
                          <p:cTn id="3685" fill="hold">
                            <p:stCondLst>
                              <p:cond delay="0"/>
                            </p:stCondLst>
                            <p:childTnLst>
                              <p:par>
                                <p:cTn id="3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8" dur="500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1" dur="500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4" dur="500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9" dur="500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2" dur="500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5" dur="500"/>
                                        <p:tgtEl>
                                          <p:spTgt spid="1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6" fill="hold">
                      <p:stCondLst>
                        <p:cond delay="indefinite"/>
                      </p:stCondLst>
                      <p:childTnLst>
                        <p:par>
                          <p:cTn id="3707" fill="hold">
                            <p:stCondLst>
                              <p:cond delay="0"/>
                            </p:stCondLst>
                            <p:childTnLst>
                              <p:par>
                                <p:cTn id="3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0" dur="500"/>
                                        <p:tgtEl>
                                          <p:spTgt spid="1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3" dur="500"/>
                                        <p:tgtEl>
                                          <p:spTgt spid="1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2" dur="500"/>
                                        <p:tgtEl>
                                          <p:spTgt spid="15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помогательны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A2BC-C8EC-4D8C-9FD6-5FF5BE0CAC6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1"/>
          <p:cNvSpPr/>
          <p:nvPr/>
        </p:nvSpPr>
        <p:spPr>
          <a:xfrm>
            <a:off x="727200" y="1320840"/>
            <a:ext cx="53118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or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op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/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Прямоугольник 15"/>
          <p:cNvSpPr/>
          <p:nvPr/>
        </p:nvSpPr>
        <p:spPr>
          <a:xfrm>
            <a:off x="408600" y="83196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опе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1"/>
          <p:cNvSpPr/>
          <p:nvPr/>
        </p:nvSpPr>
        <p:spPr>
          <a:xfrm>
            <a:off x="727200" y="3411720"/>
            <a:ext cx="722628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astO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Pr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любое между 2 и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ority(s[i]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P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Pr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ty(s[i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Прямоугольник 17"/>
          <p:cNvSpPr/>
          <p:nvPr/>
        </p:nvSpPr>
        <p:spPr>
          <a:xfrm>
            <a:off x="411480" y="291636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мер последней опе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Прямоугольник 18"/>
          <p:cNvSpPr/>
          <p:nvPr/>
        </p:nvSpPr>
        <p:spPr>
          <a:xfrm>
            <a:off x="4757400" y="4916520"/>
            <a:ext cx="43848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Group 34"/>
          <p:cNvGrpSpPr/>
          <p:nvPr/>
        </p:nvGrpSpPr>
        <p:grpSpPr>
          <a:xfrm>
            <a:off x="6027840" y="5540400"/>
            <a:ext cx="2934720" cy="663480"/>
            <a:chOff x="6027840" y="5540400"/>
            <a:chExt cx="2934720" cy="663480"/>
          </a:xfrm>
        </p:grpSpPr>
        <p:sp>
          <p:nvSpPr>
            <p:cNvPr id="1550" name="Text Box 32"/>
            <p:cNvSpPr/>
            <p:nvPr/>
          </p:nvSpPr>
          <p:spPr>
            <a:xfrm>
              <a:off x="6532200" y="5640480"/>
              <a:ext cx="2430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&lt;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Oval 33"/>
            <p:cNvSpPr/>
            <p:nvPr/>
          </p:nvSpPr>
          <p:spPr>
            <a:xfrm>
              <a:off x="6027840" y="5540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2" name="Rectangle 1"/>
          <p:cNvSpPr/>
          <p:nvPr/>
        </p:nvSpPr>
        <p:spPr>
          <a:xfrm>
            <a:off x="6464160" y="1320840"/>
            <a:ext cx="231804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model.p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Прямоугольник 23"/>
          <p:cNvSpPr/>
          <p:nvPr/>
        </p:nvSpPr>
        <p:spPr>
          <a:xfrm>
            <a:off x="6470280" y="8319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ду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3" dur="indefinite" restart="never" nodeType="tmRoot">
          <p:childTnLst>
            <p:seq>
              <p:cTn id="3724" dur="indefinite" nodeType="mainSeq">
                <p:childTnLst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2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7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3" dur="500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4" fill="hold">
                      <p:stCondLst>
                        <p:cond delay="indefinite"/>
                      </p:stCondLst>
                      <p:childTnLst>
                        <p:par>
                          <p:cTn id="3745" fill="hold">
                            <p:stCondLst>
                              <p:cond delay="0"/>
                            </p:stCondLst>
                            <p:childTnLst>
                              <p:par>
                                <p:cTn id="3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8" dur="500"/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3" dur="500"/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8" dur="500"/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1" dur="500"/>
                                        <p:tgtEl>
                                          <p:spTgt spid="1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4" dur="500"/>
                                        <p:tgtEl>
                                          <p:spTgt spid="1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7" dur="500"/>
                                        <p:tgtEl>
                                          <p:spTgt spid="1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2" dur="500"/>
                                        <p:tgtEl>
                                          <p:spTgt spid="1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7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0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fill="hold">
                      <p:stCondLst>
                        <p:cond delay="indefinite"/>
                      </p:stCondLst>
                      <p:childTnLst>
                        <p:par>
                          <p:cTn id="3782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5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8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11" descr=""/>
          <p:cNvPicPr/>
          <p:nvPr/>
        </p:nvPicPr>
        <p:blipFill>
          <a:blip r:embed="rId1"/>
          <a:stretch/>
        </p:blipFill>
        <p:spPr>
          <a:xfrm>
            <a:off x="3038400" y="958680"/>
            <a:ext cx="3621240" cy="2071800"/>
          </a:xfrm>
          <a:prstGeom prst="rect">
            <a:avLst/>
          </a:prstGeom>
          <a:ln w="0">
            <a:noFill/>
          </a:ln>
        </p:spPr>
      </p:pic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6871-F463-4EE2-B36C-383A68DB1E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Скругленная прямоугольная выноска 4"/>
          <p:cNvSpPr/>
          <p:nvPr/>
        </p:nvSpPr>
        <p:spPr>
          <a:xfrm>
            <a:off x="6446880" y="1969920"/>
            <a:ext cx="2401920" cy="732600"/>
          </a:xfrm>
          <a:prstGeom prst="wedgeRoundRectCallout">
            <a:avLst>
              <a:gd name="adj1" fmla="val -83250"/>
              <a:gd name="adj2" fmla="val 1252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список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Скругленная прямоугольная выноска 5"/>
          <p:cNvSpPr/>
          <p:nvPr/>
        </p:nvSpPr>
        <p:spPr>
          <a:xfrm>
            <a:off x="441360" y="1195560"/>
            <a:ext cx="2401920" cy="1047960"/>
          </a:xfrm>
          <a:prstGeom prst="wedgeRoundRectCallout">
            <a:avLst>
              <a:gd name="adj1" fmla="val 65791"/>
              <a:gd name="adj2" fmla="val -1092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выпадающий список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Combo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3"/>
          <p:cNvSpPr/>
          <p:nvPr/>
        </p:nvSpPr>
        <p:spPr>
          <a:xfrm>
            <a:off x="533520" y="3587760"/>
            <a:ext cx="6696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Калькулятор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Прямоугольник 11"/>
          <p:cNvSpPr/>
          <p:nvPr/>
        </p:nvSpPr>
        <p:spPr>
          <a:xfrm>
            <a:off x="402480" y="308628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-прило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9" dur="indefinite" restart="never" nodeType="tmRoot">
          <p:childTnLst>
            <p:seq>
              <p:cTn id="3790" dur="indefinite" nodeType="mainSeq">
                <p:childTnLst>
                  <p:par>
                    <p:cTn id="3791" fill="hold">
                      <p:stCondLst>
                        <p:cond delay="indefinite"/>
                      </p:stCondLst>
                      <p:childTnLst>
                        <p:par>
                          <p:cTn id="3792" fill="hold">
                            <p:stCondLst>
                              <p:cond delay="0"/>
                            </p:stCondLst>
                            <p:childTnLst>
                              <p:par>
                                <p:cTn id="3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5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fill="hold">
                      <p:stCondLst>
                        <p:cond delay="indefinite"/>
                      </p:stCondLst>
                      <p:childTnLst>
                        <p:par>
                          <p:cTn id="3797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5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8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1" dur="500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4" dur="500"/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5" fill="hold">
                      <p:stCondLst>
                        <p:cond delay="indefinite"/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9" dur="500"/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2" dur="500"/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BCA8-F90C-4685-B25F-C00584D044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3"/>
          <p:cNvSpPr/>
          <p:nvPr/>
        </p:nvSpPr>
        <p:spPr>
          <a:xfrm>
            <a:off x="533520" y="1695600"/>
            <a:ext cx="8110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omboBo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valu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top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2+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Прямоугольник 8"/>
          <p:cNvSpPr/>
          <p:nvPr/>
        </p:nvSpPr>
        <p:spPr>
          <a:xfrm>
            <a:off x="390600" y="81108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падающий спис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Скругленная прямоугольная выноска 9"/>
          <p:cNvSpPr/>
          <p:nvPr/>
        </p:nvSpPr>
        <p:spPr>
          <a:xfrm>
            <a:off x="5245200" y="779400"/>
            <a:ext cx="2058840" cy="732600"/>
          </a:xfrm>
          <a:prstGeom prst="wedgeRoundRectCallout">
            <a:avLst>
              <a:gd name="adj1" fmla="val -33185"/>
              <a:gd name="adj2" fmla="val 9543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список зна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Скругленная прямоугольная выноска 10"/>
          <p:cNvSpPr/>
          <p:nvPr/>
        </p:nvSpPr>
        <p:spPr>
          <a:xfrm>
            <a:off x="6265800" y="2162160"/>
            <a:ext cx="1602000" cy="416520"/>
          </a:xfrm>
          <a:prstGeom prst="wedgeRoundRectCallout">
            <a:avLst>
              <a:gd name="adj1" fmla="val -90236"/>
              <a:gd name="adj2" fmla="val -2072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Скругленная прямоугольная выноска 12"/>
          <p:cNvSpPr/>
          <p:nvPr/>
        </p:nvSpPr>
        <p:spPr>
          <a:xfrm>
            <a:off x="4491000" y="2671920"/>
            <a:ext cx="2622600" cy="732600"/>
          </a:xfrm>
          <a:prstGeom prst="wedgeRoundRectCallout">
            <a:avLst>
              <a:gd name="adj1" fmla="val -74976"/>
              <a:gd name="adj2" fmla="val -488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рижать к вер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Скругленная прямоугольная выноска 13"/>
          <p:cNvSpPr/>
          <p:nvPr/>
        </p:nvSpPr>
        <p:spPr>
          <a:xfrm>
            <a:off x="3990960" y="3193920"/>
            <a:ext cx="1208160" cy="416520"/>
          </a:xfrm>
          <a:prstGeom prst="wedgeRoundRectCallout">
            <a:avLst>
              <a:gd name="adj1" fmla="val -74064"/>
              <a:gd name="adj2" fmla="val -759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Прямоугольник 14"/>
          <p:cNvSpPr/>
          <p:nvPr/>
        </p:nvSpPr>
        <p:spPr>
          <a:xfrm>
            <a:off x="376920" y="3627360"/>
            <a:ext cx="61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исок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я запоминания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3"/>
          <p:cNvSpPr/>
          <p:nvPr/>
        </p:nvSpPr>
        <p:spPr>
          <a:xfrm>
            <a:off x="533520" y="4073400"/>
            <a:ext cx="8110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swer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istBo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valu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swers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li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Скругленная прямоугольная выноска 16"/>
          <p:cNvSpPr/>
          <p:nvPr/>
        </p:nvSpPr>
        <p:spPr>
          <a:xfrm>
            <a:off x="3448080" y="5267160"/>
            <a:ext cx="2878200" cy="732600"/>
          </a:xfrm>
          <a:prstGeom prst="wedgeRoundRectCallout">
            <a:avLst>
              <a:gd name="adj1" fmla="val -39523"/>
              <a:gd name="adj2" fmla="val -11748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аполнить все свободн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3" dur="indefinite" restart="never" nodeType="tmRoot">
          <p:childTnLst>
            <p:seq>
              <p:cTn id="3824" dur="indefinite" nodeType="mainSeq">
                <p:childTnLst>
                  <p:par>
                    <p:cTn id="3825" fill="hold">
                      <p:stCondLst>
                        <p:cond delay="indefinite"/>
                      </p:stCondLst>
                      <p:childTnLst>
                        <p:par>
                          <p:cTn id="3826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9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5" dur="500"/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8" dur="500"/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1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4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5" fill="hold">
                      <p:stCondLst>
                        <p:cond delay="indefinite"/>
                      </p:stCondLst>
                      <p:childTnLst>
                        <p:par>
                          <p:cTn id="3846" fill="hold">
                            <p:stCondLst>
                              <p:cond delay="0"/>
                            </p:stCondLst>
                            <p:childTnLst>
                              <p:par>
                                <p:cTn id="3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9" dur="500"/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2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3" fill="hold">
                      <p:stCondLst>
                        <p:cond delay="indefinite"/>
                      </p:stCondLst>
                      <p:childTnLst>
                        <p:par>
                          <p:cTn id="3854" fill="hold">
                            <p:stCondLst>
                              <p:cond delay="0"/>
                            </p:stCondLst>
                            <p:childTnLst>
                              <p:par>
                                <p:cTn id="3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7" dur="500"/>
                                        <p:tgtEl>
                                          <p:spTgt spid="1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fill="hold">
                      <p:stCondLst>
                        <p:cond delay="indefinite"/>
                      </p:stCondLst>
                      <p:childTnLst>
                        <p:par>
                          <p:cTn id="3862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5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1" dur="500"/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2" fill="hold">
                      <p:stCondLst>
                        <p:cond delay="indefinite"/>
                      </p:stCondLst>
                      <p:childTnLst>
                        <p:par>
                          <p:cTn id="3873" fill="hold">
                            <p:stCondLst>
                              <p:cond delay="0"/>
                            </p:stCondLst>
                            <p:childTnLst>
                              <p:par>
                                <p:cTn id="3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6" dur="500"/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ка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74C4-EAA3-4FF6-A07A-4E691AD3D3B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3"/>
          <p:cNvSpPr/>
          <p:nvPr/>
        </p:nvSpPr>
        <p:spPr>
          <a:xfrm>
            <a:off x="426960" y="910080"/>
            <a:ext cx="81406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ажата клавиша Ent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числить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обавить результат в начало с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ражения нет в выпадающем списк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обавить его в выпадающий спи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Прямоугольник 8"/>
          <p:cNvSpPr/>
          <p:nvPr/>
        </p:nvSpPr>
        <p:spPr>
          <a:xfrm>
            <a:off x="390960" y="284148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 нажатия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ter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3"/>
          <p:cNvSpPr/>
          <p:nvPr/>
        </p:nvSpPr>
        <p:spPr>
          <a:xfrm>
            <a:off x="426960" y="3360600"/>
            <a:ext cx="8140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v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Прямоугольник 10"/>
          <p:cNvSpPr/>
          <p:nvPr/>
        </p:nvSpPr>
        <p:spPr>
          <a:xfrm>
            <a:off x="379080" y="4202280"/>
            <a:ext cx="38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становка обработч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3"/>
          <p:cNvSpPr/>
          <p:nvPr/>
        </p:nvSpPr>
        <p:spPr>
          <a:xfrm>
            <a:off x="426960" y="4613400"/>
            <a:ext cx="8140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bi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&lt;Key-Return&gt;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doCalc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Скругленная прямоугольная выноска 13"/>
          <p:cNvSpPr/>
          <p:nvPr/>
        </p:nvSpPr>
        <p:spPr>
          <a:xfrm>
            <a:off x="949320" y="5351400"/>
            <a:ext cx="1762200" cy="416520"/>
          </a:xfrm>
          <a:prstGeom prst="wedgeRoundRectCallout">
            <a:avLst>
              <a:gd name="adj1" fmla="val 11171"/>
              <a:gd name="adj2" fmla="val -140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«связ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Скругленная прямоугольная выноска 14"/>
          <p:cNvSpPr/>
          <p:nvPr/>
        </p:nvSpPr>
        <p:spPr>
          <a:xfrm>
            <a:off x="3151080" y="5351400"/>
            <a:ext cx="1760760" cy="732600"/>
          </a:xfrm>
          <a:prstGeom prst="wedgeRoundRectCallout">
            <a:avLst>
              <a:gd name="adj1" fmla="val 11180"/>
              <a:gd name="adj2" fmla="val -104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клавиш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Полилиния 15"/>
          <p:cNvSpPr/>
          <p:nvPr/>
        </p:nvSpPr>
        <p:spPr>
          <a:xfrm>
            <a:off x="4295880" y="3168720"/>
            <a:ext cx="1981080" cy="15526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1609060" h="2392326">
                <a:moveTo>
                  <a:pt x="1382232" y="2392326"/>
                </a:moveTo>
                <a:cubicBezTo>
                  <a:pt x="921488" y="1818168"/>
                  <a:pt x="1609060" y="0"/>
                  <a:pt x="0" y="66985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0" dur="indefinite" restart="never" nodeType="tmRoot">
          <p:childTnLst>
            <p:seq>
              <p:cTn id="3881" dur="indefinite" nodeType="mainSeq">
                <p:childTnLst>
                  <p:par>
                    <p:cTn id="3882" fill="hold">
                      <p:stCondLst>
                        <p:cond delay="indefinite"/>
                      </p:stCondLst>
                      <p:childTnLst>
                        <p:par>
                          <p:cTn id="3883" fill="hold">
                            <p:stCondLst>
                              <p:cond delay="0"/>
                            </p:stCondLst>
                            <p:childTnLst>
                              <p:par>
                                <p:cTn id="3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6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9" dur="500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7" dur="500"/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2" dur="500"/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5" dur="500"/>
                                        <p:tgtEl>
                                          <p:spTgt spid="1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fill="hold">
                      <p:stCondLst>
                        <p:cond delay="indefinite"/>
                      </p:stCondLst>
                      <p:childTnLst>
                        <p:par>
                          <p:cTn id="3907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0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6" dur="500"/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9" dur="500"/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0" fill="hold">
                      <p:stCondLst>
                        <p:cond delay="indefinite"/>
                      </p:stCondLst>
                      <p:childTnLst>
                        <p:par>
                          <p:cTn id="3921" fill="hold">
                            <p:stCondLst>
                              <p:cond delay="0"/>
                            </p:stCondLst>
                            <p:childTnLst>
                              <p:par>
                                <p:cTn id="3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4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7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0" dur="500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6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7" fill="hold">
                            <p:stCondLst>
                              <p:cond delay="500"/>
                            </p:stCondLst>
                            <p:childTnLst>
                              <p:par>
                                <p:cTn id="39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0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чик нажатия на клавишу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E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DEC8-D754-4817-A2C5-43EA3E75BCF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3"/>
          <p:cNvSpPr/>
          <p:nvPr/>
        </p:nvSpPr>
        <p:spPr>
          <a:xfrm>
            <a:off x="426960" y="919080"/>
            <a:ext cx="814068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do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v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tex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прочитать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xpr 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чис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swers.inser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exp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(x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 no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put.findIte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xp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addIte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xp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5" name="Picture 11" descr=""/>
          <p:cNvPicPr/>
          <p:nvPr/>
        </p:nvPicPr>
        <p:blipFill>
          <a:blip r:embed="rId1"/>
          <a:stretch/>
        </p:blipFill>
        <p:spPr>
          <a:xfrm>
            <a:off x="2762280" y="4827600"/>
            <a:ext cx="2841480" cy="1625760"/>
          </a:xfrm>
          <a:prstGeom prst="rect">
            <a:avLst/>
          </a:prstGeom>
          <a:ln w="0">
            <a:noFill/>
          </a:ln>
        </p:spPr>
      </p:pic>
      <p:sp>
        <p:nvSpPr>
          <p:cNvPr id="1586" name="Полилиния 9"/>
          <p:cNvSpPr/>
          <p:nvPr/>
        </p:nvSpPr>
        <p:spPr>
          <a:xfrm>
            <a:off x="4390920" y="3487680"/>
            <a:ext cx="2414520" cy="2433600"/>
          </a:xfrm>
          <a:custGeom>
            <a:avLst/>
            <a:gdLst>
              <a:gd name="textAreaLeft" fmla="*/ 0 w 2414520"/>
              <a:gd name="textAreaRight" fmla="*/ 2414520 w 2414520"/>
              <a:gd name="textAreaTop" fmla="*/ 0 h 2433600"/>
              <a:gd name="textAreaBottom" fmla="*/ 2433960 h 2433600"/>
            </a:gdLst>
            <a:ahLst/>
            <a:rect l="textAreaLeft" t="textAreaTop" r="textAreaRight" b="textAreaBottom"/>
            <a:pathLst>
              <a:path w="1609060" h="3881470">
                <a:moveTo>
                  <a:pt x="1416774" y="0"/>
                </a:moveTo>
                <a:cubicBezTo>
                  <a:pt x="1387800" y="1310208"/>
                  <a:pt x="1609060" y="3211618"/>
                  <a:pt x="0" y="388147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Полилиния 10"/>
          <p:cNvSpPr/>
          <p:nvPr/>
        </p:nvSpPr>
        <p:spPr>
          <a:xfrm>
            <a:off x="3252960" y="4508640"/>
            <a:ext cx="1307880" cy="80784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807840"/>
              <a:gd name="textAreaBottom" fmla="*/ 808200 h 807840"/>
            </a:gdLst>
            <a:ahLst/>
            <a:rect l="textAreaLeft" t="textAreaTop" r="textAreaRight" b="textAreaBottom"/>
            <a:pathLst>
              <a:path w="1609060" h="3881470">
                <a:moveTo>
                  <a:pt x="1416774" y="0"/>
                </a:moveTo>
                <a:cubicBezTo>
                  <a:pt x="1387800" y="1310208"/>
                  <a:pt x="1609060" y="3211618"/>
                  <a:pt x="0" y="388147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Скругленная прямоугольная выноска 11"/>
          <p:cNvSpPr/>
          <p:nvPr/>
        </p:nvSpPr>
        <p:spPr>
          <a:xfrm>
            <a:off x="6308640" y="3714840"/>
            <a:ext cx="2685960" cy="732600"/>
          </a:xfrm>
          <a:prstGeom prst="wedgeRoundRectCallout">
            <a:avLst>
              <a:gd name="adj1" fmla="val -70328"/>
              <a:gd name="adj2" fmla="val -592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еще нет в спи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1" dur="indefinite" restart="never" nodeType="tmRoot">
          <p:childTnLst>
            <p:seq>
              <p:cTn id="3942" dur="indefinite" nodeType="mainSeq">
                <p:childTnLst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7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0" dur="500"/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1" fill="hold">
                      <p:stCondLst>
                        <p:cond delay="indefinite"/>
                      </p:stCondLst>
                      <p:childTnLst>
                        <p:par>
                          <p:cTn id="3952" fill="hold">
                            <p:stCondLst>
                              <p:cond delay="0"/>
                            </p:stCondLst>
                            <p:childTnLst>
                              <p:par>
                                <p:cTn id="3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5" dur="500"/>
                                        <p:tgtEl>
                                          <p:spTgt spid="1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8" dur="500"/>
                                        <p:tgtEl>
                                          <p:spTgt spid="1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9" fill="hold">
                      <p:stCondLst>
                        <p:cond delay="indefinite"/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3" dur="500"/>
                                        <p:tgtEl>
                                          <p:spTgt spid="1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4" fill="hold">
                      <p:stCondLst>
                        <p:cond delay="indefinite"/>
                      </p:stCondLst>
                      <p:childTnLst>
                        <p:par>
                          <p:cTn id="3965" fill="hold">
                            <p:stCondLst>
                              <p:cond delay="0"/>
                            </p:stCondLst>
                            <p:childTnLst>
                              <p:par>
                                <p:cTn id="3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8" dur="500"/>
                                        <p:tgtEl>
                                          <p:spTgt spid="1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1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500"/>
                            </p:stCondLst>
                            <p:childTnLst>
                              <p:par>
                                <p:cTn id="39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5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6" fill="hold">
                      <p:stCondLst>
                        <p:cond delay="indefinite"/>
                      </p:stCondLst>
                      <p:childTnLst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0" dur="500"/>
                                        <p:tgtEl>
                                          <p:spTgt spid="1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6" dur="500"/>
                                        <p:tgtEl>
                                          <p:spTgt spid="1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0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AD36-2DB9-4625-A0D6-6916EE044E6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5"/>
          <p:cNvSpPr/>
          <p:nvPr/>
        </p:nvSpPr>
        <p:spPr>
          <a:xfrm>
            <a:off x="369720" y="809640"/>
            <a:ext cx="842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она могла вычислять значения выражений с вещественными числ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Picture 2" descr=""/>
          <p:cNvPicPr/>
          <p:nvPr/>
        </p:nvPicPr>
        <p:blipFill>
          <a:blip r:embed="rId1"/>
          <a:stretch/>
        </p:blipFill>
        <p:spPr>
          <a:xfrm>
            <a:off x="2374920" y="1703520"/>
            <a:ext cx="428616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4169-C6C6-48FE-8CFA-FCA411923BA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5"/>
          <p:cNvSpPr/>
          <p:nvPr/>
        </p:nvSpPr>
        <p:spPr>
          <a:xfrm>
            <a:off x="369720" y="809640"/>
            <a:ext cx="842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она могла вычислять значения выражений со скобк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6" name="Picture 6" descr=""/>
          <p:cNvPicPr/>
          <p:nvPr/>
        </p:nvPicPr>
        <p:blipFill>
          <a:blip r:embed="rId1"/>
          <a:stretch/>
        </p:blipFill>
        <p:spPr>
          <a:xfrm>
            <a:off x="2670120" y="1747800"/>
            <a:ext cx="3913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3ED5-1C30-4266-9756-9156E4B3970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Text Box 5"/>
          <p:cNvSpPr/>
          <p:nvPr/>
        </p:nvSpPr>
        <p:spPr>
          <a:xfrm>
            <a:off x="369720" y="809640"/>
            <a:ext cx="8420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она могла вычислять значения выражений, содержащих вызовы функций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b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qr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0" name="Picture 2" descr=""/>
          <p:cNvPicPr/>
          <p:nvPr/>
        </p:nvPicPr>
        <p:blipFill>
          <a:blip r:embed="rId1"/>
          <a:stretch/>
        </p:blipFill>
        <p:spPr>
          <a:xfrm>
            <a:off x="2109960" y="2144880"/>
            <a:ext cx="4946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16BC-E530-4022-B56E-FCE84C78DBA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398520" y="811440"/>
            <a:ext cx="853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а – множество взаимодействующих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ой объект – экземпляр какого-т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описание группы объектов с общей структурой и повед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6"/>
          <p:cNvSpPr/>
          <p:nvPr/>
        </p:nvSpPr>
        <p:spPr>
          <a:xfrm>
            <a:off x="2290680" y="2471760"/>
            <a:ext cx="3875040" cy="1349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7"/>
          <p:cNvSpPr/>
          <p:nvPr/>
        </p:nvSpPr>
        <p:spPr>
          <a:xfrm>
            <a:off x="2444760" y="2970360"/>
            <a:ext cx="1701720" cy="71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8"/>
          <p:cNvSpPr/>
          <p:nvPr/>
        </p:nvSpPr>
        <p:spPr>
          <a:xfrm>
            <a:off x="4300560" y="2970360"/>
            <a:ext cx="1701720" cy="71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Скругленная прямоугольная выноска 9"/>
          <p:cNvSpPr/>
          <p:nvPr/>
        </p:nvSpPr>
        <p:spPr>
          <a:xfrm>
            <a:off x="6537240" y="2408400"/>
            <a:ext cx="2171880" cy="796680"/>
          </a:xfrm>
          <a:prstGeom prst="wedgeRoundRectCallout">
            <a:avLst>
              <a:gd name="adj1" fmla="val -76666"/>
              <a:gd name="adj2" fmla="val 41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е от структу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Скругленная прямоугольная выноска 10"/>
          <p:cNvSpPr/>
          <p:nvPr/>
        </p:nvSpPr>
        <p:spPr>
          <a:xfrm>
            <a:off x="995400" y="3902040"/>
            <a:ext cx="1865160" cy="425520"/>
          </a:xfrm>
          <a:prstGeom prst="wedgeRoundRectCallout">
            <a:avLst>
              <a:gd name="adj1" fmla="val 38199"/>
              <a:gd name="adj2" fmla="val -135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Скругленная прямоугольная выноска 11"/>
          <p:cNvSpPr/>
          <p:nvPr/>
        </p:nvSpPr>
        <p:spPr>
          <a:xfrm flipH="1">
            <a:off x="4860360" y="3902040"/>
            <a:ext cx="1865160" cy="425520"/>
          </a:xfrm>
          <a:prstGeom prst="wedgeRoundRectCallout">
            <a:avLst>
              <a:gd name="adj1" fmla="val 38199"/>
              <a:gd name="adj2" fmla="val -135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2"/>
          <p:cNvSpPr/>
          <p:nvPr/>
        </p:nvSpPr>
        <p:spPr>
          <a:xfrm>
            <a:off x="611280" y="4708440"/>
            <a:ext cx="787248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еременная, принадлежащая объек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олилиния 14"/>
          <p:cNvSpPr/>
          <p:nvPr/>
        </p:nvSpPr>
        <p:spPr>
          <a:xfrm>
            <a:off x="1420920" y="3557520"/>
            <a:ext cx="1922400" cy="1289160"/>
          </a:xfrm>
          <a:custGeom>
            <a:avLst/>
            <a:gdLst>
              <a:gd name="textAreaLeft" fmla="*/ 0 w 1922400"/>
              <a:gd name="textAreaRight" fmla="*/ 1922760 w 192240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1922352" h="1288610">
                <a:moveTo>
                  <a:pt x="1892174" y="0"/>
                </a:moveTo>
                <a:cubicBezTo>
                  <a:pt x="1922352" y="1288610"/>
                  <a:pt x="630725" y="838955"/>
                  <a:pt x="0" y="125843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41ED-A94B-4913-81A5-77CEA37E2B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5"/>
          <p:cNvSpPr/>
          <p:nvPr/>
        </p:nvSpPr>
        <p:spPr>
          <a:xfrm>
            <a:off x="369720" y="809640"/>
            <a:ext cx="8420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вся логика программы содержалась в кла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Calcula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ая программа должны выгляде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3"/>
          <p:cNvSpPr/>
          <p:nvPr/>
        </p:nvSpPr>
        <p:spPr>
          <a:xfrm>
            <a:off x="1049400" y="2024640"/>
            <a:ext cx="75358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Calculat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здесь должно быть описание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Calculat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Прямоугольник 7"/>
          <p:cNvSpPr/>
          <p:nvPr/>
        </p:nvSpPr>
        <p:spPr>
          <a:xfrm>
            <a:off x="1054080" y="403236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воде неверного выражения нужно выводить сообщение об ошибке. Используйте функцию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err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модуля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kinter.messag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Стрелка углом 8"/>
          <p:cNvSpPr/>
          <p:nvPr/>
        </p:nvSpPr>
        <p:spPr>
          <a:xfrm flipV="1">
            <a:off x="2908440" y="6146640"/>
            <a:ext cx="325440" cy="346320"/>
          </a:xfrm>
          <a:custGeom>
            <a:avLst/>
            <a:gdLst/>
            <a:ahLst/>
            <a:rect l="l" t="t" r="r" b="b"/>
            <a:pathLst>
              <a:path w="325438" h="346075">
                <a:moveTo>
                  <a:pt x="0" y="346075"/>
                </a:moveTo>
                <a:lnTo>
                  <a:pt x="0" y="183059"/>
                </a:lnTo>
                <a:lnTo>
                  <a:pt x="0" y="183059"/>
                </a:lnTo>
                <a:arcTo wR="142379" hR="142379" stAng="10800000" swAng="5400000"/>
                <a:lnTo>
                  <a:pt x="244079" y="40680"/>
                </a:lnTo>
                <a:lnTo>
                  <a:pt x="244079" y="0"/>
                </a:lnTo>
                <a:lnTo>
                  <a:pt x="325438" y="81360"/>
                </a:lnTo>
                <a:lnTo>
                  <a:pt x="244079" y="162719"/>
                </a:lnTo>
                <a:lnTo>
                  <a:pt x="244079" y="122039"/>
                </a:lnTo>
                <a:lnTo>
                  <a:pt x="142379" y="122039"/>
                </a:lnTo>
                <a:lnTo>
                  <a:pt x="142379" y="122039"/>
                </a:lnTo>
                <a:arcTo wR="61020" hR="61020" stAng="-5400000" swAng="-5400000"/>
                <a:lnTo>
                  <a:pt x="81360" y="34607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7" name="Picture 4" descr=""/>
          <p:cNvPicPr/>
          <p:nvPr/>
        </p:nvPicPr>
        <p:blipFill>
          <a:blip r:embed="rId1"/>
          <a:stretch/>
        </p:blipFill>
        <p:spPr>
          <a:xfrm>
            <a:off x="4809960" y="2867040"/>
            <a:ext cx="3656160" cy="2289240"/>
          </a:xfrm>
          <a:prstGeom prst="rect">
            <a:avLst/>
          </a:prstGeom>
          <a:ln w="0">
            <a:noFill/>
          </a:ln>
        </p:spPr>
      </p:pic>
      <p:pic>
        <p:nvPicPr>
          <p:cNvPr id="1608" name="Picture 5" descr=""/>
          <p:cNvPicPr/>
          <p:nvPr/>
        </p:nvPicPr>
        <p:blipFill>
          <a:blip r:embed="rId2"/>
          <a:stretch/>
        </p:blipFill>
        <p:spPr>
          <a:xfrm>
            <a:off x="5091120" y="4233960"/>
            <a:ext cx="3873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1" dur="indefinite" restart="never" nodeType="tmRoot">
          <p:childTnLst>
            <p:seq>
              <p:cTn id="3992" dur="indefinite" nodeType="mainSeq">
                <p:childTnLst>
                  <p:par>
                    <p:cTn id="3993" fill="hold">
                      <p:stCondLst>
                        <p:cond delay="0"/>
                      </p:stCondLst>
                      <p:childTnLst>
                        <p:par>
                          <p:cTn id="3994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0" dur="500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8" dur="500"/>
                                        <p:tgtEl>
                                          <p:spTgt spid="1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1" dur="500"/>
                                        <p:tgtEl>
                                          <p:spTgt spid="1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3444-191E-4DA7-ABF8-6D0C80975A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5"/>
          <p:cNvSpPr/>
          <p:nvPr/>
        </p:nvSpPr>
        <p:spPr>
          <a:xfrm>
            <a:off x="369720" y="809640"/>
            <a:ext cx="842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се результаты вычислений и сообщения об ошибках записываются в файл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ults.tx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3"/>
          <p:cNvSpPr/>
          <p:nvPr/>
        </p:nvSpPr>
        <p:spPr>
          <a:xfrm>
            <a:off x="808200" y="1679040"/>
            <a:ext cx="7954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n(1.2)*sqrt(1.7)=1.2152302901960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Неверное выражение sin(1.2)*sqrt(1.7)q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Прямоугольник 6"/>
          <p:cNvSpPr/>
          <p:nvPr/>
        </p:nvSpPr>
        <p:spPr>
          <a:xfrm>
            <a:off x="876240" y="3048120"/>
            <a:ext cx="785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формите процедуру записи в файл как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с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Calcula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2" dur="indefinite" restart="never" nodeType="tmRoot">
          <p:childTnLst>
            <p:seq>
              <p:cTn id="4013" dur="indefinite" nodeType="mainSeq">
                <p:childTnLst>
                  <p:par>
                    <p:cTn id="4014" fill="hold">
                      <p:stCondLst>
                        <p:cond delay="0"/>
                      </p:stCondLst>
                      <p:childTnLst>
                        <p:par>
                          <p:cTn id="4015" fill="hold">
                            <p:stCondLst>
                              <p:cond delay="0"/>
                            </p:stCondLst>
                            <p:childTnLst>
                              <p:par>
                                <p:cTn id="4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8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4" dur="500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лькуля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408F-4FB8-473A-9395-A9B4DACF97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6" name="Group 34"/>
          <p:cNvGrpSpPr/>
          <p:nvPr/>
        </p:nvGrpSpPr>
        <p:grpSpPr>
          <a:xfrm>
            <a:off x="3359160" y="992160"/>
            <a:ext cx="3519360" cy="663480"/>
            <a:chOff x="3359160" y="992160"/>
            <a:chExt cx="3519360" cy="663480"/>
          </a:xfrm>
        </p:grpSpPr>
        <p:sp>
          <p:nvSpPr>
            <p:cNvPr id="1617" name="Text Box 32"/>
            <p:cNvSpPr/>
            <p:nvPr/>
          </p:nvSpPr>
          <p:spPr>
            <a:xfrm>
              <a:off x="3863880" y="1092240"/>
              <a:ext cx="3014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амостояте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Oval 33"/>
            <p:cNvSpPr/>
            <p:nvPr/>
          </p:nvSpPr>
          <p:spPr>
            <a:xfrm>
              <a:off x="3359160" y="992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9" name="Picture 8" descr=""/>
          <p:cNvPicPr/>
          <p:nvPr/>
        </p:nvPicPr>
        <p:blipFill>
          <a:blip r:embed="rId1"/>
          <a:stretch/>
        </p:blipFill>
        <p:spPr>
          <a:xfrm>
            <a:off x="387360" y="896760"/>
            <a:ext cx="2724120" cy="33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4F38-E199-44A5-AE2D-9C83DBDDBD0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Прямоугольник 4"/>
          <p:cNvSpPr/>
          <p:nvPr/>
        </p:nvSpPr>
        <p:spPr>
          <a:xfrm>
            <a:off x="162000" y="1676520"/>
            <a:ext cx="8820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РЕМИН Евгений Александ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-м.н., доцент кафедры мультимедийной дидактики и ИТО ПГГПУ, г. Пер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eremin@pspu.ac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4DA2-DC2A-4148-B51A-366D3612809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Box 3"/>
          <p:cNvSpPr/>
          <p:nvPr/>
        </p:nvSpPr>
        <p:spPr>
          <a:xfrm>
            <a:off x="392040" y="812880"/>
            <a:ext cx="808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picstopi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maugav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yoursourceisope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ru.wikipedia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 художников издательства «Бин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и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«Дорог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16ED-C976-40B3-9478-4871F562921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"/>
          <p:cNvSpPr/>
          <p:nvPr/>
        </p:nvSpPr>
        <p:spPr>
          <a:xfrm>
            <a:off x="743040" y="1224720"/>
            <a:ext cx="38559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4"/>
          <p:cNvSpPr/>
          <p:nvPr/>
        </p:nvSpPr>
        <p:spPr>
          <a:xfrm>
            <a:off x="409680" y="80964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писание клас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5"/>
          <p:cNvSpPr/>
          <p:nvPr/>
        </p:nvSpPr>
        <p:spPr>
          <a:xfrm>
            <a:off x="452520" y="213048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оздание объ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34"/>
          <p:cNvGrpSpPr/>
          <p:nvPr/>
        </p:nvGrpSpPr>
        <p:grpSpPr>
          <a:xfrm>
            <a:off x="4178160" y="1019160"/>
            <a:ext cx="4286160" cy="925560"/>
            <a:chOff x="4178160" y="1019160"/>
            <a:chExt cx="4286160" cy="925560"/>
          </a:xfrm>
        </p:grpSpPr>
        <p:sp>
          <p:nvSpPr>
            <p:cNvPr id="460" name="Text Box 32"/>
            <p:cNvSpPr/>
            <p:nvPr/>
          </p:nvSpPr>
          <p:spPr>
            <a:xfrm>
              <a:off x="4682880" y="1119240"/>
              <a:ext cx="3781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ъекты-экземпляры не создаютс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33"/>
            <p:cNvSpPr/>
            <p:nvPr/>
          </p:nvSpPr>
          <p:spPr>
            <a:xfrm>
              <a:off x="4178160" y="1019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1"/>
          <p:cNvSpPr/>
          <p:nvPr/>
        </p:nvSpPr>
        <p:spPr>
          <a:xfrm>
            <a:off x="743040" y="2563200"/>
            <a:ext cx="3855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8"/>
          <p:cNvSpPr/>
          <p:nvPr/>
        </p:nvSpPr>
        <p:spPr>
          <a:xfrm>
            <a:off x="473040" y="3270240"/>
            <a:ext cx="78724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стру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метод класса, который вызывается для создания объекта этого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кругленная прямоугольная выноска 20"/>
          <p:cNvSpPr/>
          <p:nvPr/>
        </p:nvSpPr>
        <p:spPr>
          <a:xfrm>
            <a:off x="3838680" y="2583000"/>
            <a:ext cx="3214440" cy="442800"/>
          </a:xfrm>
          <a:prstGeom prst="wedgeRoundRectCallout">
            <a:avLst>
              <a:gd name="adj1" fmla="val -67689"/>
              <a:gd name="adj2" fmla="val -2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констру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34"/>
          <p:cNvGrpSpPr/>
          <p:nvPr/>
        </p:nvGrpSpPr>
        <p:grpSpPr>
          <a:xfrm>
            <a:off x="254160" y="4200480"/>
            <a:ext cx="8506800" cy="663480"/>
            <a:chOff x="254160" y="4200480"/>
            <a:chExt cx="8506800" cy="663480"/>
          </a:xfrm>
        </p:grpSpPr>
        <p:sp>
          <p:nvSpPr>
            <p:cNvPr id="466" name="Text Box 32"/>
            <p:cNvSpPr/>
            <p:nvPr/>
          </p:nvSpPr>
          <p:spPr>
            <a:xfrm>
              <a:off x="758520" y="4300560"/>
              <a:ext cx="8002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нструктор по умолчанию строится автоматическ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3"/>
            <p:cNvSpPr/>
            <p:nvPr/>
          </p:nvSpPr>
          <p:spPr>
            <a:xfrm>
              <a:off x="254160" y="4200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ый конструктор – добавлений по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1EA7-ED1C-499F-81A5-FC29619F862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"/>
          <p:cNvSpPr/>
          <p:nvPr/>
        </p:nvSpPr>
        <p:spPr>
          <a:xfrm>
            <a:off x="633240" y="1892520"/>
            <a:ext cx="53438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34"/>
          <p:cNvGrpSpPr/>
          <p:nvPr/>
        </p:nvGrpSpPr>
        <p:grpSpPr>
          <a:xfrm>
            <a:off x="687240" y="4133880"/>
            <a:ext cx="5996160" cy="925560"/>
            <a:chOff x="687240" y="4133880"/>
            <a:chExt cx="5996160" cy="925560"/>
          </a:xfrm>
        </p:grpSpPr>
        <p:sp>
          <p:nvSpPr>
            <p:cNvPr id="472" name="Text Box 32"/>
            <p:cNvSpPr/>
            <p:nvPr/>
          </p:nvSpPr>
          <p:spPr>
            <a:xfrm>
              <a:off x="1191960" y="4233960"/>
              <a:ext cx="5491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нструктор задаёт начальные значения поле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3"/>
            <p:cNvSpPr/>
            <p:nvPr/>
          </p:nvSpPr>
          <p:spPr>
            <a:xfrm>
              <a:off x="687240" y="4133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Скругленная прямоугольная выноска 12"/>
          <p:cNvSpPr/>
          <p:nvPr/>
        </p:nvSpPr>
        <p:spPr>
          <a:xfrm>
            <a:off x="2689200" y="925560"/>
            <a:ext cx="4049640" cy="728640"/>
          </a:xfrm>
          <a:prstGeom prst="wedgeRoundRectCallout">
            <a:avLst>
              <a:gd name="adj1" fmla="val -43226"/>
              <a:gd name="adj2" fmla="val 1455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niti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ые у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Скругленная прямоугольная выноска 13"/>
          <p:cNvSpPr/>
          <p:nvPr/>
        </p:nvSpPr>
        <p:spPr>
          <a:xfrm>
            <a:off x="5199120" y="1766880"/>
            <a:ext cx="2736720" cy="1019160"/>
          </a:xfrm>
          <a:prstGeom prst="wedgeRoundRectCallout">
            <a:avLst>
              <a:gd name="adj1" fmla="val -82384"/>
              <a:gd name="adj2" fmla="val -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ылка для обращения к самому объе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Скругленная прямоугольная выноска 15"/>
          <p:cNvSpPr/>
          <p:nvPr/>
        </p:nvSpPr>
        <p:spPr>
          <a:xfrm>
            <a:off x="4557600" y="3127320"/>
            <a:ext cx="2246400" cy="792360"/>
          </a:xfrm>
          <a:prstGeom prst="wedgeRoundRectCallout">
            <a:avLst>
              <a:gd name="adj1" fmla="val -78509"/>
              <a:gd name="adj2" fmla="val -5504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а поля обнул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Скругленная прямоугольная выноска 16"/>
          <p:cNvSpPr/>
          <p:nvPr/>
        </p:nvSpPr>
        <p:spPr>
          <a:xfrm>
            <a:off x="880920" y="3595680"/>
            <a:ext cx="2982960" cy="399960"/>
          </a:xfrm>
          <a:prstGeom prst="wedgeRoundRectCallout">
            <a:avLst>
              <a:gd name="adj1" fmla="val -458"/>
              <a:gd name="adj2" fmla="val -10458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ечная за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"/>
          <p:cNvSpPr/>
          <p:nvPr/>
        </p:nvSpPr>
        <p:spPr>
          <a:xfrm>
            <a:off x="633240" y="5227200"/>
            <a:ext cx="34275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Скругленная прямоугольная выноска 19"/>
          <p:cNvSpPr/>
          <p:nvPr/>
        </p:nvSpPr>
        <p:spPr>
          <a:xfrm>
            <a:off x="4208400" y="5334120"/>
            <a:ext cx="2246400" cy="1066680"/>
          </a:xfrm>
          <a:prstGeom prst="wedgeRoundRectCallout">
            <a:avLst>
              <a:gd name="adj1" fmla="val -85777"/>
              <a:gd name="adj2" fmla="val 1512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значений п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структор с параме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E7D0-310A-43E8-9453-73918AE5F09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"/>
          <p:cNvSpPr/>
          <p:nvPr/>
        </p:nvSpPr>
        <p:spPr>
          <a:xfrm>
            <a:off x="403200" y="1148760"/>
            <a:ext cx="84106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length0, width0 )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4"/>
          <p:cNvSpPr/>
          <p:nvPr/>
        </p:nvSpPr>
        <p:spPr>
          <a:xfrm>
            <a:off x="442800" y="2774880"/>
            <a:ext cx="22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Выз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"/>
          <p:cNvSpPr/>
          <p:nvPr/>
        </p:nvSpPr>
        <p:spPr>
          <a:xfrm>
            <a:off x="814320" y="3266640"/>
            <a:ext cx="4307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oad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олилиния 15"/>
          <p:cNvSpPr/>
          <p:nvPr/>
        </p:nvSpPr>
        <p:spPr>
          <a:xfrm>
            <a:off x="3592440" y="1917720"/>
            <a:ext cx="2301840" cy="143496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947010" h="1573618">
                <a:moveTo>
                  <a:pt x="0" y="1573618"/>
                </a:moveTo>
                <a:cubicBezTo>
                  <a:pt x="379229" y="1102241"/>
                  <a:pt x="947010" y="903469"/>
                  <a:pt x="786809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олилиния 16"/>
          <p:cNvSpPr/>
          <p:nvPr/>
        </p:nvSpPr>
        <p:spPr>
          <a:xfrm>
            <a:off x="4255920" y="1938240"/>
            <a:ext cx="2721240" cy="1392480"/>
          </a:xfrm>
          <a:custGeom>
            <a:avLst/>
            <a:gdLst>
              <a:gd name="textAreaLeft" fmla="*/ 0 w 2721240"/>
              <a:gd name="textAreaRight" fmla="*/ 2721600 w 27212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786809" h="1573618">
                <a:moveTo>
                  <a:pt x="0" y="1573618"/>
                </a:moveTo>
                <a:cubicBezTo>
                  <a:pt x="379229" y="1102241"/>
                  <a:pt x="747822" y="662762"/>
                  <a:pt x="786809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34"/>
          <p:cNvGrpSpPr/>
          <p:nvPr/>
        </p:nvGrpSpPr>
        <p:grpSpPr>
          <a:xfrm>
            <a:off x="557280" y="4046400"/>
            <a:ext cx="7194600" cy="663480"/>
            <a:chOff x="557280" y="4046400"/>
            <a:chExt cx="7194600" cy="663480"/>
          </a:xfrm>
        </p:grpSpPr>
        <p:sp>
          <p:nvSpPr>
            <p:cNvPr id="488" name="Text Box 32"/>
            <p:cNvSpPr/>
            <p:nvPr/>
          </p:nvSpPr>
          <p:spPr>
            <a:xfrm>
              <a:off x="1062000" y="4146480"/>
              <a:ext cx="6689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т защиты от неверных входных данных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33"/>
            <p:cNvSpPr/>
            <p:nvPr/>
          </p:nvSpPr>
          <p:spPr>
            <a:xfrm>
              <a:off x="557280" y="4046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Прямоугольник 18"/>
          <p:cNvSpPr/>
          <p:nvPr/>
        </p:nvSpPr>
        <p:spPr>
          <a:xfrm>
            <a:off x="3525120" y="1566720"/>
            <a:ext cx="80424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Скругленная прямоугольная выноска 19"/>
          <p:cNvSpPr/>
          <p:nvPr/>
        </p:nvSpPr>
        <p:spPr>
          <a:xfrm>
            <a:off x="4060800" y="993600"/>
            <a:ext cx="2492280" cy="400320"/>
          </a:xfrm>
          <a:prstGeom prst="wedgeRoundRectCallout">
            <a:avLst>
              <a:gd name="adj1" fmla="val -51189"/>
              <a:gd name="adj2" fmla="val 10262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ита от невер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5F33-26D5-49BA-8E88-0ECF09F6E1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403200" y="909360"/>
            <a:ext cx="841068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length0, width0 )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id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11"/>
          <p:cNvSpPr/>
          <p:nvPr/>
        </p:nvSpPr>
        <p:spPr>
          <a:xfrm>
            <a:off x="631800" y="4883040"/>
            <a:ext cx="8196120" cy="825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0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0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id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«Машин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0F80-DBFB-4DC9-8BB2-203A1A173E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"/>
          <p:cNvSpPr/>
          <p:nvPr/>
        </p:nvSpPr>
        <p:spPr>
          <a:xfrm>
            <a:off x="417600" y="2024280"/>
            <a:ext cx="83916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road0, p0, v0 )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oa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Скругленная прямоугольная выноска 4"/>
          <p:cNvSpPr/>
          <p:nvPr/>
        </p:nvSpPr>
        <p:spPr>
          <a:xfrm>
            <a:off x="3186000" y="1150920"/>
            <a:ext cx="2330640" cy="752400"/>
          </a:xfrm>
          <a:prstGeom prst="wedgeRoundRectCallout">
            <a:avLst>
              <a:gd name="adj1" fmla="val 18282"/>
              <a:gd name="adj2" fmla="val 1264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а, по которой е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кругленная прямоугольная выноска 5"/>
          <p:cNvSpPr/>
          <p:nvPr/>
        </p:nvSpPr>
        <p:spPr>
          <a:xfrm>
            <a:off x="6453360" y="3133800"/>
            <a:ext cx="1733400" cy="458640"/>
          </a:xfrm>
          <a:prstGeom prst="wedgeRoundRectCallout">
            <a:avLst>
              <a:gd name="adj1" fmla="val -27847"/>
              <a:gd name="adj2" fmla="val -135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кругленная прямоугольная выноска 6"/>
          <p:cNvSpPr/>
          <p:nvPr/>
        </p:nvSpPr>
        <p:spPr>
          <a:xfrm>
            <a:off x="5769000" y="1376280"/>
            <a:ext cx="1539720" cy="461880"/>
          </a:xfrm>
          <a:prstGeom prst="wedgeRoundRectCallout">
            <a:avLst>
              <a:gd name="adj1" fmla="val -28768"/>
              <a:gd name="adj2" fmla="val 1893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кругленная прямоугольная выноска 7"/>
          <p:cNvSpPr/>
          <p:nvPr/>
        </p:nvSpPr>
        <p:spPr>
          <a:xfrm>
            <a:off x="3405240" y="3774960"/>
            <a:ext cx="2127240" cy="492120"/>
          </a:xfrm>
          <a:prstGeom prst="wedgeRoundRectCallout">
            <a:avLst>
              <a:gd name="adj1" fmla="val -73782"/>
              <a:gd name="adj2" fmla="val 15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«Машина»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mo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6FB7-DCA6-4F34-B155-24B9CA3693C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417600" y="872280"/>
            <a:ext cx="8334360" cy="2730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road0, p0, v0 )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oad.l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7" descr=""/>
          <p:cNvPicPr/>
          <p:nvPr/>
        </p:nvPicPr>
        <p:blipFill>
          <a:blip r:embed="rId1"/>
          <a:stretch/>
        </p:blipFill>
        <p:spPr>
          <a:xfrm>
            <a:off x="544680" y="4032360"/>
            <a:ext cx="2873160" cy="680760"/>
          </a:xfrm>
          <a:prstGeom prst="rect">
            <a:avLst/>
          </a:prstGeom>
          <a:ln w="0">
            <a:noFill/>
          </a:ln>
        </p:spPr>
      </p:pic>
      <p:sp>
        <p:nvSpPr>
          <p:cNvPr id="507" name="Скругленная прямоугольная выноска 7"/>
          <p:cNvSpPr/>
          <p:nvPr/>
        </p:nvSpPr>
        <p:spPr>
          <a:xfrm>
            <a:off x="4776840" y="2077920"/>
            <a:ext cx="3724200" cy="490680"/>
          </a:xfrm>
          <a:prstGeom prst="wedgeRoundRectCallout">
            <a:avLst>
              <a:gd name="adj1" fmla="val -69106"/>
              <a:gd name="adj2" fmla="val 597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щение за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ая прямоугольная выноска 8"/>
          <p:cNvSpPr/>
          <p:nvPr/>
        </p:nvSpPr>
        <p:spPr>
          <a:xfrm>
            <a:off x="6585120" y="2676600"/>
            <a:ext cx="1992240" cy="1122120"/>
          </a:xfrm>
          <a:prstGeom prst="wedgeRoundRectCallout">
            <a:avLst>
              <a:gd name="adj1" fmla="val -59388"/>
              <a:gd name="adj2" fmla="val -1951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за пределами дор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4"/>
          <p:cNvSpPr/>
          <p:nvPr/>
        </p:nvSpPr>
        <p:spPr>
          <a:xfrm>
            <a:off x="402840" y="3629160"/>
            <a:ext cx="38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Равномерное дви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7"/>
          <p:cNvSpPr/>
          <p:nvPr/>
        </p:nvSpPr>
        <p:spPr>
          <a:xfrm>
            <a:off x="2260440" y="4092480"/>
            <a:ext cx="516240" cy="515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Скругленная прямоугольная выноска 11"/>
          <p:cNvSpPr/>
          <p:nvPr/>
        </p:nvSpPr>
        <p:spPr>
          <a:xfrm>
            <a:off x="857160" y="4870440"/>
            <a:ext cx="3376800" cy="750960"/>
          </a:xfrm>
          <a:prstGeom prst="wedgeRoundRectCallout">
            <a:avLst>
              <a:gd name="adj1" fmla="val 92"/>
              <a:gd name="adj2" fmla="val -864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щение за одну единицу вре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9"/>
          <p:cNvSpPr/>
          <p:nvPr/>
        </p:nvSpPr>
        <p:spPr>
          <a:xfrm>
            <a:off x="2867040" y="4092480"/>
            <a:ext cx="515880" cy="515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Группа 13"/>
          <p:cNvGrpSpPr/>
          <p:nvPr/>
        </p:nvGrpSpPr>
        <p:grpSpPr>
          <a:xfrm>
            <a:off x="4089240" y="4000680"/>
            <a:ext cx="3376800" cy="788760"/>
            <a:chOff x="4089240" y="4000680"/>
            <a:chExt cx="3376800" cy="788760"/>
          </a:xfrm>
        </p:grpSpPr>
        <p:sp>
          <p:nvSpPr>
            <p:cNvPr id="514" name="Скругленная прямоугольная выноска 14"/>
            <p:cNvSpPr/>
            <p:nvPr/>
          </p:nvSpPr>
          <p:spPr>
            <a:xfrm>
              <a:off x="4089240" y="4037040"/>
              <a:ext cx="3376800" cy="752400"/>
            </a:xfrm>
            <a:prstGeom prst="wedgeRoundRectCallout">
              <a:avLst>
                <a:gd name="adj1" fmla="val -71763"/>
                <a:gd name="adj2" fmla="val -8134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87480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тервал дискретиз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" name="Object 4"/>
                <p:cNvSpPr txBox="1"/>
                <p:nvPr/>
              </p:nvSpPr>
              <p:spPr>
                <a:xfrm>
                  <a:off x="4202280" y="4000680"/>
                  <a:ext cx="1009080" cy="44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t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ита внутренни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039C-4D97-46EA-8997-411BB76E183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155520" y="-2719440"/>
            <a:ext cx="44578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352440" y="824040"/>
            <a:ext cx="1684440" cy="21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2944800" y="946080"/>
          <a:ext cx="2049480" cy="3038400"/>
        </p:xfrm>
        <a:graphic>
          <a:graphicData uri="http://schemas.openxmlformats.org/drawingml/2006/table">
            <a:tbl>
              <a:tblPr/>
              <a:tblGrid>
                <a:gridCol w="2049480"/>
              </a:tblGrid>
              <a:tr h="420840">
                <a:tc>
                  <a:txBody>
                    <a:bodyPr lIns="116280" rIns="11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618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нер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стр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л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7586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сп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игр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Прямоугольник 6"/>
          <p:cNvSpPr/>
          <p:nvPr/>
        </p:nvSpPr>
        <p:spPr>
          <a:xfrm>
            <a:off x="2813040" y="2567160"/>
            <a:ext cx="2254320" cy="13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4"/>
          <p:cNvGrpSpPr/>
          <p:nvPr/>
        </p:nvGrpSpPr>
        <p:grpSpPr>
          <a:xfrm>
            <a:off x="5419800" y="887400"/>
            <a:ext cx="3359160" cy="925560"/>
            <a:chOff x="5419800" y="887400"/>
            <a:chExt cx="3359160" cy="925560"/>
          </a:xfrm>
        </p:grpSpPr>
        <p:sp>
          <p:nvSpPr>
            <p:cNvPr id="186" name="Text Box 32"/>
            <p:cNvSpPr/>
            <p:nvPr/>
          </p:nvSpPr>
          <p:spPr>
            <a:xfrm>
              <a:off x="5924520" y="987480"/>
              <a:ext cx="2854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изменять вучную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3"/>
            <p:cNvSpPr/>
            <p:nvPr/>
          </p:nvSpPr>
          <p:spPr>
            <a:xfrm>
              <a:off x="5419800" y="887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Прямоугольник 10"/>
          <p:cNvSpPr/>
          <p:nvPr/>
        </p:nvSpPr>
        <p:spPr>
          <a:xfrm>
            <a:off x="2994120" y="1382760"/>
            <a:ext cx="1955880" cy="115236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5578560" y="2009880"/>
            <a:ext cx="2843280" cy="130788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2"/>
          <p:cNvSpPr/>
          <p:nvPr/>
        </p:nvSpPr>
        <p:spPr>
          <a:xfrm>
            <a:off x="5578560" y="3487680"/>
            <a:ext cx="2843280" cy="97812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"/>
          <p:cNvSpPr/>
          <p:nvPr/>
        </p:nvSpPr>
        <p:spPr>
          <a:xfrm>
            <a:off x="5578560" y="4678200"/>
            <a:ext cx="2843280" cy="130824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иг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олилиния 14"/>
          <p:cNvSpPr/>
          <p:nvPr/>
        </p:nvSpPr>
        <p:spPr>
          <a:xfrm>
            <a:off x="3859200" y="2254320"/>
            <a:ext cx="1679760" cy="61596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4210200" y="3688560"/>
            <a:ext cx="1328760" cy="1190520"/>
          </a:xfrm>
          <a:custGeom>
            <a:avLst/>
            <a:gdLst>
              <a:gd name="textAreaLeft" fmla="*/ 0 w 1328760"/>
              <a:gd name="textAreaRight" fmla="*/ 1329120 w 1328760"/>
              <a:gd name="textAreaTop" fmla="*/ -360 h 1190520"/>
              <a:gd name="textAreaBottom" fmla="*/ 1190520 h 119052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062240" y="3252240"/>
            <a:ext cx="1476720" cy="447480"/>
          </a:xfrm>
          <a:custGeom>
            <a:avLst/>
            <a:gdLst>
              <a:gd name="textAreaLeft" fmla="*/ 0 w 1476720"/>
              <a:gd name="textAreaRight" fmla="*/ 1477080 w 1476720"/>
              <a:gd name="textAreaTop" fmla="*/ 0 h 447480"/>
              <a:gd name="textAreaBottom" fmla="*/ 447480 h 44748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4"/>
          <p:cNvGrpSpPr/>
          <p:nvPr/>
        </p:nvGrpSpPr>
        <p:grpSpPr>
          <a:xfrm>
            <a:off x="1008000" y="5045040"/>
            <a:ext cx="4159440" cy="925560"/>
            <a:chOff x="1008000" y="5045040"/>
            <a:chExt cx="4159440" cy="925560"/>
          </a:xfrm>
        </p:grpSpPr>
        <p:sp>
          <p:nvSpPr>
            <p:cNvPr id="196" name="Text Box 32"/>
            <p:cNvSpPr/>
            <p:nvPr/>
          </p:nvSpPr>
          <p:spPr>
            <a:xfrm>
              <a:off x="1512720" y="5145120"/>
              <a:ext cx="36547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еняем состояние только через метод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3"/>
            <p:cNvSpPr/>
            <p:nvPr/>
          </p:nvSpPr>
          <p:spPr>
            <a:xfrm>
              <a:off x="1008000" y="5045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Левая фигурная скобка 20"/>
          <p:cNvSpPr/>
          <p:nvPr/>
        </p:nvSpPr>
        <p:spPr>
          <a:xfrm>
            <a:off x="2765520" y="2568600"/>
            <a:ext cx="145800" cy="13334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333440"/>
              <a:gd name="textAreaBottom" fmla="*/ 1312200 h 13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6"/>
                </a:cubicBezTo>
                <a:lnTo>
                  <a:pt x="10800" y="9694"/>
                </a:lnTo>
                <a:cubicBezTo>
                  <a:pt x="10800" y="10247"/>
                  <a:pt x="5400" y="10800"/>
                  <a:pt x="0" y="10800"/>
                </a:cubicBezTo>
                <a:cubicBezTo>
                  <a:pt x="5400" y="10800"/>
                  <a:pt x="10800" y="11353"/>
                  <a:pt x="10800" y="11906"/>
                </a:cubicBezTo>
                <a:lnTo>
                  <a:pt x="10800" y="20494"/>
                </a:lnTo>
                <a:cubicBezTo>
                  <a:pt x="10800" y="210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1"/>
          <p:cNvSpPr/>
          <p:nvPr/>
        </p:nvSpPr>
        <p:spPr>
          <a:xfrm>
            <a:off x="1125720" y="1689120"/>
            <a:ext cx="1636200" cy="45972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2"/>
          <p:cNvSpPr/>
          <p:nvPr/>
        </p:nvSpPr>
        <p:spPr>
          <a:xfrm>
            <a:off x="1439640" y="296244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Левая фигурная скобка 23"/>
          <p:cNvSpPr/>
          <p:nvPr/>
        </p:nvSpPr>
        <p:spPr>
          <a:xfrm>
            <a:off x="2765520" y="1349280"/>
            <a:ext cx="145800" cy="11876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187640"/>
              <a:gd name="textAreaBottom" fmla="*/ 1166400 h 11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0"/>
                  <a:pt x="10800" y="1240"/>
                </a:cubicBezTo>
                <a:lnTo>
                  <a:pt x="10800" y="9560"/>
                </a:lnTo>
                <a:cubicBezTo>
                  <a:pt x="10800" y="10180"/>
                  <a:pt x="5400" y="10800"/>
                  <a:pt x="0" y="10800"/>
                </a:cubicBezTo>
                <a:cubicBezTo>
                  <a:pt x="5400" y="10800"/>
                  <a:pt x="10800" y="11420"/>
                  <a:pt x="10800" y="12040"/>
                </a:cubicBezTo>
                <a:lnTo>
                  <a:pt x="10800" y="20360"/>
                </a:lnTo>
                <a:cubicBezTo>
                  <a:pt x="10800" y="209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31E8-C145-4876-8BCD-F3B309F47BC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"/>
          <p:cNvSpPr/>
          <p:nvPr/>
        </p:nvSpPr>
        <p:spPr>
          <a:xfrm>
            <a:off x="417600" y="868320"/>
            <a:ext cx="8381880" cy="332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 = TRoad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( road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.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сле 1 шаг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: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ar.X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.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ar.X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34"/>
          <p:cNvGrpSpPr/>
          <p:nvPr/>
        </p:nvGrpSpPr>
        <p:grpSpPr>
          <a:xfrm>
            <a:off x="5459400" y="1728720"/>
            <a:ext cx="3025800" cy="663480"/>
            <a:chOff x="5459400" y="1728720"/>
            <a:chExt cx="3025800" cy="663480"/>
          </a:xfrm>
        </p:grpSpPr>
        <p:sp>
          <p:nvSpPr>
            <p:cNvPr id="520" name="Text Box 32"/>
            <p:cNvSpPr/>
            <p:nvPr/>
          </p:nvSpPr>
          <p:spPr>
            <a:xfrm>
              <a:off x="5964120" y="1828800"/>
              <a:ext cx="2521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3"/>
            <p:cNvSpPr/>
            <p:nvPr/>
          </p:nvSpPr>
          <p:spPr>
            <a:xfrm>
              <a:off x="5459400" y="1728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Прямоугольник 7"/>
          <p:cNvSpPr/>
          <p:nvPr/>
        </p:nvSpPr>
        <p:spPr>
          <a:xfrm>
            <a:off x="6194880" y="2352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8"/>
          <p:cNvSpPr/>
          <p:nvPr/>
        </p:nvSpPr>
        <p:spPr>
          <a:xfrm>
            <a:off x="7790400" y="2363760"/>
            <a:ext cx="54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Скругленная прямоугольная выноска 9"/>
          <p:cNvSpPr/>
          <p:nvPr/>
        </p:nvSpPr>
        <p:spPr>
          <a:xfrm>
            <a:off x="5354640" y="3735360"/>
            <a:ext cx="2330280" cy="752400"/>
          </a:xfrm>
          <a:prstGeom prst="wedgeRoundRectCallout">
            <a:avLst>
              <a:gd name="adj1" fmla="val 55694"/>
              <a:gd name="adj2" fmla="val 7702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шли до конца дор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10"/>
          <p:cNvSpPr/>
          <p:nvPr/>
        </p:nvSpPr>
        <p:spPr>
          <a:xfrm>
            <a:off x="2403360" y="4348080"/>
            <a:ext cx="521028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ov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X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oad.leng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сив маш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5A8C-D881-49FA-AA4E-8F96EDBE63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"/>
          <p:cNvSpPr/>
          <p:nvPr/>
        </p:nvSpPr>
        <p:spPr>
          <a:xfrm>
            <a:off x="417600" y="879480"/>
            <a:ext cx="8381880" cy="405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appe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Car(road, i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i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100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ша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ля каждой ма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s[i].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сле 100 шагов: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ars[i].X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 этом хорошего и плохог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FF48-1C5C-4087-BABD-B13C54F77D6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892080" y="1417680"/>
            <a:ext cx="771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программа – простая и поня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ы могут разрабатывать разные программисты независимо друг от друга (+интерфейс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ное использование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8"/>
          <p:cNvGrpSpPr/>
          <p:nvPr/>
        </p:nvGrpSpPr>
        <p:grpSpPr>
          <a:xfrm>
            <a:off x="406440" y="1441440"/>
            <a:ext cx="395280" cy="396720"/>
            <a:chOff x="406440" y="1441440"/>
            <a:chExt cx="395280" cy="396720"/>
          </a:xfrm>
        </p:grpSpPr>
        <p:sp>
          <p:nvSpPr>
            <p:cNvPr id="533" name="Oval 9"/>
            <p:cNvSpPr/>
            <p:nvPr/>
          </p:nvSpPr>
          <p:spPr>
            <a:xfrm>
              <a:off x="406440" y="1441440"/>
              <a:ext cx="3952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Group 10"/>
            <p:cNvGrpSpPr/>
            <p:nvPr/>
          </p:nvGrpSpPr>
          <p:grpSpPr>
            <a:xfrm>
              <a:off x="455400" y="1487520"/>
              <a:ext cx="297000" cy="296640"/>
              <a:chOff x="455400" y="1487520"/>
              <a:chExt cx="297000" cy="296640"/>
            </a:xfrm>
          </p:grpSpPr>
          <p:sp>
            <p:nvSpPr>
              <p:cNvPr id="535" name="Rectangle 11"/>
              <p:cNvSpPr/>
              <p:nvPr/>
            </p:nvSpPr>
            <p:spPr>
              <a:xfrm>
                <a:off x="455400" y="1587600"/>
                <a:ext cx="29700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2"/>
              <p:cNvSpPr/>
              <p:nvPr/>
            </p:nvSpPr>
            <p:spPr>
              <a:xfrm rot="16200000">
                <a:off x="456840" y="1587600"/>
                <a:ext cx="29664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13"/>
            <p:cNvSpPr/>
            <p:nvPr/>
          </p:nvSpPr>
          <p:spPr>
            <a:xfrm>
              <a:off x="455400" y="1490760"/>
              <a:ext cx="297000" cy="29844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4"/>
          <p:cNvGrpSpPr/>
          <p:nvPr/>
        </p:nvGrpSpPr>
        <p:grpSpPr>
          <a:xfrm>
            <a:off x="406440" y="3062160"/>
            <a:ext cx="395280" cy="395280"/>
            <a:chOff x="406440" y="3062160"/>
            <a:chExt cx="395280" cy="395280"/>
          </a:xfrm>
        </p:grpSpPr>
        <p:sp>
          <p:nvSpPr>
            <p:cNvPr id="539" name="Oval 15"/>
            <p:cNvSpPr/>
            <p:nvPr/>
          </p:nvSpPr>
          <p:spPr>
            <a:xfrm>
              <a:off x="406440" y="306216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6"/>
            <p:cNvSpPr/>
            <p:nvPr/>
          </p:nvSpPr>
          <p:spPr>
            <a:xfrm>
              <a:off x="457200" y="321300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Rectangle 17"/>
          <p:cNvSpPr/>
          <p:nvPr/>
        </p:nvSpPr>
        <p:spPr>
          <a:xfrm>
            <a:off x="892080" y="302904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эффективно для небольш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4"/>
          <p:cNvSpPr/>
          <p:nvPr/>
        </p:nvSpPr>
        <p:spPr>
          <a:xfrm>
            <a:off x="393840" y="870120"/>
            <a:ext cx="787212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О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метод разработ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грам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BF07-E638-42A2-A0B4-AB47C1767A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ить класс Попугай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ro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ый умеет говорить какую-то фразу, заранее определённую при описании класс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               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ивет, друзья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369720" y="323388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фраза задавалась при создании конкретного экземпля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1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2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1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2.say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AA70-9CA9-4983-BD26-EA195E56389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369720" y="809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фразу можно было изменять во время работы програм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newTex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69720" y="3446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зове  метода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ourier New"/>
              </a:rPr>
              <a:t>say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но было задать число повтор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newTex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3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 Мяу! 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6EE7-EF6A-4647-AD51-8A7BAF6736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E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можно было добавлять фразы в набор фраз, которые знает попугай. При вызове метода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ourier New"/>
              </a:rPr>
              <a:t>sa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пугай выдаёт случайную фразу из своего наб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learn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 Мяу! 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9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крытие внутреннего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973B-8BB3-478D-992F-500921C5472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чем скрывать внутреннее устройств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86E6-05EA-4141-A497-5F2CA363ACC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4"/>
          <p:cNvSpPr/>
          <p:nvPr/>
        </p:nvSpPr>
        <p:spPr>
          <a:xfrm>
            <a:off x="397080" y="80964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бъектная  модель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Группа 8"/>
          <p:cNvGrpSpPr/>
          <p:nvPr/>
        </p:nvGrpSpPr>
        <p:grpSpPr>
          <a:xfrm>
            <a:off x="606600" y="1303200"/>
            <a:ext cx="1358640" cy="1359000"/>
            <a:chOff x="606600" y="1303200"/>
            <a:chExt cx="1358640" cy="1359000"/>
          </a:xfrm>
        </p:grpSpPr>
        <p:sp>
          <p:nvSpPr>
            <p:cNvPr id="561" name="Овал 6"/>
            <p:cNvSpPr/>
            <p:nvPr/>
          </p:nvSpPr>
          <p:spPr>
            <a:xfrm>
              <a:off x="606600" y="1303200"/>
              <a:ext cx="1358640" cy="1359000"/>
            </a:xfrm>
            <a:prstGeom prst="ellipse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Овал 7"/>
            <p:cNvGrpSpPr/>
            <p:nvPr/>
          </p:nvGrpSpPr>
          <p:grpSpPr>
            <a:xfrm>
              <a:off x="871920" y="1566360"/>
              <a:ext cx="829080" cy="829080"/>
              <a:chOff x="871920" y="1566360"/>
              <a:chExt cx="829080" cy="829080"/>
            </a:xfrm>
          </p:grpSpPr>
          <p:pic>
            <p:nvPicPr>
              <p:cNvPr id="563" name="Овал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71920" y="1566360"/>
                <a:ext cx="82908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997560" y="1694160"/>
                <a:ext cx="57672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3399"/>
                    </a:solidFill>
                    <a:latin typeface="Arial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Группа 9"/>
          <p:cNvGrpSpPr/>
          <p:nvPr/>
        </p:nvGrpSpPr>
        <p:grpSpPr>
          <a:xfrm>
            <a:off x="3965400" y="1547640"/>
            <a:ext cx="1005120" cy="1005120"/>
            <a:chOff x="3965400" y="1547640"/>
            <a:chExt cx="1005120" cy="1005120"/>
          </a:xfrm>
        </p:grpSpPr>
        <p:sp>
          <p:nvSpPr>
            <p:cNvPr id="566" name="Овал 10"/>
            <p:cNvSpPr/>
            <p:nvPr/>
          </p:nvSpPr>
          <p:spPr>
            <a:xfrm>
              <a:off x="3965400" y="1547640"/>
              <a:ext cx="1005120" cy="1005120"/>
            </a:xfrm>
            <a:prstGeom prst="ellipse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Овал 11"/>
            <p:cNvGrpSpPr/>
            <p:nvPr/>
          </p:nvGrpSpPr>
          <p:grpSpPr>
            <a:xfrm>
              <a:off x="4071960" y="1657800"/>
              <a:ext cx="792720" cy="786600"/>
              <a:chOff x="4071960" y="1657800"/>
              <a:chExt cx="792720" cy="786600"/>
            </a:xfrm>
          </p:grpSpPr>
          <p:pic>
            <p:nvPicPr>
              <p:cNvPr id="568" name="Овал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071960" y="1657800"/>
                <a:ext cx="792720" cy="78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4192920" y="1775160"/>
                <a:ext cx="54972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99"/>
                    </a:solidFill>
                    <a:latin typeface="Arial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0" name="Прямоугольник 12"/>
          <p:cNvSpPr/>
          <p:nvPr/>
        </p:nvSpPr>
        <p:spPr>
          <a:xfrm>
            <a:off x="2029320" y="12193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фей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Двойная стрелка влево/вправо 13"/>
          <p:cNvSpPr/>
          <p:nvPr/>
        </p:nvSpPr>
        <p:spPr>
          <a:xfrm>
            <a:off x="2063880" y="1892160"/>
            <a:ext cx="1865160" cy="24444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олилиния 14"/>
          <p:cNvSpPr/>
          <p:nvPr/>
        </p:nvSpPr>
        <p:spPr>
          <a:xfrm>
            <a:off x="1828800" y="1619280"/>
            <a:ext cx="2286000" cy="14616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286000" h="146050">
                <a:moveTo>
                  <a:pt x="0" y="139700"/>
                </a:moveTo>
                <a:lnTo>
                  <a:pt x="279400" y="0"/>
                </a:lnTo>
                <a:lnTo>
                  <a:pt x="2051050" y="0"/>
                </a:lnTo>
                <a:lnTo>
                  <a:pt x="2286000" y="1460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946080" y="2830680"/>
            <a:ext cx="771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внутренни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входных данных на коррек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устройства с сохранением интерфей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60520" y="2854440"/>
            <a:ext cx="395280" cy="396720"/>
            <a:chOff x="560520" y="2854440"/>
            <a:chExt cx="395280" cy="396720"/>
          </a:xfrm>
        </p:grpSpPr>
        <p:sp>
          <p:nvSpPr>
            <p:cNvPr id="575" name="Oval 9"/>
            <p:cNvSpPr/>
            <p:nvPr/>
          </p:nvSpPr>
          <p:spPr>
            <a:xfrm>
              <a:off x="560520" y="2854440"/>
              <a:ext cx="3952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10"/>
            <p:cNvGrpSpPr/>
            <p:nvPr/>
          </p:nvGrpSpPr>
          <p:grpSpPr>
            <a:xfrm>
              <a:off x="609480" y="2900520"/>
              <a:ext cx="297000" cy="296640"/>
              <a:chOff x="609480" y="2900520"/>
              <a:chExt cx="297000" cy="296640"/>
            </a:xfrm>
          </p:grpSpPr>
          <p:sp>
            <p:nvSpPr>
              <p:cNvPr id="577" name="Rectangle 11"/>
              <p:cNvSpPr/>
              <p:nvPr/>
            </p:nvSpPr>
            <p:spPr>
              <a:xfrm>
                <a:off x="609480" y="3000600"/>
                <a:ext cx="29700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2"/>
              <p:cNvSpPr/>
              <p:nvPr/>
            </p:nvSpPr>
            <p:spPr>
              <a:xfrm rot="16200000">
                <a:off x="610920" y="3000600"/>
                <a:ext cx="29664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Freeform 13"/>
            <p:cNvSpPr/>
            <p:nvPr/>
          </p:nvSpPr>
          <p:spPr>
            <a:xfrm>
              <a:off x="609480" y="2903760"/>
              <a:ext cx="297000" cy="29844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Прямоугольник 23"/>
          <p:cNvSpPr/>
          <p:nvPr/>
        </p:nvSpPr>
        <p:spPr>
          <a:xfrm>
            <a:off x="584280" y="4145040"/>
            <a:ext cx="82422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капс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помещение в капсулу») – скрытие внутреннего устройства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34"/>
          <p:cNvGrpSpPr/>
          <p:nvPr/>
        </p:nvGrpSpPr>
        <p:grpSpPr>
          <a:xfrm>
            <a:off x="865080" y="5248440"/>
            <a:ext cx="6657840" cy="925560"/>
            <a:chOff x="865080" y="5248440"/>
            <a:chExt cx="6657840" cy="925560"/>
          </a:xfrm>
        </p:grpSpPr>
        <p:sp>
          <p:nvSpPr>
            <p:cNvPr id="582" name="Text Box 32"/>
            <p:cNvSpPr/>
            <p:nvPr/>
          </p:nvSpPr>
          <p:spPr>
            <a:xfrm>
              <a:off x="1369800" y="5348520"/>
              <a:ext cx="6153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акже объединение данных и методов в одном объект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3"/>
            <p:cNvSpPr/>
            <p:nvPr/>
          </p:nvSpPr>
          <p:spPr>
            <a:xfrm>
              <a:off x="865080" y="5248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ита внутренни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3E40-DCFF-4C40-A401-3CBA87F9E93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352440" y="824040"/>
            <a:ext cx="1684440" cy="21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944800" y="946080"/>
          <a:ext cx="2049480" cy="3038400"/>
        </p:xfrm>
        <a:graphic>
          <a:graphicData uri="http://schemas.openxmlformats.org/drawingml/2006/table">
            <a:tbl>
              <a:tblPr/>
              <a:tblGrid>
                <a:gridCol w="2049480"/>
              </a:tblGrid>
              <a:tr h="420840">
                <a:tc>
                  <a:txBody>
                    <a:bodyPr lIns="116280" rIns="11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618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нер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стр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л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7586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сп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игр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Прямоугольник 6"/>
          <p:cNvSpPr/>
          <p:nvPr/>
        </p:nvSpPr>
        <p:spPr>
          <a:xfrm>
            <a:off x="2813040" y="2567160"/>
            <a:ext cx="2254320" cy="13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34"/>
          <p:cNvGrpSpPr/>
          <p:nvPr/>
        </p:nvGrpSpPr>
        <p:grpSpPr>
          <a:xfrm>
            <a:off x="5419800" y="887400"/>
            <a:ext cx="3359160" cy="925560"/>
            <a:chOff x="5419800" y="887400"/>
            <a:chExt cx="3359160" cy="925560"/>
          </a:xfrm>
        </p:grpSpPr>
        <p:sp>
          <p:nvSpPr>
            <p:cNvPr id="590" name="Text Box 32"/>
            <p:cNvSpPr/>
            <p:nvPr/>
          </p:nvSpPr>
          <p:spPr>
            <a:xfrm>
              <a:off x="5924520" y="987480"/>
              <a:ext cx="2854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изменять вучную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33"/>
            <p:cNvSpPr/>
            <p:nvPr/>
          </p:nvSpPr>
          <p:spPr>
            <a:xfrm>
              <a:off x="5419800" y="887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Прямоугольник 10"/>
          <p:cNvSpPr/>
          <p:nvPr/>
        </p:nvSpPr>
        <p:spPr>
          <a:xfrm>
            <a:off x="2994120" y="1382760"/>
            <a:ext cx="1955880" cy="115236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11"/>
          <p:cNvSpPr/>
          <p:nvPr/>
        </p:nvSpPr>
        <p:spPr>
          <a:xfrm>
            <a:off x="5578560" y="2009880"/>
            <a:ext cx="2843280" cy="130788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12"/>
          <p:cNvSpPr/>
          <p:nvPr/>
        </p:nvSpPr>
        <p:spPr>
          <a:xfrm>
            <a:off x="5578560" y="3487680"/>
            <a:ext cx="2843280" cy="97812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13"/>
          <p:cNvSpPr/>
          <p:nvPr/>
        </p:nvSpPr>
        <p:spPr>
          <a:xfrm>
            <a:off x="5578560" y="4678200"/>
            <a:ext cx="2843280" cy="130824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иг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олилиния 14"/>
          <p:cNvSpPr/>
          <p:nvPr/>
        </p:nvSpPr>
        <p:spPr>
          <a:xfrm>
            <a:off x="3859200" y="2254320"/>
            <a:ext cx="1679760" cy="61596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олилиния 15"/>
          <p:cNvSpPr/>
          <p:nvPr/>
        </p:nvSpPr>
        <p:spPr>
          <a:xfrm flipV="1">
            <a:off x="4210200" y="3688560"/>
            <a:ext cx="1328760" cy="1190520"/>
          </a:xfrm>
          <a:custGeom>
            <a:avLst/>
            <a:gdLst>
              <a:gd name="textAreaLeft" fmla="*/ 0 w 1328760"/>
              <a:gd name="textAreaRight" fmla="*/ 1329120 w 1328760"/>
              <a:gd name="textAreaTop" fmla="*/ -360 h 1190520"/>
              <a:gd name="textAreaBottom" fmla="*/ 1190520 h 119052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олилиния 16"/>
          <p:cNvSpPr/>
          <p:nvPr/>
        </p:nvSpPr>
        <p:spPr>
          <a:xfrm flipV="1">
            <a:off x="4062240" y="3252240"/>
            <a:ext cx="1476720" cy="447480"/>
          </a:xfrm>
          <a:custGeom>
            <a:avLst/>
            <a:gdLst>
              <a:gd name="textAreaLeft" fmla="*/ 0 w 1476720"/>
              <a:gd name="textAreaRight" fmla="*/ 1477080 w 1476720"/>
              <a:gd name="textAreaTop" fmla="*/ 0 h 447480"/>
              <a:gd name="textAreaBottom" fmla="*/ 447480 h 44748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4"/>
          <p:cNvGrpSpPr/>
          <p:nvPr/>
        </p:nvGrpSpPr>
        <p:grpSpPr>
          <a:xfrm>
            <a:off x="1008000" y="5045040"/>
            <a:ext cx="4159440" cy="925560"/>
            <a:chOff x="1008000" y="5045040"/>
            <a:chExt cx="4159440" cy="925560"/>
          </a:xfrm>
        </p:grpSpPr>
        <p:sp>
          <p:nvSpPr>
            <p:cNvPr id="600" name="Text Box 32"/>
            <p:cNvSpPr/>
            <p:nvPr/>
          </p:nvSpPr>
          <p:spPr>
            <a:xfrm>
              <a:off x="1512720" y="5145120"/>
              <a:ext cx="36547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еняем состояние только через метод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3"/>
            <p:cNvSpPr/>
            <p:nvPr/>
          </p:nvSpPr>
          <p:spPr>
            <a:xfrm>
              <a:off x="1008000" y="5045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Левая фигурная скобка 20"/>
          <p:cNvSpPr/>
          <p:nvPr/>
        </p:nvSpPr>
        <p:spPr>
          <a:xfrm>
            <a:off x="2765520" y="2568600"/>
            <a:ext cx="145800" cy="13334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333440"/>
              <a:gd name="textAreaBottom" fmla="*/ 1312200 h 13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6"/>
                </a:cubicBezTo>
                <a:lnTo>
                  <a:pt x="10800" y="9694"/>
                </a:lnTo>
                <a:cubicBezTo>
                  <a:pt x="10800" y="10247"/>
                  <a:pt x="5400" y="10800"/>
                  <a:pt x="0" y="10800"/>
                </a:cubicBezTo>
                <a:cubicBezTo>
                  <a:pt x="5400" y="10800"/>
                  <a:pt x="10800" y="11353"/>
                  <a:pt x="10800" y="11906"/>
                </a:cubicBezTo>
                <a:lnTo>
                  <a:pt x="10800" y="20494"/>
                </a:lnTo>
                <a:cubicBezTo>
                  <a:pt x="10800" y="210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21"/>
          <p:cNvSpPr/>
          <p:nvPr/>
        </p:nvSpPr>
        <p:spPr>
          <a:xfrm>
            <a:off x="1125720" y="1689120"/>
            <a:ext cx="1636200" cy="45972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22"/>
          <p:cNvSpPr/>
          <p:nvPr/>
        </p:nvSpPr>
        <p:spPr>
          <a:xfrm>
            <a:off x="1439640" y="296244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Левая фигурная скобка 23"/>
          <p:cNvSpPr/>
          <p:nvPr/>
        </p:nvSpPr>
        <p:spPr>
          <a:xfrm>
            <a:off x="2765520" y="1349280"/>
            <a:ext cx="145800" cy="11876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187640"/>
              <a:gd name="textAreaBottom" fmla="*/ 1166400 h 11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0"/>
                  <a:pt x="10800" y="1240"/>
                </a:cubicBezTo>
                <a:lnTo>
                  <a:pt x="10800" y="9560"/>
                </a:lnTo>
                <a:cubicBezTo>
                  <a:pt x="10800" y="10180"/>
                  <a:pt x="5400" y="10800"/>
                  <a:pt x="0" y="10800"/>
                </a:cubicBezTo>
                <a:cubicBezTo>
                  <a:pt x="5400" y="10800"/>
                  <a:pt x="10800" y="11420"/>
                  <a:pt x="10800" y="12040"/>
                </a:cubicBezTo>
                <a:lnTo>
                  <a:pt x="10800" y="20360"/>
                </a:lnTo>
                <a:cubicBezTo>
                  <a:pt x="10800" y="209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"/>
          <p:cNvSpPr/>
          <p:nvPr/>
        </p:nvSpPr>
        <p:spPr>
          <a:xfrm>
            <a:off x="417600" y="386820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класс «пер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786E-40EF-45D5-9584-D880EC738F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"/>
          <p:cNvSpPr/>
          <p:nvPr/>
        </p:nvSpPr>
        <p:spPr>
          <a:xfrm>
            <a:off x="417600" y="95508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Скругленная прямоугольная выноска 4"/>
          <p:cNvSpPr/>
          <p:nvPr/>
        </p:nvSpPr>
        <p:spPr>
          <a:xfrm>
            <a:off x="3336840" y="2320920"/>
            <a:ext cx="495360" cy="365040"/>
          </a:xfrm>
          <a:prstGeom prst="wedgeRoundRectCallout">
            <a:avLst>
              <a:gd name="adj1" fmla="val 45402"/>
              <a:gd name="adj2" fmla="val -130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Скругленная прямоугольная выноска 5"/>
          <p:cNvSpPr/>
          <p:nvPr/>
        </p:nvSpPr>
        <p:spPr>
          <a:xfrm>
            <a:off x="3956040" y="2320920"/>
            <a:ext cx="495360" cy="365040"/>
          </a:xfrm>
          <a:prstGeom prst="wedgeRoundRectCallout">
            <a:avLst>
              <a:gd name="adj1" fmla="val -9458"/>
              <a:gd name="adj2" fmla="val -142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Скругленная прямоугольная выноска 6"/>
          <p:cNvSpPr/>
          <p:nvPr/>
        </p:nvSpPr>
        <p:spPr>
          <a:xfrm>
            <a:off x="4576680" y="2320920"/>
            <a:ext cx="495360" cy="365040"/>
          </a:xfrm>
          <a:prstGeom prst="wedgeRoundRectCallout">
            <a:avLst>
              <a:gd name="adj1" fmla="val -51523"/>
              <a:gd name="adj2" fmla="val -139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34"/>
          <p:cNvGrpSpPr/>
          <p:nvPr/>
        </p:nvGrpSpPr>
        <p:grpSpPr>
          <a:xfrm>
            <a:off x="409680" y="2743200"/>
            <a:ext cx="8327520" cy="925560"/>
            <a:chOff x="409680" y="2743200"/>
            <a:chExt cx="8327520" cy="925560"/>
          </a:xfrm>
        </p:grpSpPr>
        <p:sp>
          <p:nvSpPr>
            <p:cNvPr id="614" name="Text Box 32"/>
            <p:cNvSpPr/>
            <p:nvPr/>
          </p:nvSpPr>
          <p:spPr>
            <a:xfrm>
              <a:off x="914040" y="2843280"/>
              <a:ext cx="78231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молчанию все члены класса открыты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в других языках –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3"/>
            <p:cNvSpPr/>
            <p:nvPr/>
          </p:nvSpPr>
          <p:spPr>
            <a:xfrm>
              <a:off x="409680" y="27432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34"/>
          <p:cNvGrpSpPr/>
          <p:nvPr/>
        </p:nvGrpSpPr>
        <p:grpSpPr>
          <a:xfrm>
            <a:off x="5738760" y="4011480"/>
            <a:ext cx="3178080" cy="925560"/>
            <a:chOff x="5738760" y="4011480"/>
            <a:chExt cx="3178080" cy="925560"/>
          </a:xfrm>
        </p:grpSpPr>
        <p:sp>
          <p:nvSpPr>
            <p:cNvPr id="617" name="Text Box 32"/>
            <p:cNvSpPr/>
            <p:nvPr/>
          </p:nvSpPr>
          <p:spPr>
            <a:xfrm>
              <a:off x="6243480" y="4111560"/>
              <a:ext cx="26733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бращаться к полю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5738760" y="40114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Прямоугольник 18"/>
          <p:cNvSpPr/>
          <p:nvPr/>
        </p:nvSpPr>
        <p:spPr>
          <a:xfrm>
            <a:off x="2225520" y="4640400"/>
            <a:ext cx="132408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4"/>
          <p:cNvGrpSpPr/>
          <p:nvPr/>
        </p:nvGrpSpPr>
        <p:grpSpPr>
          <a:xfrm>
            <a:off x="409680" y="5369040"/>
            <a:ext cx="8327520" cy="925560"/>
            <a:chOff x="409680" y="5369040"/>
            <a:chExt cx="8327520" cy="925560"/>
          </a:xfrm>
        </p:grpSpPr>
        <p:sp>
          <p:nvSpPr>
            <p:cNvPr id="621" name="Text Box 32"/>
            <p:cNvSpPr/>
            <p:nvPr/>
          </p:nvSpPr>
          <p:spPr>
            <a:xfrm>
              <a:off x="914040" y="5469120"/>
              <a:ext cx="78231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мена скрытых полей (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чинаются с двух знаков подчёркивани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3"/>
            <p:cNvSpPr/>
            <p:nvPr/>
          </p:nvSpPr>
          <p:spPr>
            <a:xfrm>
              <a:off x="409680" y="5369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06200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Что такое ООП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340E-CE6F-4B13-8E8E-3A5B79CD2AE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класс «пер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3CA5-0A54-416B-B37D-21C42CDAFCE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"/>
          <p:cNvSpPr/>
          <p:nvPr/>
        </p:nvSpPr>
        <p:spPr>
          <a:xfrm>
            <a:off x="449280" y="904680"/>
            <a:ext cx="7972560" cy="3904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000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g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ewColor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000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34"/>
          <p:cNvGrpSpPr/>
          <p:nvPr/>
        </p:nvGrpSpPr>
        <p:grpSpPr>
          <a:xfrm>
            <a:off x="949320" y="5060880"/>
            <a:ext cx="5098680" cy="663480"/>
            <a:chOff x="949320" y="5060880"/>
            <a:chExt cx="5098680" cy="663480"/>
          </a:xfrm>
        </p:grpSpPr>
        <p:sp>
          <p:nvSpPr>
            <p:cNvPr id="627" name="Text Box 32"/>
            <p:cNvSpPr/>
            <p:nvPr/>
          </p:nvSpPr>
          <p:spPr>
            <a:xfrm>
              <a:off x="1453680" y="5160960"/>
              <a:ext cx="4594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щита от неверных данных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949320" y="50608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Прямоугольник 12"/>
          <p:cNvSpPr/>
          <p:nvPr/>
        </p:nvSpPr>
        <p:spPr>
          <a:xfrm>
            <a:off x="797040" y="2081160"/>
            <a:ext cx="4741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g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14"/>
          <p:cNvSpPr/>
          <p:nvPr/>
        </p:nvSpPr>
        <p:spPr>
          <a:xfrm>
            <a:off x="797040" y="2889360"/>
            <a:ext cx="65498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ewColor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00000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Скругленная прямоугольная выноска 11"/>
          <p:cNvSpPr/>
          <p:nvPr/>
        </p:nvSpPr>
        <p:spPr>
          <a:xfrm>
            <a:off x="6192720" y="3743280"/>
            <a:ext cx="2424240" cy="754200"/>
          </a:xfrm>
          <a:prstGeom prst="wedgeRoundRectCallout">
            <a:avLst>
              <a:gd name="adj1" fmla="val -67300"/>
              <a:gd name="adj2" fmla="val -41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шибка, чёрный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Скругленная прямоугольная выноска 15"/>
          <p:cNvSpPr/>
          <p:nvPr/>
        </p:nvSpPr>
        <p:spPr>
          <a:xfrm>
            <a:off x="5532480" y="1849320"/>
            <a:ext cx="2314440" cy="563760"/>
          </a:xfrm>
          <a:prstGeom prst="wedgeRoundRectCallout">
            <a:avLst>
              <a:gd name="adj1" fmla="val -77388"/>
              <a:gd name="adj2" fmla="val 343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Скругленная прямоугольная выноска 16"/>
          <p:cNvSpPr/>
          <p:nvPr/>
        </p:nvSpPr>
        <p:spPr>
          <a:xfrm>
            <a:off x="7021440" y="2541600"/>
            <a:ext cx="1473120" cy="744480"/>
          </a:xfrm>
          <a:prstGeom prst="wedgeRoundRectCallout">
            <a:avLst>
              <a:gd name="adj1" fmla="val -77388"/>
              <a:gd name="adj2" fmla="val 343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6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6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класс «пер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7C6C-3CC8-4B1B-9CB0-EEC7E1056BA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3"/>
          <p:cNvSpPr/>
          <p:nvPr/>
        </p:nvSpPr>
        <p:spPr>
          <a:xfrm>
            <a:off x="392400" y="8190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"/>
          <p:cNvSpPr/>
          <p:nvPr/>
        </p:nvSpPr>
        <p:spPr>
          <a:xfrm>
            <a:off x="417600" y="126324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FFFF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00"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цвет пера: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Скругленная прямоугольная выноска 5"/>
          <p:cNvSpPr/>
          <p:nvPr/>
        </p:nvSpPr>
        <p:spPr>
          <a:xfrm>
            <a:off x="5240160" y="868320"/>
            <a:ext cx="1906920" cy="754200"/>
          </a:xfrm>
          <a:prstGeom prst="wedgeRoundRectCallout">
            <a:avLst>
              <a:gd name="adj1" fmla="val -73000"/>
              <a:gd name="adj2" fmla="val 56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34"/>
          <p:cNvGrpSpPr/>
          <p:nvPr/>
        </p:nvGrpSpPr>
        <p:grpSpPr>
          <a:xfrm>
            <a:off x="954000" y="2660760"/>
            <a:ext cx="3419640" cy="663480"/>
            <a:chOff x="954000" y="2660760"/>
            <a:chExt cx="3419640" cy="663480"/>
          </a:xfrm>
        </p:grpSpPr>
        <p:sp>
          <p:nvSpPr>
            <p:cNvPr id="640" name="Text Box 32"/>
            <p:cNvSpPr/>
            <p:nvPr/>
          </p:nvSpPr>
          <p:spPr>
            <a:xfrm>
              <a:off x="1458720" y="2760840"/>
              <a:ext cx="2914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очень удоб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954000" y="2660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Скругленная прямоугольная выноска 9"/>
          <p:cNvSpPr/>
          <p:nvPr/>
        </p:nvSpPr>
        <p:spPr>
          <a:xfrm>
            <a:off x="5962680" y="2698920"/>
            <a:ext cx="1906560" cy="752400"/>
          </a:xfrm>
          <a:prstGeom prst="wedgeRoundRectCallout">
            <a:avLst>
              <a:gd name="adj1" fmla="val -41949"/>
              <a:gd name="adj2" fmla="val -100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"/>
          <p:cNvSpPr/>
          <p:nvPr/>
        </p:nvSpPr>
        <p:spPr>
          <a:xfrm>
            <a:off x="1171440" y="3770280"/>
            <a:ext cx="6718320" cy="825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FFFF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цвет пера: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с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E1B4-BF5E-4B0F-AE3A-FE24980BF67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"/>
          <p:cNvSpPr/>
          <p:nvPr/>
        </p:nvSpPr>
        <p:spPr>
          <a:xfrm>
            <a:off x="417600" y="2188440"/>
            <a:ext cx="838188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g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__getCo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setColor 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11"/>
          <p:cNvSpPr/>
          <p:nvPr/>
        </p:nvSpPr>
        <p:spPr>
          <a:xfrm>
            <a:off x="384120" y="855720"/>
            <a:ext cx="84520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ой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пособ доступа к внутреннему состоянию объекта, имитирующий обращение к его внутренней перемен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12"/>
          <p:cNvSpPr/>
          <p:nvPr/>
        </p:nvSpPr>
        <p:spPr>
          <a:xfrm>
            <a:off x="765000" y="4740120"/>
            <a:ext cx="62852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__getCo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setColo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Скругленная прямоугольная выноска 13"/>
          <p:cNvSpPr/>
          <p:nvPr/>
        </p:nvSpPr>
        <p:spPr>
          <a:xfrm>
            <a:off x="378000" y="5149800"/>
            <a:ext cx="1906560" cy="417600"/>
          </a:xfrm>
          <a:prstGeom prst="wedgeRoundRectCallout">
            <a:avLst>
              <a:gd name="adj1" fmla="val 78990"/>
              <a:gd name="adj2" fmla="val -51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Скругленная прямоугольная выноска 14"/>
          <p:cNvSpPr/>
          <p:nvPr/>
        </p:nvSpPr>
        <p:spPr>
          <a:xfrm>
            <a:off x="6445080" y="4492800"/>
            <a:ext cx="2273400" cy="419040"/>
          </a:xfrm>
          <a:prstGeom prst="wedgeRoundRectCallout">
            <a:avLst>
              <a:gd name="adj1" fmla="val -68078"/>
              <a:gd name="adj2" fmla="val 4399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Скругленная прямоугольная выноска 15"/>
          <p:cNvSpPr/>
          <p:nvPr/>
        </p:nvSpPr>
        <p:spPr>
          <a:xfrm>
            <a:off x="6610320" y="5095800"/>
            <a:ext cx="2273400" cy="419040"/>
          </a:xfrm>
          <a:prstGeom prst="wedgeRoundRectCallout">
            <a:avLst>
              <a:gd name="adj1" fmla="val -64199"/>
              <a:gd name="adj2" fmla="val 5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"/>
          <p:cNvSpPr/>
          <p:nvPr/>
        </p:nvSpPr>
        <p:spPr>
          <a:xfrm>
            <a:off x="1916280" y="5662440"/>
            <a:ext cx="6802200" cy="825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FFFF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цвет пера: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с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нение внутреннего устр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919B-4FC4-494A-8C6C-0E9B7991FC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3"/>
          <p:cNvSpPr/>
          <p:nvPr/>
        </p:nvSpPr>
        <p:spPr>
          <a:xfrm>
            <a:off x="476280" y="1252440"/>
            <a:ext cx="8477280" cy="4346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getColor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06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__colo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Color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ewColor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ewColor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__getColor, __setCo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4"/>
          <p:cNvSpPr/>
          <p:nvPr/>
        </p:nvSpPr>
        <p:spPr>
          <a:xfrm>
            <a:off x="402120" y="81900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Удобнее хранить цвет в вид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34"/>
          <p:cNvGrpSpPr/>
          <p:nvPr/>
        </p:nvGrpSpPr>
        <p:grpSpPr>
          <a:xfrm>
            <a:off x="628560" y="5784840"/>
            <a:ext cx="4759200" cy="663480"/>
            <a:chOff x="628560" y="5784840"/>
            <a:chExt cx="4759200" cy="663480"/>
          </a:xfrm>
        </p:grpSpPr>
        <p:sp>
          <p:nvSpPr>
            <p:cNvPr id="658" name="Text Box 32"/>
            <p:cNvSpPr/>
            <p:nvPr/>
          </p:nvSpPr>
          <p:spPr>
            <a:xfrm>
              <a:off x="1132920" y="5884920"/>
              <a:ext cx="4254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терфейс не изменилс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33"/>
            <p:cNvSpPr/>
            <p:nvPr/>
          </p:nvSpPr>
          <p:spPr>
            <a:xfrm>
              <a:off x="628560" y="5784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Скругленная прямоугольная выноска 10"/>
          <p:cNvSpPr/>
          <p:nvPr/>
        </p:nvSpPr>
        <p:spPr>
          <a:xfrm>
            <a:off x="4741920" y="1986120"/>
            <a:ext cx="1233360" cy="417240"/>
          </a:xfrm>
          <a:prstGeom prst="wedgeRoundRectCallout">
            <a:avLst>
              <a:gd name="adj1" fmla="val -106388"/>
              <a:gd name="adj2" fmla="val 27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Скругленная прямоугольная выноска 14"/>
          <p:cNvSpPr/>
          <p:nvPr/>
        </p:nvSpPr>
        <p:spPr>
          <a:xfrm>
            <a:off x="5102280" y="3984480"/>
            <a:ext cx="1235160" cy="417600"/>
          </a:xfrm>
          <a:prstGeom prst="wedgeRoundRectCallout">
            <a:avLst>
              <a:gd name="adj1" fmla="val -106388"/>
              <a:gd name="adj2" fmla="val 27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Скругленная прямоугольная выноска 15"/>
          <p:cNvSpPr/>
          <p:nvPr/>
        </p:nvSpPr>
        <p:spPr>
          <a:xfrm>
            <a:off x="7304040" y="4176720"/>
            <a:ext cx="1233360" cy="415800"/>
          </a:xfrm>
          <a:prstGeom prst="wedgeRoundRectCallout">
            <a:avLst>
              <a:gd name="adj1" fmla="val -108972"/>
              <a:gd name="adj2" fmla="val 8181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6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е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h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E831-25DA-449C-8883-BA1594ABD79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4"/>
          <p:cNvSpPr/>
          <p:nvPr/>
        </p:nvSpPr>
        <p:spPr>
          <a:xfrm>
            <a:off x="416520" y="819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Целое – в шестнадцатеричную запи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Группа 28"/>
          <p:cNvGrpSpPr/>
          <p:nvPr/>
        </p:nvGrpSpPr>
        <p:grpSpPr>
          <a:xfrm>
            <a:off x="744480" y="3571920"/>
            <a:ext cx="2922480" cy="531720"/>
            <a:chOff x="744480" y="3571920"/>
            <a:chExt cx="2922480" cy="531720"/>
          </a:xfrm>
        </p:grpSpPr>
        <p:sp>
          <p:nvSpPr>
            <p:cNvPr id="667" name="Rectangle 5"/>
            <p:cNvSpPr/>
            <p:nvPr/>
          </p:nvSpPr>
          <p:spPr>
            <a:xfrm>
              <a:off x="744480" y="3573360"/>
              <a:ext cx="14983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5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5"/>
            <p:cNvSpPr/>
            <p:nvPr/>
          </p:nvSpPr>
          <p:spPr>
            <a:xfrm>
              <a:off x="2104920" y="3571920"/>
              <a:ext cx="15620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urier New"/>
                  <a:ea typeface="Courier New"/>
                </a:rPr>
                <a:t>"</a:t>
              </a:r>
              <a:r>
                <a:rPr b="1" lang="en-US" sz="2800" spc="-1" strike="noStrike">
                  <a:solidFill>
                    <a:srgbClr val="c00000"/>
                  </a:solidFill>
                  <a:latin typeface="Courier New"/>
                  <a:ea typeface="Courier New"/>
                </a:rPr>
                <a:t>FF"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Rectangle 5"/>
          <p:cNvSpPr/>
          <p:nvPr/>
        </p:nvSpPr>
        <p:spPr>
          <a:xfrm>
            <a:off x="3327480" y="3560760"/>
            <a:ext cx="1935000" cy="531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0000FF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Скругленная прямоугольная выноска 29"/>
          <p:cNvSpPr/>
          <p:nvPr/>
        </p:nvSpPr>
        <p:spPr>
          <a:xfrm>
            <a:off x="5867280" y="3570120"/>
            <a:ext cx="2573280" cy="479520"/>
          </a:xfrm>
          <a:prstGeom prst="wedgeRoundRectCallout">
            <a:avLst>
              <a:gd name="adj1" fmla="val -77962"/>
              <a:gd name="adj2" fmla="val -734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5520" y="1266840"/>
            <a:ext cx="4730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6711935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FF00FF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24"/>
          <p:cNvSpPr/>
          <p:nvPr/>
        </p:nvSpPr>
        <p:spPr>
          <a:xfrm>
            <a:off x="748800" y="1744560"/>
            <a:ext cx="4191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71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26"/>
          <p:cNvSpPr/>
          <p:nvPr/>
        </p:nvSpPr>
        <p:spPr>
          <a:xfrm>
            <a:off x="750240" y="4222800"/>
            <a:ext cx="4557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71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06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34"/>
          <p:cNvGrpSpPr/>
          <p:nvPr/>
        </p:nvGrpSpPr>
        <p:grpSpPr>
          <a:xfrm>
            <a:off x="5700600" y="1830240"/>
            <a:ext cx="2529000" cy="663480"/>
            <a:chOff x="5700600" y="1830240"/>
            <a:chExt cx="2529000" cy="663480"/>
          </a:xfrm>
        </p:grpSpPr>
        <p:sp>
          <p:nvSpPr>
            <p:cNvPr id="675" name="Text Box 32"/>
            <p:cNvSpPr/>
            <p:nvPr/>
          </p:nvSpPr>
          <p:spPr>
            <a:xfrm>
              <a:off x="6205320" y="1930320"/>
              <a:ext cx="2024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33"/>
            <p:cNvSpPr/>
            <p:nvPr/>
          </p:nvSpPr>
          <p:spPr>
            <a:xfrm>
              <a:off x="5700600" y="1830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Скругленная прямоугольная выноска 34"/>
          <p:cNvSpPr/>
          <p:nvPr/>
        </p:nvSpPr>
        <p:spPr>
          <a:xfrm>
            <a:off x="2327400" y="2793960"/>
            <a:ext cx="3541680" cy="682560"/>
          </a:xfrm>
          <a:prstGeom prst="wedgeRoundRectCallout">
            <a:avLst>
              <a:gd name="adj1" fmla="val -47787"/>
              <a:gd name="adj2" fmla="val -101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естнадцатеричной сис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Скругленная прямоугольная выноска 35"/>
          <p:cNvSpPr/>
          <p:nvPr/>
        </p:nvSpPr>
        <p:spPr>
          <a:xfrm>
            <a:off x="563400" y="5272200"/>
            <a:ext cx="1860840" cy="1033200"/>
          </a:xfrm>
          <a:prstGeom prst="wedgeRoundRectCallout">
            <a:avLst>
              <a:gd name="adj1" fmla="val 53888"/>
              <a:gd name="adj2" fmla="val -8240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ь нулями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Скругленная прямоугольная выноска 36"/>
          <p:cNvSpPr/>
          <p:nvPr/>
        </p:nvSpPr>
        <p:spPr>
          <a:xfrm>
            <a:off x="2593800" y="5272200"/>
            <a:ext cx="1713240" cy="757080"/>
          </a:xfrm>
          <a:prstGeom prst="wedgeRoundRectCallout">
            <a:avLst>
              <a:gd name="adj1" fmla="val -41925"/>
              <a:gd name="adj2" fmla="val -948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ь 6 поз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е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he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CE58-5226-435A-8B24-DEAA1D9D76D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382680" y="830160"/>
            <a:ext cx="4732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FF00FF"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1671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13"/>
          <p:cNvSpPr/>
          <p:nvPr/>
        </p:nvSpPr>
        <p:spPr>
          <a:xfrm>
            <a:off x="650520" y="1415880"/>
            <a:ext cx="3545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FF00FF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Hex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Скругленная прямоугольная выноска 14"/>
          <p:cNvSpPr/>
          <p:nvPr/>
        </p:nvSpPr>
        <p:spPr>
          <a:xfrm>
            <a:off x="3581280" y="2444760"/>
            <a:ext cx="1766880" cy="744480"/>
          </a:xfrm>
          <a:prstGeom prst="wedgeRoundRectCallout">
            <a:avLst>
              <a:gd name="adj1" fmla="val -43953"/>
              <a:gd name="adj2" fmla="val -93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о «только для чте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0BCF-EF3D-4ED9-B21F-EEAB1003684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3"/>
          <p:cNvSpPr/>
          <p:nvPr/>
        </p:nvSpPr>
        <p:spPr>
          <a:xfrm>
            <a:off x="409680" y="1305000"/>
            <a:ext cx="69800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v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Скругленная прямоугольная выноска 5"/>
          <p:cNvSpPr/>
          <p:nvPr/>
        </p:nvSpPr>
        <p:spPr>
          <a:xfrm>
            <a:off x="4997520" y="3263760"/>
            <a:ext cx="3209760" cy="424080"/>
          </a:xfrm>
          <a:prstGeom prst="wedgeRoundRectCallout">
            <a:avLst>
              <a:gd name="adj1" fmla="val -15467"/>
              <a:gd name="adj2" fmla="val -1691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метода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оугольник 4"/>
          <p:cNvSpPr/>
          <p:nvPr/>
        </p:nvSpPr>
        <p:spPr>
          <a:xfrm>
            <a:off x="400320" y="81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корость маши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но только чит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рытие внутреннего устр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D0CA-E0E0-431F-84D6-1CC4892D7CA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2"/>
          <p:cNvGrpSpPr/>
          <p:nvPr/>
        </p:nvGrpSpPr>
        <p:grpSpPr>
          <a:xfrm>
            <a:off x="2540160" y="1565280"/>
            <a:ext cx="3168360" cy="3184560"/>
            <a:chOff x="2540160" y="1565280"/>
            <a:chExt cx="3168360" cy="3184560"/>
          </a:xfrm>
        </p:grpSpPr>
        <p:sp>
          <p:nvSpPr>
            <p:cNvPr id="693" name="AutoShape 3"/>
            <p:cNvSpPr/>
            <p:nvPr/>
          </p:nvSpPr>
          <p:spPr>
            <a:xfrm>
              <a:off x="2540160" y="1565280"/>
              <a:ext cx="3168360" cy="31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Group 4"/>
            <p:cNvGrpSpPr/>
            <p:nvPr/>
          </p:nvGrpSpPr>
          <p:grpSpPr>
            <a:xfrm>
              <a:off x="2553480" y="1595880"/>
              <a:ext cx="3143520" cy="3142440"/>
              <a:chOff x="2553480" y="1595880"/>
              <a:chExt cx="3143520" cy="3142440"/>
            </a:xfrm>
          </p:grpSpPr>
          <p:sp>
            <p:nvSpPr>
              <p:cNvPr id="695" name="Oval 5"/>
              <p:cNvSpPr/>
              <p:nvPr/>
            </p:nvSpPr>
            <p:spPr>
              <a:xfrm>
                <a:off x="2553480" y="1595880"/>
                <a:ext cx="3143520" cy="314244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6" name="Oval 6"/>
              <p:cNvGrpSpPr/>
              <p:nvPr/>
            </p:nvGrpSpPr>
            <p:grpSpPr>
              <a:xfrm>
                <a:off x="3017160" y="2061000"/>
                <a:ext cx="2218320" cy="2219400"/>
                <a:chOff x="3017160" y="2061000"/>
                <a:chExt cx="2218320" cy="2219400"/>
              </a:xfrm>
            </p:grpSpPr>
            <p:pic>
              <p:nvPicPr>
                <p:cNvPr id="697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17160" y="2061000"/>
                  <a:ext cx="2218320" cy="221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8" name=""/>
                <p:cNvSpPr/>
                <p:nvPr/>
              </p:nvSpPr>
              <p:spPr>
                <a:xfrm>
                  <a:off x="3345120" y="2388240"/>
                  <a:ext cx="1561320" cy="156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9" name="Line 7"/>
            <p:cNvSpPr/>
            <p:nvPr/>
          </p:nvSpPr>
          <p:spPr>
            <a:xfrm>
              <a:off x="5230080" y="3138840"/>
              <a:ext cx="45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8"/>
            <p:cNvSpPr/>
            <p:nvPr/>
          </p:nvSpPr>
          <p:spPr>
            <a:xfrm>
              <a:off x="2550600" y="3137400"/>
              <a:ext cx="470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9"/>
            <p:cNvGrpSpPr/>
            <p:nvPr/>
          </p:nvGrpSpPr>
          <p:grpSpPr>
            <a:xfrm>
              <a:off x="3480120" y="2651040"/>
              <a:ext cx="567360" cy="529200"/>
              <a:chOff x="3480120" y="2651040"/>
              <a:chExt cx="567360" cy="529200"/>
            </a:xfrm>
          </p:grpSpPr>
          <p:sp>
            <p:nvSpPr>
              <p:cNvPr id="702" name="Freeform 10"/>
              <p:cNvSpPr/>
              <p:nvPr/>
            </p:nvSpPr>
            <p:spPr>
              <a:xfrm rot="21383400">
                <a:off x="3494880" y="2667240"/>
                <a:ext cx="537120" cy="496440"/>
              </a:xfrm>
              <a:custGeom>
                <a:avLst/>
                <a:gdLst>
                  <a:gd name="textAreaLeft" fmla="*/ 0 w 537120"/>
                  <a:gd name="textAreaRight" fmla="*/ 537480 w 537120"/>
                  <a:gd name="textAreaTop" fmla="*/ 0 h 496440"/>
                  <a:gd name="textAreaBottom" fmla="*/ 496800 h 49644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cccc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Oval 11"/>
              <p:cNvSpPr/>
              <p:nvPr/>
            </p:nvSpPr>
            <p:spPr>
              <a:xfrm rot="21383400">
                <a:off x="3636360" y="2797560"/>
                <a:ext cx="254160" cy="23616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Oval 12"/>
              <p:cNvSpPr/>
              <p:nvPr/>
            </p:nvSpPr>
            <p:spPr>
              <a:xfrm rot="21383400">
                <a:off x="3666960" y="2825640"/>
                <a:ext cx="193680" cy="179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13"/>
            <p:cNvGrpSpPr/>
            <p:nvPr/>
          </p:nvGrpSpPr>
          <p:grpSpPr>
            <a:xfrm>
              <a:off x="3913560" y="2730600"/>
              <a:ext cx="675720" cy="643680"/>
              <a:chOff x="3913560" y="2730600"/>
              <a:chExt cx="675720" cy="643680"/>
            </a:xfrm>
          </p:grpSpPr>
          <p:sp>
            <p:nvSpPr>
              <p:cNvPr id="706" name="Freeform 14"/>
              <p:cNvSpPr/>
              <p:nvPr/>
            </p:nvSpPr>
            <p:spPr>
              <a:xfrm rot="20788200">
                <a:off x="3966840" y="2789640"/>
                <a:ext cx="568800" cy="524880"/>
              </a:xfrm>
              <a:custGeom>
                <a:avLst/>
                <a:gdLst>
                  <a:gd name="textAreaLeft" fmla="*/ 0 w 568800"/>
                  <a:gd name="textAreaRight" fmla="*/ 569160 w 568800"/>
                  <a:gd name="textAreaTop" fmla="*/ 0 h 524880"/>
                  <a:gd name="textAreaBottom" fmla="*/ 525240 h 52488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cccc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Oval 15"/>
              <p:cNvSpPr/>
              <p:nvPr/>
            </p:nvSpPr>
            <p:spPr>
              <a:xfrm rot="20788200">
                <a:off x="4115880" y="2926800"/>
                <a:ext cx="270720" cy="25128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16"/>
              <p:cNvSpPr/>
              <p:nvPr/>
            </p:nvSpPr>
            <p:spPr>
              <a:xfrm rot="20788200">
                <a:off x="4149360" y="2957040"/>
                <a:ext cx="204120" cy="190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17"/>
            <p:cNvGrpSpPr/>
            <p:nvPr/>
          </p:nvGrpSpPr>
          <p:grpSpPr>
            <a:xfrm>
              <a:off x="4055400" y="2253600"/>
              <a:ext cx="676440" cy="641160"/>
              <a:chOff x="4055400" y="2253600"/>
              <a:chExt cx="676440" cy="641160"/>
            </a:xfrm>
          </p:grpSpPr>
          <p:sp>
            <p:nvSpPr>
              <p:cNvPr id="710" name="Freeform 18"/>
              <p:cNvSpPr/>
              <p:nvPr/>
            </p:nvSpPr>
            <p:spPr>
              <a:xfrm rot="20788200">
                <a:off x="4108320" y="2313000"/>
                <a:ext cx="570240" cy="522000"/>
              </a:xfrm>
              <a:custGeom>
                <a:avLst/>
                <a:gdLst>
                  <a:gd name="textAreaLeft" fmla="*/ 0 w 570240"/>
                  <a:gd name="textAreaRight" fmla="*/ 570600 w 5702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cccc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9"/>
              <p:cNvSpPr/>
              <p:nvPr/>
            </p:nvSpPr>
            <p:spPr>
              <a:xfrm rot="20788200">
                <a:off x="4258800" y="2449440"/>
                <a:ext cx="269280" cy="2491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Oval 20"/>
              <p:cNvSpPr/>
              <p:nvPr/>
            </p:nvSpPr>
            <p:spPr>
              <a:xfrm rot="20788200">
                <a:off x="4290840" y="2479680"/>
                <a:ext cx="205920" cy="188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AutoShape 21"/>
            <p:cNvSpPr/>
            <p:nvPr/>
          </p:nvSpPr>
          <p:spPr>
            <a:xfrm>
              <a:off x="4600440" y="2708640"/>
              <a:ext cx="380880" cy="361800"/>
            </a:xfrm>
            <a:prstGeom prst="pentagon">
              <a:avLst/>
            </a:prstGeom>
            <a:solidFill>
              <a:srgbClr val="66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22"/>
            <p:cNvSpPr/>
            <p:nvPr/>
          </p:nvSpPr>
          <p:spPr>
            <a:xfrm>
              <a:off x="4016520" y="3363120"/>
              <a:ext cx="408600" cy="606240"/>
            </a:xfrm>
            <a:prstGeom prst="flowChartMagneticDisk">
              <a:avLst/>
            </a:prstGeom>
            <a:solidFill>
              <a:srgbClr val="d1d1f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23"/>
            <p:cNvSpPr/>
            <p:nvPr/>
          </p:nvSpPr>
          <p:spPr>
            <a:xfrm rot="16446600">
              <a:off x="3642480" y="2286000"/>
              <a:ext cx="366840" cy="3139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24"/>
            <p:cNvSpPr/>
            <p:nvPr/>
          </p:nvSpPr>
          <p:spPr>
            <a:xfrm rot="5400000">
              <a:off x="3556440" y="3462120"/>
              <a:ext cx="198720" cy="396360"/>
            </a:xfrm>
            <a:prstGeom prst="flowChartCollate">
              <a:avLst/>
            </a:prstGeom>
            <a:solidFill>
              <a:srgbClr val="66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25"/>
            <p:cNvSpPr/>
            <p:nvPr/>
          </p:nvSpPr>
          <p:spPr>
            <a:xfrm>
              <a:off x="4557960" y="3188160"/>
              <a:ext cx="360360" cy="36180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26"/>
            <p:cNvSpPr/>
            <p:nvPr/>
          </p:nvSpPr>
          <p:spPr>
            <a:xfrm>
              <a:off x="3556800" y="3259080"/>
              <a:ext cx="201600" cy="399240"/>
            </a:xfrm>
            <a:prstGeom prst="flowChartSort">
              <a:avLst/>
            </a:prstGeom>
            <a:solidFill>
              <a:srgbClr val="ff99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27"/>
            <p:cNvSpPr/>
            <p:nvPr/>
          </p:nvSpPr>
          <p:spPr>
            <a:xfrm>
              <a:off x="3170880" y="2989080"/>
              <a:ext cx="423000" cy="423360"/>
            </a:xfrm>
            <a:prstGeom prst="diamond">
              <a:avLst/>
            </a:prstGeom>
            <a:solidFill>
              <a:srgbClr val="ffc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28"/>
            <p:cNvSpPr/>
            <p:nvPr/>
          </p:nvSpPr>
          <p:spPr>
            <a:xfrm rot="7740600">
              <a:off x="4584960" y="3562560"/>
              <a:ext cx="200520" cy="396720"/>
            </a:xfrm>
            <a:prstGeom prst="flowChartSort">
              <a:avLst/>
            </a:prstGeom>
            <a:solidFill>
              <a:srgbClr val="66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29"/>
            <p:cNvSpPr/>
            <p:nvPr/>
          </p:nvSpPr>
          <p:spPr>
            <a:xfrm>
              <a:off x="3580920" y="3832200"/>
              <a:ext cx="402120" cy="221400"/>
            </a:xfrm>
            <a:prstGeom prst="flowChartMagneticDrum">
              <a:avLst/>
            </a:prstGeom>
            <a:solidFill>
              <a:srgbClr val="d1d1f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30"/>
            <p:cNvSpPr/>
            <p:nvPr/>
          </p:nvSpPr>
          <p:spPr>
            <a:xfrm>
              <a:off x="2962440" y="1622520"/>
              <a:ext cx="22780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вой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31"/>
            <p:cNvSpPr/>
            <p:nvPr/>
          </p:nvSpPr>
          <p:spPr>
            <a:xfrm>
              <a:off x="2962440" y="4131360"/>
              <a:ext cx="227808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етод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Прямоугольник 33"/>
          <p:cNvSpPr/>
          <p:nvPr/>
        </p:nvSpPr>
        <p:spPr>
          <a:xfrm>
            <a:off x="390600" y="8190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капс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помещение в капсулу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33" descr="http://static2.wikia.nocookie.net/__cb20130711224058/beauxbatonsacademy/images/0/0c/Brown-egg.jpg"/>
          <p:cNvPicPr/>
          <p:nvPr/>
        </p:nvPicPr>
        <p:blipFill>
          <a:blip r:embed="rId2"/>
          <a:srcRect l="24777" t="11902" r="26444" b="9643"/>
          <a:stretch/>
        </p:blipFill>
        <p:spPr>
          <a:xfrm>
            <a:off x="615960" y="1449360"/>
            <a:ext cx="1339920" cy="1724040"/>
          </a:xfrm>
          <a:prstGeom prst="rect">
            <a:avLst/>
          </a:prstGeom>
          <a:ln w="0">
            <a:noFill/>
          </a:ln>
        </p:spPr>
      </p:pic>
      <p:sp>
        <p:nvSpPr>
          <p:cNvPr id="726" name="Скругленная прямоугольная выноска 35"/>
          <p:cNvSpPr/>
          <p:nvPr/>
        </p:nvSpPr>
        <p:spPr>
          <a:xfrm>
            <a:off x="5762520" y="4140360"/>
            <a:ext cx="2059200" cy="749160"/>
          </a:xfrm>
          <a:prstGeom prst="wedgeRoundRectCallout">
            <a:avLst>
              <a:gd name="adj1" fmla="val -84537"/>
              <a:gd name="adj2" fmla="val -6754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фейс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Скругленная прямоугольная выноска 36"/>
          <p:cNvSpPr/>
          <p:nvPr/>
        </p:nvSpPr>
        <p:spPr>
          <a:xfrm>
            <a:off x="5562720" y="1550880"/>
            <a:ext cx="2395440" cy="1101960"/>
          </a:xfrm>
          <a:prstGeom prst="wedgeRoundRectCallout">
            <a:avLst>
              <a:gd name="adj1" fmla="val -79731"/>
              <a:gd name="adj2" fmla="val 50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ее устройство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6F64-BA56-4B61-9B8F-49C778A8B10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369720" y="809640"/>
            <a:ext cx="8420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ить класс РядЛампочек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ый хранит состояние ряда из 8 лампочек в виде символьной строки. Цифра 0 обозначает выключенную лампочку, цифра 1 – включенну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рывает внутреннюю переменную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__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хранит состояние лампочек. При записи нового значения проверяется, что длина строки состояния равна 8, иначе записываются все ну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h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одит на экран состояние лампочек, обозначая выключенную лампочку как минус, а включённую – как «*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101010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101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*-*-*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6B49-187C-483D-A924-09FBCC93E8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полнит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 зад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количество лампочек в цепочке можно было задавать в конструкто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1010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101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*-*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1010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ошиб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0000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чем нужно что-то ново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C325-94CE-4E03-BE6F-339DE2BAA2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34"/>
          <p:cNvGrpSpPr/>
          <p:nvPr/>
        </p:nvGrpSpPr>
        <p:grpSpPr>
          <a:xfrm>
            <a:off x="423720" y="911160"/>
            <a:ext cx="5672160" cy="663480"/>
            <a:chOff x="423720" y="911160"/>
            <a:chExt cx="5672160" cy="663480"/>
          </a:xfrm>
        </p:grpSpPr>
        <p:sp>
          <p:nvSpPr>
            <p:cNvPr id="208" name="Text Box 32"/>
            <p:cNvSpPr/>
            <p:nvPr/>
          </p:nvSpPr>
          <p:spPr>
            <a:xfrm>
              <a:off x="928440" y="1011240"/>
              <a:ext cx="5167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лавная проблема –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сложность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3"/>
            <p:cNvSpPr/>
            <p:nvPr/>
          </p:nvSpPr>
          <p:spPr>
            <a:xfrm>
              <a:off x="423720" y="911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Прямоугольник 8"/>
          <p:cNvSpPr/>
          <p:nvPr/>
        </p:nvSpPr>
        <p:spPr>
          <a:xfrm>
            <a:off x="906120" y="1495440"/>
            <a:ext cx="50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из миллионов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сячи переменных и масс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428760" y="2305080"/>
            <a:ext cx="84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. Дейкст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 «Человечество еще в древности придумало способ управления сложными системами: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яй и властву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"/>
          <p:cNvGrpSpPr/>
          <p:nvPr/>
        </p:nvGrpSpPr>
        <p:grpSpPr>
          <a:xfrm>
            <a:off x="555480" y="3987720"/>
            <a:ext cx="4789800" cy="2270160"/>
            <a:chOff x="555480" y="3987720"/>
            <a:chExt cx="4789800" cy="2270160"/>
          </a:xfrm>
        </p:grpSpPr>
        <p:sp>
          <p:nvSpPr>
            <p:cNvPr id="213" name="AutoShape 3"/>
            <p:cNvSpPr/>
            <p:nvPr/>
          </p:nvSpPr>
          <p:spPr>
            <a:xfrm>
              <a:off x="555480" y="3987720"/>
              <a:ext cx="4789800" cy="22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4"/>
            <p:cNvSpPr/>
            <p:nvPr/>
          </p:nvSpPr>
          <p:spPr>
            <a:xfrm>
              <a:off x="824760" y="4802040"/>
              <a:ext cx="1317600" cy="38700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725640" y="4802040"/>
              <a:ext cx="1317600" cy="38700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6"/>
            <p:cNvSpPr/>
            <p:nvPr/>
          </p:nvSpPr>
          <p:spPr>
            <a:xfrm>
              <a:off x="809280" y="5705640"/>
              <a:ext cx="137484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7"/>
            <p:cNvSpPr/>
            <p:nvPr/>
          </p:nvSpPr>
          <p:spPr>
            <a:xfrm>
              <a:off x="2260080" y="5705640"/>
              <a:ext cx="137340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8"/>
            <p:cNvSpPr/>
            <p:nvPr/>
          </p:nvSpPr>
          <p:spPr>
            <a:xfrm>
              <a:off x="3710160" y="5705640"/>
              <a:ext cx="137340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AutoShape 9"/>
            <p:cNvCxnSpPr>
              <a:stCxn id="220" idx="2"/>
              <a:endCxn id="221" idx="0"/>
            </p:cNvCxnSpPr>
            <p:nvPr/>
          </p:nvCxnSpPr>
          <p:spPr>
            <a:xfrm flipH="1">
              <a:off x="2934360" y="4374000"/>
              <a:ext cx="3600" cy="42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2" name="AutoShape 10"/>
            <p:cNvCxnSpPr>
              <a:stCxn id="220" idx="2"/>
              <a:endCxn id="214" idx="0"/>
            </p:cNvCxnSpPr>
            <p:nvPr/>
          </p:nvCxnSpPr>
          <p:spPr>
            <a:xfrm flipH="1">
              <a:off x="1484280" y="4374000"/>
              <a:ext cx="1453680" cy="42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3" name="AutoShape 11"/>
            <p:cNvCxnSpPr>
              <a:stCxn id="220" idx="2"/>
              <a:endCxn id="215" idx="0"/>
            </p:cNvCxnSpPr>
            <p:nvPr/>
          </p:nvCxnSpPr>
          <p:spPr>
            <a:xfrm>
              <a:off x="2937240" y="4374000"/>
              <a:ext cx="1448280" cy="42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4" name="AutoShape 12"/>
            <p:cNvCxnSpPr>
              <a:stCxn id="221" idx="2"/>
              <a:endCxn id="217" idx="0"/>
            </p:cNvCxnSpPr>
            <p:nvPr/>
          </p:nvCxnSpPr>
          <p:spPr>
            <a:xfrm>
              <a:off x="2934720" y="5188680"/>
              <a:ext cx="12960" cy="51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5" name="AutoShape 13"/>
            <p:cNvCxnSpPr>
              <a:stCxn id="221" idx="2"/>
              <a:endCxn id="216" idx="0"/>
            </p:cNvCxnSpPr>
            <p:nvPr/>
          </p:nvCxnSpPr>
          <p:spPr>
            <a:xfrm flipH="1">
              <a:off x="1496520" y="5188680"/>
              <a:ext cx="1438200" cy="51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6" name="AutoShape 14"/>
            <p:cNvCxnSpPr>
              <a:stCxn id="221" idx="2"/>
              <a:endCxn id="218" idx="0"/>
            </p:cNvCxnSpPr>
            <p:nvPr/>
          </p:nvCxnSpPr>
          <p:spPr>
            <a:xfrm>
              <a:off x="2934720" y="5188680"/>
              <a:ext cx="1463040" cy="51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sp>
          <p:nvSpPr>
            <p:cNvPr id="221" name="AutoShape 15"/>
            <p:cNvSpPr/>
            <p:nvPr/>
          </p:nvSpPr>
          <p:spPr>
            <a:xfrm>
              <a:off x="2276640" y="4802040"/>
              <a:ext cx="1316160" cy="38700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6"/>
            <p:cNvSpPr/>
            <p:nvPr/>
          </p:nvSpPr>
          <p:spPr>
            <a:xfrm>
              <a:off x="2500200" y="3987720"/>
              <a:ext cx="87300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задач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Прямоугольник 25"/>
          <p:cNvSpPr/>
          <p:nvPr/>
        </p:nvSpPr>
        <p:spPr>
          <a:xfrm>
            <a:off x="523800" y="3452760"/>
            <a:ext cx="63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руктурное програм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ая прямоугольная выноска 29"/>
          <p:cNvSpPr/>
          <p:nvPr/>
        </p:nvSpPr>
        <p:spPr>
          <a:xfrm>
            <a:off x="5448240" y="3905280"/>
            <a:ext cx="2914560" cy="781200"/>
          </a:xfrm>
          <a:prstGeom prst="wedgeRoundRectCallout">
            <a:avLst>
              <a:gd name="adj1" fmla="val -65722"/>
              <a:gd name="adj2" fmla="val 5611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компози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4"/>
          <p:cNvGrpSpPr/>
          <p:nvPr/>
        </p:nvGrpSpPr>
        <p:grpSpPr>
          <a:xfrm>
            <a:off x="5522760" y="5248440"/>
            <a:ext cx="395280" cy="395280"/>
            <a:chOff x="5522760" y="5248440"/>
            <a:chExt cx="395280" cy="395280"/>
          </a:xfrm>
        </p:grpSpPr>
        <p:sp>
          <p:nvSpPr>
            <p:cNvPr id="230" name="Oval 15"/>
            <p:cNvSpPr/>
            <p:nvPr/>
          </p:nvSpPr>
          <p:spPr>
            <a:xfrm>
              <a:off x="5522760" y="524844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6"/>
            <p:cNvSpPr/>
            <p:nvPr/>
          </p:nvSpPr>
          <p:spPr>
            <a:xfrm>
              <a:off x="5573520" y="53992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6008760" y="5214960"/>
            <a:ext cx="27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ыслит иначе, 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747A-C3F0-4D03-87BD-7A6D98C727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369720" y="809640"/>
            <a:ext cx="8420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полни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 зад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лампочки могли гореть одним из двух цветов – красный цвет имеет код 1 и обозначается при выводе как «*», а зелёный цвет имеет код 2 и обозначается как «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6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2102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01010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ошиб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0000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6E1D-9A12-45DE-9222-C1C39A9FEB9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369720" y="835200"/>
            <a:ext cx="8420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полни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 зад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д состояния хранился как целое число. При этом интерфейс (способ чтения и записи свойства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ta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должен изменить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6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2102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01010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ошиб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0000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106200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ерархия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EF80-7168-48ED-87EA-285E5FDE423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ифик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6294-EFFC-4917-875F-FBD877DE9A9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5"/>
          <p:cNvSpPr/>
          <p:nvPr/>
        </p:nvSpPr>
        <p:spPr>
          <a:xfrm>
            <a:off x="390600" y="1663560"/>
            <a:ext cx="84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ифик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зделение изучаемых объектов на группы (классы), объединенные общими призна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34"/>
          <p:cNvGrpSpPr/>
          <p:nvPr/>
        </p:nvGrpSpPr>
        <p:grpSpPr>
          <a:xfrm>
            <a:off x="2793960" y="2549520"/>
            <a:ext cx="3555720" cy="663480"/>
            <a:chOff x="2793960" y="2549520"/>
            <a:chExt cx="3555720" cy="663480"/>
          </a:xfrm>
        </p:grpSpPr>
        <p:sp>
          <p:nvSpPr>
            <p:cNvPr id="747" name="Text Box 32"/>
            <p:cNvSpPr/>
            <p:nvPr/>
          </p:nvSpPr>
          <p:spPr>
            <a:xfrm>
              <a:off x="3298320" y="2649600"/>
              <a:ext cx="3051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это нуж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33"/>
            <p:cNvSpPr/>
            <p:nvPr/>
          </p:nvSpPr>
          <p:spPr>
            <a:xfrm>
              <a:off x="2793960" y="2549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18"/>
          <p:cNvGrpSpPr/>
          <p:nvPr/>
        </p:nvGrpSpPr>
        <p:grpSpPr>
          <a:xfrm>
            <a:off x="1473120" y="3918600"/>
            <a:ext cx="1516320" cy="662040"/>
            <a:chOff x="1473120" y="3918600"/>
            <a:chExt cx="1516320" cy="662040"/>
          </a:xfrm>
        </p:grpSpPr>
        <p:sp>
          <p:nvSpPr>
            <p:cNvPr id="751" name="Line 20"/>
            <p:cNvSpPr/>
            <p:nvPr/>
          </p:nvSpPr>
          <p:spPr>
            <a:xfrm flipV="1">
              <a:off x="1473120" y="4005000"/>
              <a:ext cx="147636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19"/>
            <p:cNvSpPr/>
            <p:nvPr/>
          </p:nvSpPr>
          <p:spPr>
            <a:xfrm rot="4020000">
              <a:off x="2757240" y="3919320"/>
              <a:ext cx="168120" cy="250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5"/>
          <p:cNvGrpSpPr/>
          <p:nvPr/>
        </p:nvGrpSpPr>
        <p:grpSpPr>
          <a:xfrm>
            <a:off x="3732480" y="3988080"/>
            <a:ext cx="426960" cy="632520"/>
            <a:chOff x="3732480" y="3988080"/>
            <a:chExt cx="426960" cy="632520"/>
          </a:xfrm>
        </p:grpSpPr>
        <p:sp>
          <p:nvSpPr>
            <p:cNvPr id="754" name="Line 17"/>
            <p:cNvSpPr/>
            <p:nvPr/>
          </p:nvSpPr>
          <p:spPr>
            <a:xfrm flipH="1" flipV="1">
              <a:off x="3809520" y="4031280"/>
              <a:ext cx="349920" cy="58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16"/>
            <p:cNvSpPr/>
            <p:nvPr/>
          </p:nvSpPr>
          <p:spPr>
            <a:xfrm flipH="1" rot="19734000">
              <a:off x="3785040" y="4013280"/>
              <a:ext cx="168120" cy="250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12"/>
          <p:cNvGrpSpPr/>
          <p:nvPr/>
        </p:nvGrpSpPr>
        <p:grpSpPr>
          <a:xfrm>
            <a:off x="2935800" y="3992400"/>
            <a:ext cx="422640" cy="606600"/>
            <a:chOff x="2935800" y="3992400"/>
            <a:chExt cx="422640" cy="606600"/>
          </a:xfrm>
        </p:grpSpPr>
        <p:sp>
          <p:nvSpPr>
            <p:cNvPr id="757" name="Line 14"/>
            <p:cNvSpPr/>
            <p:nvPr/>
          </p:nvSpPr>
          <p:spPr>
            <a:xfrm flipV="1">
              <a:off x="2935800" y="4036320"/>
              <a:ext cx="345240" cy="56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13"/>
            <p:cNvSpPr/>
            <p:nvPr/>
          </p:nvSpPr>
          <p:spPr>
            <a:xfrm rot="1866000">
              <a:off x="3137040" y="4017600"/>
              <a:ext cx="168480" cy="25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9"/>
          <p:cNvGrpSpPr/>
          <p:nvPr/>
        </p:nvGrpSpPr>
        <p:grpSpPr>
          <a:xfrm>
            <a:off x="4138560" y="3918600"/>
            <a:ext cx="1517760" cy="662040"/>
            <a:chOff x="4138560" y="3918600"/>
            <a:chExt cx="1517760" cy="662040"/>
          </a:xfrm>
        </p:grpSpPr>
        <p:sp>
          <p:nvSpPr>
            <p:cNvPr id="760" name="Line 11"/>
            <p:cNvSpPr/>
            <p:nvPr/>
          </p:nvSpPr>
          <p:spPr>
            <a:xfrm flipH="1" flipV="1">
              <a:off x="4178520" y="4005000"/>
              <a:ext cx="147780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10"/>
            <p:cNvSpPr/>
            <p:nvPr/>
          </p:nvSpPr>
          <p:spPr>
            <a:xfrm flipH="1" rot="17580000">
              <a:off x="4202280" y="3919320"/>
              <a:ext cx="168120" cy="250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AutoShape 8"/>
          <p:cNvSpPr/>
          <p:nvPr/>
        </p:nvSpPr>
        <p:spPr>
          <a:xfrm>
            <a:off x="706320" y="4567320"/>
            <a:ext cx="11970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7"/>
          <p:cNvSpPr/>
          <p:nvPr/>
        </p:nvSpPr>
        <p:spPr>
          <a:xfrm>
            <a:off x="2087640" y="4567320"/>
            <a:ext cx="11970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6"/>
          <p:cNvSpPr/>
          <p:nvPr/>
        </p:nvSpPr>
        <p:spPr>
          <a:xfrm>
            <a:off x="3470400" y="4567320"/>
            <a:ext cx="11952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Бан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4853160" y="4567320"/>
            <a:ext cx="15192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пель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4"/>
          <p:cNvSpPr/>
          <p:nvPr/>
        </p:nvSpPr>
        <p:spPr>
          <a:xfrm>
            <a:off x="4290840" y="3502080"/>
            <a:ext cx="2706840" cy="490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Calibri"/>
              </a:rPr>
              <a:t>базовый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3"/>
          <p:cNvSpPr/>
          <p:nvPr/>
        </p:nvSpPr>
        <p:spPr>
          <a:xfrm>
            <a:off x="2940120" y="3502080"/>
            <a:ext cx="1197000" cy="490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ру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2"/>
          <p:cNvSpPr/>
          <p:nvPr/>
        </p:nvSpPr>
        <p:spPr>
          <a:xfrm>
            <a:off x="6488280" y="4578480"/>
            <a:ext cx="2411280" cy="765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Calibri"/>
              </a:rPr>
              <a:t>классы-насле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Скругленная прямоугольная выноска 31"/>
          <p:cNvSpPr/>
          <p:nvPr/>
        </p:nvSpPr>
        <p:spPr>
          <a:xfrm>
            <a:off x="1652760" y="5429160"/>
            <a:ext cx="2158920" cy="703440"/>
          </a:xfrm>
          <a:prstGeom prst="wedgeRoundRectCallout">
            <a:avLst>
              <a:gd name="adj1" fmla="val -5638"/>
              <a:gd name="adj2" fmla="val -96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ру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оторо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34"/>
          <p:cNvGrpSpPr/>
          <p:nvPr/>
        </p:nvGrpSpPr>
        <p:grpSpPr>
          <a:xfrm>
            <a:off x="2147760" y="966960"/>
            <a:ext cx="4848120" cy="663480"/>
            <a:chOff x="2147760" y="966960"/>
            <a:chExt cx="4848120" cy="663480"/>
          </a:xfrm>
        </p:grpSpPr>
        <p:sp>
          <p:nvSpPr>
            <p:cNvPr id="771" name="Text Box 32"/>
            <p:cNvSpPr/>
            <p:nvPr/>
          </p:nvSpPr>
          <p:spPr>
            <a:xfrm>
              <a:off x="2652120" y="1067040"/>
              <a:ext cx="4343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такое классификац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3"/>
            <p:cNvSpPr/>
            <p:nvPr/>
          </p:nvSpPr>
          <p:spPr>
            <a:xfrm>
              <a:off x="2147760" y="966960"/>
              <a:ext cx="64872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наследова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4051-F5CB-4D94-BDE5-DD1CC36C46B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рямоугольник 3"/>
          <p:cNvSpPr/>
          <p:nvPr/>
        </p:nvSpPr>
        <p:spPr>
          <a:xfrm>
            <a:off x="393840" y="812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ву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ейств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б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рный 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Полилиния 4"/>
          <p:cNvSpPr/>
          <p:nvPr/>
        </p:nvSpPr>
        <p:spPr>
          <a:xfrm>
            <a:off x="3178080" y="1782720"/>
            <a:ext cx="603360" cy="263520"/>
          </a:xfrm>
          <a:custGeom>
            <a:avLst/>
            <a:gdLst>
              <a:gd name="textAreaLeft" fmla="*/ 0 w 603360"/>
              <a:gd name="textAreaRight" fmla="*/ 603720 w 603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178837" h="362139">
                <a:moveTo>
                  <a:pt x="1131683" y="362139"/>
                </a:moveTo>
                <a:cubicBezTo>
                  <a:pt x="1178837" y="116549"/>
                  <a:pt x="377228" y="120713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олилиния 6"/>
          <p:cNvSpPr/>
          <p:nvPr/>
        </p:nvSpPr>
        <p:spPr>
          <a:xfrm flipH="1">
            <a:off x="3150360" y="1447920"/>
            <a:ext cx="1103400" cy="272880"/>
          </a:xfrm>
          <a:custGeom>
            <a:avLst/>
            <a:gdLst>
              <a:gd name="textAreaLeft" fmla="*/ -360 w 1103400"/>
              <a:gd name="textAreaRight" fmla="*/ 1103400 w 1103400"/>
              <a:gd name="textAreaTop" fmla="*/ 0 h 272880"/>
              <a:gd name="textAreaBottom" fmla="*/ 272880 h 272880"/>
            </a:gdLst>
            <a:ahLst/>
            <a:rect l="textAreaLeft" t="textAreaTop" r="textAreaRight" b="textAreaBottom"/>
            <a:pathLst>
              <a:path w="1412962" h="362139">
                <a:moveTo>
                  <a:pt x="1412962" y="362139"/>
                </a:moveTo>
                <a:cubicBezTo>
                  <a:pt x="-1" y="339401"/>
                  <a:pt x="30830" y="80784"/>
                  <a:pt x="46678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Полилиния 7"/>
          <p:cNvSpPr/>
          <p:nvPr/>
        </p:nvSpPr>
        <p:spPr>
          <a:xfrm>
            <a:off x="3186000" y="1031760"/>
            <a:ext cx="462240" cy="254160"/>
          </a:xfrm>
          <a:custGeom>
            <a:avLst/>
            <a:gdLst>
              <a:gd name="textAreaLeft" fmla="*/ 0 w 462240"/>
              <a:gd name="textAreaRight" fmla="*/ 462600 w 4622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178837" h="362139">
                <a:moveTo>
                  <a:pt x="1131683" y="362139"/>
                </a:moveTo>
                <a:cubicBezTo>
                  <a:pt x="1178837" y="116549"/>
                  <a:pt x="377228" y="120713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Скругленная прямоугольная выноска 8"/>
          <p:cNvSpPr/>
          <p:nvPr/>
        </p:nvSpPr>
        <p:spPr>
          <a:xfrm>
            <a:off x="4838760" y="1442880"/>
            <a:ext cx="3290760" cy="720720"/>
          </a:xfrm>
          <a:prstGeom prst="wedgeRoundRectCallout">
            <a:avLst>
              <a:gd name="adj1" fmla="val -84587"/>
              <a:gd name="adj2" fmla="val 1423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ует свойства (имеет все свой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9"/>
          <p:cNvSpPr/>
          <p:nvPr/>
        </p:nvSpPr>
        <p:spPr>
          <a:xfrm>
            <a:off x="466560" y="2595600"/>
            <a:ext cx="83883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Б являе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следни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асса А, если можно сказать, что Б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разновид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10"/>
          <p:cNvSpPr/>
          <p:nvPr/>
        </p:nvSpPr>
        <p:spPr>
          <a:xfrm>
            <a:off x="4689360" y="35164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р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11"/>
          <p:cNvSpPr/>
          <p:nvPr/>
        </p:nvSpPr>
        <p:spPr>
          <a:xfrm>
            <a:off x="966960" y="446724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ина – двиг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оугольник 12"/>
          <p:cNvSpPr/>
          <p:nvPr/>
        </p:nvSpPr>
        <p:spPr>
          <a:xfrm>
            <a:off x="972720" y="351792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 – фр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13"/>
          <p:cNvSpPr/>
          <p:nvPr/>
        </p:nvSpPr>
        <p:spPr>
          <a:xfrm>
            <a:off x="980280" y="399240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ый клевер – 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Прямоугольник 14"/>
          <p:cNvSpPr/>
          <p:nvPr/>
        </p:nvSpPr>
        <p:spPr>
          <a:xfrm>
            <a:off x="4689360" y="4067280"/>
            <a:ext cx="3449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ый клевер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тение род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олилиния 15"/>
          <p:cNvSpPr/>
          <p:nvPr/>
        </p:nvSpPr>
        <p:spPr>
          <a:xfrm>
            <a:off x="590400" y="3537000"/>
            <a:ext cx="417600" cy="407880"/>
          </a:xfrm>
          <a:custGeom>
            <a:avLst/>
            <a:gdLst/>
            <a:ahLst/>
            <a:rect l="l" t="t" r="r" b="b"/>
            <a:pathLst>
              <a:path w="2308634" h="2381061">
                <a:moveTo>
                  <a:pt x="353085" y="1149790"/>
                </a:moveTo>
                <a:cubicBezTo>
                  <a:pt x="196606" y="1214746"/>
                  <a:pt x="117695" y="1242718"/>
                  <a:pt x="0" y="1358019"/>
                </a:cubicBezTo>
                <a:cubicBezTo>
                  <a:pt x="455691" y="1699032"/>
                  <a:pt x="485869" y="2085314"/>
                  <a:pt x="669956" y="2381061"/>
                </a:cubicBezTo>
                <a:cubicBezTo>
                  <a:pt x="973247" y="1632642"/>
                  <a:pt x="1769953" y="473798"/>
                  <a:pt x="2308634" y="72427"/>
                </a:cubicBezTo>
                <a:lnTo>
                  <a:pt x="2263366" y="0"/>
                </a:lnTo>
                <a:cubicBezTo>
                  <a:pt x="1563231" y="404387"/>
                  <a:pt x="1098487" y="1035113"/>
                  <a:pt x="679010" y="1647730"/>
                </a:cubicBezTo>
                <a:cubicBezTo>
                  <a:pt x="570368" y="1481750"/>
                  <a:pt x="561315" y="1261449"/>
                  <a:pt x="353085" y="1149790"/>
                </a:cubicBezTo>
                <a:close/>
              </a:path>
            </a:pathLst>
          </a:cu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162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Умножение 16"/>
          <p:cNvSpPr/>
          <p:nvPr/>
        </p:nvSpPr>
        <p:spPr>
          <a:xfrm>
            <a:off x="469800" y="4483080"/>
            <a:ext cx="515880" cy="515880"/>
          </a:xfrm>
          <a:custGeom>
            <a:avLst/>
            <a:gdLst>
              <a:gd name="textAreaLeft" fmla="*/ 113040 w 515880"/>
              <a:gd name="textAreaRight" fmla="*/ 402840 w 515880"/>
              <a:gd name="textAreaTop" fmla="*/ 113040 h 515880"/>
              <a:gd name="textAreaBottom" fmla="*/ 402840 h 515880"/>
            </a:gdLst>
            <a:ahLst/>
            <a:rect l="textAreaLeft" t="textAreaTop" r="textAreaRight" b="textAreaBottom"/>
            <a:pathLst>
              <a:path w="515938" h="515938">
                <a:moveTo>
                  <a:pt x="113084" y="134747"/>
                </a:moveTo>
                <a:lnTo>
                  <a:pt x="134747" y="113084"/>
                </a:lnTo>
                <a:lnTo>
                  <a:pt x="257969" y="236306"/>
                </a:lnTo>
                <a:lnTo>
                  <a:pt x="381191" y="113084"/>
                </a:lnTo>
                <a:lnTo>
                  <a:pt x="402854" y="134747"/>
                </a:lnTo>
                <a:lnTo>
                  <a:pt x="279632" y="257969"/>
                </a:lnTo>
                <a:lnTo>
                  <a:pt x="402854" y="381191"/>
                </a:lnTo>
                <a:lnTo>
                  <a:pt x="381191" y="402854"/>
                </a:lnTo>
                <a:lnTo>
                  <a:pt x="257969" y="279632"/>
                </a:lnTo>
                <a:lnTo>
                  <a:pt x="134747" y="402854"/>
                </a:lnTo>
                <a:lnTo>
                  <a:pt x="113084" y="381191"/>
                </a:lnTo>
                <a:lnTo>
                  <a:pt x="236306" y="25796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олилиния 17"/>
          <p:cNvSpPr/>
          <p:nvPr/>
        </p:nvSpPr>
        <p:spPr>
          <a:xfrm>
            <a:off x="590400" y="3998880"/>
            <a:ext cx="417600" cy="407880"/>
          </a:xfrm>
          <a:custGeom>
            <a:avLst/>
            <a:gdLst/>
            <a:ahLst/>
            <a:rect l="l" t="t" r="r" b="b"/>
            <a:pathLst>
              <a:path w="2308634" h="2381061">
                <a:moveTo>
                  <a:pt x="353085" y="1149790"/>
                </a:moveTo>
                <a:cubicBezTo>
                  <a:pt x="196606" y="1214746"/>
                  <a:pt x="117695" y="1242718"/>
                  <a:pt x="0" y="1358019"/>
                </a:cubicBezTo>
                <a:cubicBezTo>
                  <a:pt x="455691" y="1699032"/>
                  <a:pt x="485869" y="2085314"/>
                  <a:pt x="669956" y="2381061"/>
                </a:cubicBezTo>
                <a:cubicBezTo>
                  <a:pt x="973247" y="1632642"/>
                  <a:pt x="1769953" y="473798"/>
                  <a:pt x="2308634" y="72427"/>
                </a:cubicBezTo>
                <a:lnTo>
                  <a:pt x="2263366" y="0"/>
                </a:lnTo>
                <a:cubicBezTo>
                  <a:pt x="1563231" y="404387"/>
                  <a:pt x="1098487" y="1035113"/>
                  <a:pt x="679010" y="1647730"/>
                </a:cubicBezTo>
                <a:cubicBezTo>
                  <a:pt x="570368" y="1481750"/>
                  <a:pt x="561315" y="1261449"/>
                  <a:pt x="353085" y="1149790"/>
                </a:cubicBezTo>
                <a:close/>
              </a:path>
            </a:pathLst>
          </a:cu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162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Скругленная прямоугольная выноска 18"/>
          <p:cNvSpPr/>
          <p:nvPr/>
        </p:nvSpPr>
        <p:spPr>
          <a:xfrm>
            <a:off x="1706400" y="5227560"/>
            <a:ext cx="4124520" cy="720720"/>
          </a:xfrm>
          <a:prstGeom prst="wedgeRoundRectCallout">
            <a:avLst>
              <a:gd name="adj1" fmla="val -41125"/>
              <a:gd name="adj2" fmla="val -96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ин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держи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ель (часть – цел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я логических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78CF-F13E-4004-87F3-7FD5950AE5E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25"/>
          <p:cNvSpPr/>
          <p:nvPr/>
        </p:nvSpPr>
        <p:spPr>
          <a:xfrm>
            <a:off x="3062160" y="1028880"/>
            <a:ext cx="2714760" cy="48240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огический эле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8"/>
          <p:cNvGrpSpPr/>
          <p:nvPr/>
        </p:nvGrpSpPr>
        <p:grpSpPr>
          <a:xfrm>
            <a:off x="5490720" y="2583000"/>
            <a:ext cx="1010160" cy="595440"/>
            <a:chOff x="5490720" y="2583000"/>
            <a:chExt cx="1010160" cy="595440"/>
          </a:xfrm>
        </p:grpSpPr>
        <p:grpSp>
          <p:nvGrpSpPr>
            <p:cNvPr id="795" name="Group 22"/>
            <p:cNvGrpSpPr/>
            <p:nvPr/>
          </p:nvGrpSpPr>
          <p:grpSpPr>
            <a:xfrm>
              <a:off x="5490720" y="2583000"/>
              <a:ext cx="415080" cy="595440"/>
              <a:chOff x="5490720" y="2583000"/>
              <a:chExt cx="415080" cy="595440"/>
            </a:xfrm>
          </p:grpSpPr>
          <p:sp>
            <p:nvSpPr>
              <p:cNvPr id="796" name="Line 24"/>
              <p:cNvSpPr/>
              <p:nvPr/>
            </p:nvSpPr>
            <p:spPr>
              <a:xfrm flipV="1">
                <a:off x="5490720" y="2626200"/>
                <a:ext cx="338760" cy="55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AutoShape 23"/>
              <p:cNvSpPr/>
              <p:nvPr/>
            </p:nvSpPr>
            <p:spPr>
              <a:xfrm rot="1866000">
                <a:off x="5688360" y="260784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Group 19"/>
            <p:cNvGrpSpPr/>
            <p:nvPr/>
          </p:nvGrpSpPr>
          <p:grpSpPr>
            <a:xfrm>
              <a:off x="6085800" y="2583000"/>
              <a:ext cx="415080" cy="595440"/>
              <a:chOff x="6085800" y="2583000"/>
              <a:chExt cx="415080" cy="595440"/>
            </a:xfrm>
          </p:grpSpPr>
          <p:sp>
            <p:nvSpPr>
              <p:cNvPr id="799" name="Line 21"/>
              <p:cNvSpPr/>
              <p:nvPr/>
            </p:nvSpPr>
            <p:spPr>
              <a:xfrm flipH="1" flipV="1">
                <a:off x="6162120" y="2626200"/>
                <a:ext cx="338760" cy="55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AutoShape 20"/>
              <p:cNvSpPr/>
              <p:nvPr/>
            </p:nvSpPr>
            <p:spPr>
              <a:xfrm flipH="1" rot="19734000">
                <a:off x="6137280" y="260784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1" name="Group 11"/>
          <p:cNvGrpSpPr/>
          <p:nvPr/>
        </p:nvGrpSpPr>
        <p:grpSpPr>
          <a:xfrm>
            <a:off x="3485520" y="1511640"/>
            <a:ext cx="1829160" cy="595440"/>
            <a:chOff x="3485520" y="1511640"/>
            <a:chExt cx="1829160" cy="595440"/>
          </a:xfrm>
        </p:grpSpPr>
        <p:grpSp>
          <p:nvGrpSpPr>
            <p:cNvPr id="802" name="Group 15"/>
            <p:cNvGrpSpPr/>
            <p:nvPr/>
          </p:nvGrpSpPr>
          <p:grpSpPr>
            <a:xfrm>
              <a:off x="3485520" y="1511640"/>
              <a:ext cx="415440" cy="595440"/>
              <a:chOff x="3485520" y="1511640"/>
              <a:chExt cx="415440" cy="595440"/>
            </a:xfrm>
          </p:grpSpPr>
          <p:sp>
            <p:nvSpPr>
              <p:cNvPr id="803" name="Line 17"/>
              <p:cNvSpPr/>
              <p:nvPr/>
            </p:nvSpPr>
            <p:spPr>
              <a:xfrm flipV="1">
                <a:off x="3485520" y="1554480"/>
                <a:ext cx="339120" cy="55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AutoShape 16"/>
              <p:cNvSpPr/>
              <p:nvPr/>
            </p:nvSpPr>
            <p:spPr>
              <a:xfrm rot="1866000">
                <a:off x="3683520" y="153648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12"/>
            <p:cNvGrpSpPr/>
            <p:nvPr/>
          </p:nvGrpSpPr>
          <p:grpSpPr>
            <a:xfrm>
              <a:off x="4899240" y="1511640"/>
              <a:ext cx="415440" cy="595440"/>
              <a:chOff x="4899240" y="1511640"/>
              <a:chExt cx="415440" cy="595440"/>
            </a:xfrm>
          </p:grpSpPr>
          <p:sp>
            <p:nvSpPr>
              <p:cNvPr id="806" name="Line 14"/>
              <p:cNvSpPr/>
              <p:nvPr/>
            </p:nvSpPr>
            <p:spPr>
              <a:xfrm flipH="1" flipV="1">
                <a:off x="4975560" y="1554480"/>
                <a:ext cx="339120" cy="55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AutoShape 13"/>
              <p:cNvSpPr/>
              <p:nvPr/>
            </p:nvSpPr>
            <p:spPr>
              <a:xfrm flipH="1" rot="19734000">
                <a:off x="4950720" y="153648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8" name="AutoShape 10"/>
          <p:cNvSpPr/>
          <p:nvPr/>
        </p:nvSpPr>
        <p:spPr>
          <a:xfrm>
            <a:off x="1692360" y="2098800"/>
            <a:ext cx="2297160" cy="48096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 одним вх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9"/>
          <p:cNvSpPr/>
          <p:nvPr/>
        </p:nvSpPr>
        <p:spPr>
          <a:xfrm>
            <a:off x="4848120" y="2098800"/>
            <a:ext cx="2295720" cy="48096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 двумя вх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Group 6" descr=""/>
          <p:cNvPicPr/>
          <p:nvPr/>
        </p:nvPicPr>
        <p:blipFill>
          <a:blip r:embed="rId1"/>
          <a:stretch/>
        </p:blipFill>
        <p:spPr>
          <a:xfrm>
            <a:off x="4913280" y="3133800"/>
            <a:ext cx="2212920" cy="596880"/>
          </a:xfrm>
          <a:prstGeom prst="rect">
            <a:avLst/>
          </a:prstGeom>
          <a:ln w="0">
            <a:noFill/>
          </a:ln>
        </p:spPr>
      </p:pic>
      <p:grpSp>
        <p:nvGrpSpPr>
          <p:cNvPr id="811" name="Group 3"/>
          <p:cNvGrpSpPr/>
          <p:nvPr/>
        </p:nvGrpSpPr>
        <p:grpSpPr>
          <a:xfrm>
            <a:off x="2729880" y="2630880"/>
            <a:ext cx="169200" cy="652320"/>
            <a:chOff x="2729880" y="2630880"/>
            <a:chExt cx="169200" cy="652320"/>
          </a:xfrm>
        </p:grpSpPr>
        <p:sp>
          <p:nvSpPr>
            <p:cNvPr id="812" name="Line 5"/>
            <p:cNvSpPr/>
            <p:nvPr/>
          </p:nvSpPr>
          <p:spPr>
            <a:xfrm flipH="1" flipV="1">
              <a:off x="2808360" y="2635200"/>
              <a:ext cx="50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4"/>
            <p:cNvSpPr/>
            <p:nvPr/>
          </p:nvSpPr>
          <p:spPr>
            <a:xfrm rot="21547800">
              <a:off x="2731680" y="2631960"/>
              <a:ext cx="165600" cy="246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AutoShape 2"/>
          <p:cNvSpPr/>
          <p:nvPr/>
        </p:nvSpPr>
        <p:spPr>
          <a:xfrm>
            <a:off x="2405160" y="3201840"/>
            <a:ext cx="876240" cy="48132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оугольник 30"/>
          <p:cNvSpPr/>
          <p:nvPr/>
        </p:nvSpPr>
        <p:spPr>
          <a:xfrm>
            <a:off x="511200" y="3965400"/>
            <a:ext cx="8280360" cy="22885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но-ориентированное программир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такой подход к программированию, при котором программа представляет собой множество взаимодействующих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аждый из которых является экземпляром определенног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лассы образуют иерархи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азов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694F-622B-4F38-8A87-DE73217B50A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466560" y="946080"/>
          <a:ext cx="2565720" cy="2103480"/>
        </p:xfrm>
        <a:graphic>
          <a:graphicData uri="http://schemas.openxmlformats.org/drawingml/2006/table">
            <a:tbl>
              <a:tblPr/>
              <a:tblGrid>
                <a:gridCol w="2565720"/>
              </a:tblGrid>
              <a:tr h="420840">
                <a:tc>
                  <a:txBody>
                    <a:bodyPr lIns="116280" rIns="11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Лог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6216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(вход 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(вход 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результа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l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Прямоугольник 4"/>
          <p:cNvSpPr/>
          <p:nvPr/>
        </p:nvSpPr>
        <p:spPr>
          <a:xfrm>
            <a:off x="3333600" y="941400"/>
            <a:ext cx="54658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34"/>
          <p:cNvGrpSpPr/>
          <p:nvPr/>
        </p:nvGrpSpPr>
        <p:grpSpPr>
          <a:xfrm>
            <a:off x="484200" y="3360600"/>
            <a:ext cx="4703760" cy="663480"/>
            <a:chOff x="484200" y="3360600"/>
            <a:chExt cx="4703760" cy="663480"/>
          </a:xfrm>
        </p:grpSpPr>
        <p:sp>
          <p:nvSpPr>
            <p:cNvPr id="821" name="Text Box 32"/>
            <p:cNvSpPr/>
            <p:nvPr/>
          </p:nvSpPr>
          <p:spPr>
            <a:xfrm>
              <a:off x="988920" y="3460680"/>
              <a:ext cx="4199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хранить результа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33"/>
            <p:cNvSpPr/>
            <p:nvPr/>
          </p:nvSpPr>
          <p:spPr>
            <a:xfrm>
              <a:off x="484200" y="3360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Скругленная прямоугольная выноска 8"/>
          <p:cNvSpPr/>
          <p:nvPr/>
        </p:nvSpPr>
        <p:spPr>
          <a:xfrm>
            <a:off x="442800" y="4467240"/>
            <a:ext cx="4935600" cy="720720"/>
          </a:xfrm>
          <a:prstGeom prst="wedgeRoundRectCallout">
            <a:avLst>
              <a:gd name="adj1" fmla="val -6444"/>
              <a:gd name="adj2" fmla="val -13520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моделировать элементы с памятью (тригге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Скругленная прямоугольная выноска 9"/>
          <p:cNvSpPr/>
          <p:nvPr/>
        </p:nvSpPr>
        <p:spPr>
          <a:xfrm>
            <a:off x="5535720" y="3193920"/>
            <a:ext cx="2843280" cy="747720"/>
          </a:xfrm>
          <a:prstGeom prst="wedgeRoundRectCallout">
            <a:avLst>
              <a:gd name="adj1" fmla="val -58074"/>
              <a:gd name="adj2" fmla="val -9779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доступно наследник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азов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31B7-FC6D-459E-995E-83FBD4D4F7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"/>
          <p:cNvSpPr/>
          <p:nvPr/>
        </p:nvSpPr>
        <p:spPr>
          <a:xfrm>
            <a:off x="388800" y="857160"/>
            <a:ext cx="8404200" cy="501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1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1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2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2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in1, __setIn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in2, __setIn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re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Скругленная прямоугольная выноска 9"/>
          <p:cNvSpPr/>
          <p:nvPr/>
        </p:nvSpPr>
        <p:spPr>
          <a:xfrm>
            <a:off x="6656400" y="5740560"/>
            <a:ext cx="2060640" cy="747720"/>
          </a:xfrm>
          <a:prstGeom prst="wedgeRoundRectCallout">
            <a:avLst>
              <a:gd name="adj1" fmla="val -62759"/>
              <a:gd name="adj2" fmla="val -48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для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Скругленная прямоугольная выноска 10"/>
          <p:cNvSpPr/>
          <p:nvPr/>
        </p:nvSpPr>
        <p:spPr>
          <a:xfrm>
            <a:off x="4572000" y="3232080"/>
            <a:ext cx="2955960" cy="449280"/>
          </a:xfrm>
          <a:prstGeom prst="wedgeRoundRectCallout">
            <a:avLst>
              <a:gd name="adj1" fmla="val -89314"/>
              <a:gd name="adj2" fmla="val 9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чёт вы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7" dur="500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8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8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8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8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8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8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8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8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1D7C-0A71-48FE-AA46-4795116364F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"/>
          <p:cNvSpPr/>
          <p:nvPr/>
        </p:nvSpPr>
        <p:spPr>
          <a:xfrm>
            <a:off x="515880" y="1638360"/>
            <a:ext cx="44071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Скругленная прямоугольная выноска 10"/>
          <p:cNvSpPr/>
          <p:nvPr/>
        </p:nvSpPr>
        <p:spPr>
          <a:xfrm>
            <a:off x="4649760" y="2506680"/>
            <a:ext cx="1792440" cy="401760"/>
          </a:xfrm>
          <a:prstGeom prst="wedgeRoundRectCallout">
            <a:avLst>
              <a:gd name="adj1" fmla="val -67981"/>
              <a:gd name="adj2" fmla="val -34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л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34"/>
          <p:cNvGrpSpPr/>
          <p:nvPr/>
        </p:nvGrpSpPr>
        <p:grpSpPr>
          <a:xfrm>
            <a:off x="330120" y="3403440"/>
            <a:ext cx="8612280" cy="663480"/>
            <a:chOff x="330120" y="3403440"/>
            <a:chExt cx="8612280" cy="663480"/>
          </a:xfrm>
        </p:grpSpPr>
        <p:sp>
          <p:nvSpPr>
            <p:cNvPr id="835" name="Text Box 32"/>
            <p:cNvSpPr/>
            <p:nvPr/>
          </p:nvSpPr>
          <p:spPr>
            <a:xfrm>
              <a:off x="834840" y="3503520"/>
              <a:ext cx="8107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запретить создавать объекты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LogElement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33"/>
            <p:cNvSpPr/>
            <p:nvPr/>
          </p:nvSpPr>
          <p:spPr>
            <a:xfrm>
              <a:off x="330120" y="3403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Плюс 17"/>
          <p:cNvSpPr/>
          <p:nvPr/>
        </p:nvSpPr>
        <p:spPr>
          <a:xfrm rot="2700000">
            <a:off x="1083960" y="1860480"/>
            <a:ext cx="1776600" cy="1776240"/>
          </a:xfrm>
          <a:custGeom>
            <a:avLst/>
            <a:gdLst>
              <a:gd name="textAreaLeft" fmla="*/ 235440 w 1776600"/>
              <a:gd name="textAreaRight" fmla="*/ 1541160 w 1776600"/>
              <a:gd name="textAreaTop" fmla="*/ 817560 h 1776240"/>
              <a:gd name="textAreaBottom" fmla="*/ 958680 h 1776240"/>
            </a:gdLst>
            <a:ahLst/>
            <a:rect l="textAreaLeft" t="textAreaTop" r="textAreaRight" b="textAreaBottom"/>
            <a:pathLst>
              <a:path w="1776413" h="1776412">
                <a:moveTo>
                  <a:pt x="235463" y="817585"/>
                </a:moveTo>
                <a:lnTo>
                  <a:pt x="817585" y="817585"/>
                </a:lnTo>
                <a:lnTo>
                  <a:pt x="817585" y="235463"/>
                </a:lnTo>
                <a:lnTo>
                  <a:pt x="958828" y="235463"/>
                </a:lnTo>
                <a:lnTo>
                  <a:pt x="958828" y="817585"/>
                </a:lnTo>
                <a:lnTo>
                  <a:pt x="1540950" y="817585"/>
                </a:lnTo>
                <a:lnTo>
                  <a:pt x="1540950" y="958827"/>
                </a:lnTo>
                <a:lnTo>
                  <a:pt x="958828" y="958827"/>
                </a:lnTo>
                <a:lnTo>
                  <a:pt x="958828" y="1540949"/>
                </a:lnTo>
                <a:lnTo>
                  <a:pt x="817585" y="1540949"/>
                </a:lnTo>
                <a:lnTo>
                  <a:pt x="817585" y="958827"/>
                </a:lnTo>
                <a:lnTo>
                  <a:pt x="235463" y="958827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34"/>
          <p:cNvGrpSpPr/>
          <p:nvPr/>
        </p:nvGrpSpPr>
        <p:grpSpPr>
          <a:xfrm>
            <a:off x="330120" y="905040"/>
            <a:ext cx="4923000" cy="663480"/>
            <a:chOff x="330120" y="905040"/>
            <a:chExt cx="4923000" cy="663480"/>
          </a:xfrm>
        </p:grpSpPr>
        <p:sp>
          <p:nvSpPr>
            <p:cNvPr id="839" name="Text Box 32"/>
            <p:cNvSpPr/>
            <p:nvPr/>
          </p:nvSpPr>
          <p:spPr>
            <a:xfrm>
              <a:off x="834840" y="1005120"/>
              <a:ext cx="4418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писать метод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al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3"/>
            <p:cNvSpPr/>
            <p:nvPr/>
          </p:nvSpPr>
          <p:spPr>
            <a:xfrm>
              <a:off x="330120" y="905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бстрактн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61D1-15FB-44F6-9CB5-4EEEBDB97B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3"/>
          <p:cNvSpPr/>
          <p:nvPr/>
        </p:nvSpPr>
        <p:spPr>
          <a:xfrm>
            <a:off x="384120" y="2052720"/>
            <a:ext cx="840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бстрактный метод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метод класса, который объявляется, но не реализуется в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4"/>
          <p:cNvSpPr/>
          <p:nvPr/>
        </p:nvSpPr>
        <p:spPr>
          <a:xfrm>
            <a:off x="384120" y="3013200"/>
            <a:ext cx="840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бстрактный клас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класс, содержащий хотя бы один абстрактный мет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оугольник 5"/>
          <p:cNvSpPr/>
          <p:nvPr/>
        </p:nvSpPr>
        <p:spPr>
          <a:xfrm>
            <a:off x="384120" y="811080"/>
            <a:ext cx="83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логические элементы должны иметь метод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озможно написать, пока неизвестен тип логическо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6"/>
          <p:cNvSpPr/>
          <p:nvPr/>
        </p:nvSpPr>
        <p:spPr>
          <a:xfrm>
            <a:off x="384120" y="38815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логического элемента «вообще», как не «фрукта вообще», есть конкрет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34"/>
          <p:cNvGrpSpPr/>
          <p:nvPr/>
        </p:nvGrpSpPr>
        <p:grpSpPr>
          <a:xfrm>
            <a:off x="412920" y="4789440"/>
            <a:ext cx="7467480" cy="663480"/>
            <a:chOff x="412920" y="4789440"/>
            <a:chExt cx="7467480" cy="663480"/>
          </a:xfrm>
        </p:grpSpPr>
        <p:sp>
          <p:nvSpPr>
            <p:cNvPr id="848" name="Text Box 32"/>
            <p:cNvSpPr/>
            <p:nvPr/>
          </p:nvSpPr>
          <p:spPr>
            <a:xfrm>
              <a:off x="917640" y="4889520"/>
              <a:ext cx="6962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льзя создать объект абстрактного класс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33"/>
            <p:cNvSpPr/>
            <p:nvPr/>
          </p:nvSpPr>
          <p:spPr>
            <a:xfrm>
              <a:off x="412920" y="4789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Прямоугольник 10"/>
          <p:cNvSpPr/>
          <p:nvPr/>
        </p:nvSpPr>
        <p:spPr>
          <a:xfrm>
            <a:off x="1033560" y="5562720"/>
            <a:ext cx="73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TLogEleme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абстрактный класс из-за метода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a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мы воспринимаем объект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1300-C7A8-47AD-8E7C-CC52B2361A1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2"/>
          <p:cNvGrpSpPr/>
          <p:nvPr/>
        </p:nvGrpSpPr>
        <p:grpSpPr>
          <a:xfrm>
            <a:off x="2084400" y="896760"/>
            <a:ext cx="1701720" cy="1710000"/>
            <a:chOff x="2084400" y="896760"/>
            <a:chExt cx="1701720" cy="1710000"/>
          </a:xfrm>
        </p:grpSpPr>
        <p:sp>
          <p:nvSpPr>
            <p:cNvPr id="236" name="AutoShape 3"/>
            <p:cNvSpPr/>
            <p:nvPr/>
          </p:nvSpPr>
          <p:spPr>
            <a:xfrm>
              <a:off x="2084400" y="896760"/>
              <a:ext cx="1701720" cy="17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2091240" y="913320"/>
              <a:ext cx="1688760" cy="1687680"/>
              <a:chOff x="2091240" y="913320"/>
              <a:chExt cx="1688760" cy="1687680"/>
            </a:xfrm>
          </p:grpSpPr>
          <p:sp>
            <p:nvSpPr>
              <p:cNvPr id="238" name="Oval 5"/>
              <p:cNvSpPr/>
              <p:nvPr/>
            </p:nvSpPr>
            <p:spPr>
              <a:xfrm>
                <a:off x="2091240" y="913320"/>
                <a:ext cx="1688760" cy="1687680"/>
              </a:xfrm>
              <a:prstGeom prst="ellips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"/>
              <p:cNvSpPr/>
              <p:nvPr/>
            </p:nvSpPr>
            <p:spPr>
              <a:xfrm>
                <a:off x="2342880" y="1164960"/>
                <a:ext cx="1186200" cy="1185120"/>
              </a:xfrm>
              <a:prstGeom prst="ellipse">
                <a:avLst/>
              </a:prstGeom>
              <a:solidFill>
                <a:srgbClr val="e6e6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9"/>
            <p:cNvGrpSpPr/>
            <p:nvPr/>
          </p:nvGrpSpPr>
          <p:grpSpPr>
            <a:xfrm>
              <a:off x="2589120" y="1479960"/>
              <a:ext cx="304560" cy="284400"/>
              <a:chOff x="2589120" y="1479960"/>
              <a:chExt cx="304560" cy="284400"/>
            </a:xfrm>
          </p:grpSpPr>
          <p:sp>
            <p:nvSpPr>
              <p:cNvPr id="241" name="Freeform 10"/>
              <p:cNvSpPr/>
              <p:nvPr/>
            </p:nvSpPr>
            <p:spPr>
              <a:xfrm rot="21383400">
                <a:off x="2597040" y="1488600"/>
                <a:ext cx="288360" cy="266760"/>
              </a:xfrm>
              <a:custGeom>
                <a:avLst/>
                <a:gdLst>
                  <a:gd name="textAreaLeft" fmla="*/ 0 w 288360"/>
                  <a:gd name="textAreaRight" fmla="*/ 288720 w 28836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11"/>
              <p:cNvSpPr/>
              <p:nvPr/>
            </p:nvSpPr>
            <p:spPr>
              <a:xfrm rot="21383400">
                <a:off x="2672640" y="1557720"/>
                <a:ext cx="136800" cy="12744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12"/>
              <p:cNvSpPr/>
              <p:nvPr/>
            </p:nvSpPr>
            <p:spPr>
              <a:xfrm rot="21383400">
                <a:off x="2689560" y="1573200"/>
                <a:ext cx="103680" cy="96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13"/>
            <p:cNvGrpSpPr/>
            <p:nvPr/>
          </p:nvGrpSpPr>
          <p:grpSpPr>
            <a:xfrm>
              <a:off x="2822040" y="1522440"/>
              <a:ext cx="363240" cy="345600"/>
              <a:chOff x="2822040" y="1522440"/>
              <a:chExt cx="363240" cy="345600"/>
            </a:xfrm>
          </p:grpSpPr>
          <p:sp>
            <p:nvSpPr>
              <p:cNvPr id="245" name="Freeform 14"/>
              <p:cNvSpPr/>
              <p:nvPr/>
            </p:nvSpPr>
            <p:spPr>
              <a:xfrm rot="20788200">
                <a:off x="2850480" y="1554120"/>
                <a:ext cx="305640" cy="28188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15"/>
              <p:cNvSpPr/>
              <p:nvPr/>
            </p:nvSpPr>
            <p:spPr>
              <a:xfrm rot="20788200">
                <a:off x="2931120" y="1627560"/>
                <a:ext cx="145080" cy="13464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16"/>
              <p:cNvSpPr/>
              <p:nvPr/>
            </p:nvSpPr>
            <p:spPr>
              <a:xfrm rot="20788200">
                <a:off x="2948040" y="1644480"/>
                <a:ext cx="109800" cy="1018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2898360" y="1266480"/>
              <a:ext cx="363600" cy="344160"/>
              <a:chOff x="2898360" y="1266480"/>
              <a:chExt cx="363600" cy="344160"/>
            </a:xfrm>
          </p:grpSpPr>
          <p:sp>
            <p:nvSpPr>
              <p:cNvPr id="249" name="Freeform 18"/>
              <p:cNvSpPr/>
              <p:nvPr/>
            </p:nvSpPr>
            <p:spPr>
              <a:xfrm rot="20788200">
                <a:off x="2926800" y="1298160"/>
                <a:ext cx="306360" cy="28044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19"/>
              <p:cNvSpPr/>
              <p:nvPr/>
            </p:nvSpPr>
            <p:spPr>
              <a:xfrm rot="20788200">
                <a:off x="3006720" y="1371240"/>
                <a:ext cx="145440" cy="1339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20"/>
              <p:cNvSpPr/>
              <p:nvPr/>
            </p:nvSpPr>
            <p:spPr>
              <a:xfrm rot="20788200">
                <a:off x="3024360" y="1387800"/>
                <a:ext cx="110160" cy="101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AutoShape 21"/>
            <p:cNvSpPr/>
            <p:nvPr/>
          </p:nvSpPr>
          <p:spPr>
            <a:xfrm>
              <a:off x="3191040" y="1510560"/>
              <a:ext cx="204480" cy="194040"/>
            </a:xfrm>
            <a:prstGeom prst="pentagon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2"/>
            <p:cNvSpPr/>
            <p:nvPr/>
          </p:nvSpPr>
          <p:spPr>
            <a:xfrm>
              <a:off x="2877480" y="1862280"/>
              <a:ext cx="219240" cy="325440"/>
            </a:xfrm>
            <a:prstGeom prst="flowChartMagneticDisk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3"/>
            <p:cNvSpPr/>
            <p:nvPr/>
          </p:nvSpPr>
          <p:spPr>
            <a:xfrm rot="16446600">
              <a:off x="2676240" y="1283040"/>
              <a:ext cx="196200" cy="169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4"/>
            <p:cNvSpPr/>
            <p:nvPr/>
          </p:nvSpPr>
          <p:spPr>
            <a:xfrm rot="5400000">
              <a:off x="2630520" y="1915200"/>
              <a:ext cx="105840" cy="212400"/>
            </a:xfrm>
            <a:prstGeom prst="flowChartCollat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5"/>
            <p:cNvSpPr/>
            <p:nvPr/>
          </p:nvSpPr>
          <p:spPr>
            <a:xfrm>
              <a:off x="3168000" y="1768320"/>
              <a:ext cx="192960" cy="1929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6"/>
            <p:cNvSpPr/>
            <p:nvPr/>
          </p:nvSpPr>
          <p:spPr>
            <a:xfrm>
              <a:off x="2631240" y="1806120"/>
              <a:ext cx="107640" cy="214560"/>
            </a:xfrm>
            <a:prstGeom prst="flowChartSor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7"/>
            <p:cNvSpPr/>
            <p:nvPr/>
          </p:nvSpPr>
          <p:spPr>
            <a:xfrm>
              <a:off x="2423160" y="1661400"/>
              <a:ext cx="227160" cy="227160"/>
            </a:xfrm>
            <a:prstGeom prst="diamond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8"/>
            <p:cNvSpPr/>
            <p:nvPr/>
          </p:nvSpPr>
          <p:spPr>
            <a:xfrm rot="7740600">
              <a:off x="3182400" y="1968480"/>
              <a:ext cx="107640" cy="214200"/>
            </a:xfrm>
            <a:prstGeom prst="flowChartSor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9"/>
            <p:cNvSpPr/>
            <p:nvPr/>
          </p:nvSpPr>
          <p:spPr>
            <a:xfrm>
              <a:off x="2643480" y="2113920"/>
              <a:ext cx="216000" cy="119520"/>
            </a:xfrm>
            <a:prstGeom prst="flowChartMagneticDrum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Скругленная прямоугольная выноска 33"/>
          <p:cNvSpPr/>
          <p:nvPr/>
        </p:nvSpPr>
        <p:spPr>
          <a:xfrm>
            <a:off x="3348000" y="2465280"/>
            <a:ext cx="2500200" cy="781200"/>
          </a:xfrm>
          <a:prstGeom prst="wedgeRoundRectCallout">
            <a:avLst>
              <a:gd name="adj1" fmla="val -41828"/>
              <a:gd name="adj2" fmla="val -94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енные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2"/>
          <p:cNvGrpSpPr/>
          <p:nvPr/>
        </p:nvGrpSpPr>
        <p:grpSpPr>
          <a:xfrm>
            <a:off x="4838400" y="1095480"/>
            <a:ext cx="893880" cy="1121760"/>
            <a:chOff x="4838400" y="1095480"/>
            <a:chExt cx="893880" cy="1121760"/>
          </a:xfrm>
        </p:grpSpPr>
        <p:sp>
          <p:nvSpPr>
            <p:cNvPr id="263" name="Rectangle 33"/>
            <p:cNvSpPr/>
            <p:nvPr/>
          </p:nvSpPr>
          <p:spPr>
            <a:xfrm>
              <a:off x="4838400" y="1095480"/>
              <a:ext cx="68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34"/>
            <p:cNvGrpSpPr/>
            <p:nvPr/>
          </p:nvGrpSpPr>
          <p:grpSpPr>
            <a:xfrm>
              <a:off x="5064120" y="1722240"/>
              <a:ext cx="649440" cy="495000"/>
              <a:chOff x="5064120" y="1722240"/>
              <a:chExt cx="649440" cy="495000"/>
            </a:xfrm>
          </p:grpSpPr>
          <p:sp>
            <p:nvSpPr>
              <p:cNvPr id="265" name="Freeform 35"/>
              <p:cNvSpPr/>
              <p:nvPr/>
            </p:nvSpPr>
            <p:spPr>
              <a:xfrm>
                <a:off x="5064120" y="1722240"/>
                <a:ext cx="649440" cy="49500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15480" h="12340">
                    <a:moveTo>
                      <a:pt x="4576" y="12340"/>
                    </a:moveTo>
                    <a:cubicBezTo>
                      <a:pt x="4322" y="11696"/>
                      <a:pt x="4068" y="11057"/>
                      <a:pt x="3717" y="10493"/>
                    </a:cubicBezTo>
                    <a:cubicBezTo>
                      <a:pt x="3365" y="9930"/>
                      <a:pt x="2824" y="9299"/>
                      <a:pt x="2472" y="8948"/>
                    </a:cubicBezTo>
                    <a:cubicBezTo>
                      <a:pt x="2121" y="8596"/>
                      <a:pt x="1892" y="8639"/>
                      <a:pt x="1613" y="8389"/>
                    </a:cubicBezTo>
                    <a:cubicBezTo>
                      <a:pt x="1334" y="8139"/>
                      <a:pt x="0" y="8490"/>
                      <a:pt x="796" y="7444"/>
                    </a:cubicBezTo>
                    <a:cubicBezTo>
                      <a:pt x="1592" y="6398"/>
                      <a:pt x="4991" y="3337"/>
                      <a:pt x="6379" y="2121"/>
                    </a:cubicBezTo>
                    <a:cubicBezTo>
                      <a:pt x="7768" y="906"/>
                      <a:pt x="8369" y="288"/>
                      <a:pt x="9126" y="144"/>
                    </a:cubicBezTo>
                    <a:cubicBezTo>
                      <a:pt x="9884" y="0"/>
                      <a:pt x="10392" y="868"/>
                      <a:pt x="10930" y="1262"/>
                    </a:cubicBezTo>
                    <a:cubicBezTo>
                      <a:pt x="11467" y="1656"/>
                      <a:pt x="12001" y="1969"/>
                      <a:pt x="12343" y="2507"/>
                    </a:cubicBezTo>
                    <a:cubicBezTo>
                      <a:pt x="12686" y="3045"/>
                      <a:pt x="12636" y="3574"/>
                      <a:pt x="12987" y="4484"/>
                    </a:cubicBezTo>
                    <a:cubicBezTo>
                      <a:pt x="13338" y="5395"/>
                      <a:pt x="14032" y="7195"/>
                      <a:pt x="14447" y="7961"/>
                    </a:cubicBezTo>
                    <a:cubicBezTo>
                      <a:pt x="14862" y="8728"/>
                      <a:pt x="15171" y="8901"/>
                      <a:pt x="15480" y="9079"/>
                    </a:cubicBez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6"/>
              <p:cNvSpPr/>
              <p:nvPr/>
            </p:nvSpPr>
            <p:spPr>
              <a:xfrm>
                <a:off x="5064120" y="1722240"/>
                <a:ext cx="649440" cy="49500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415" h="333">
                    <a:moveTo>
                      <a:pt x="123" y="333"/>
                    </a:moveTo>
                    <a:cubicBezTo>
                      <a:pt x="116" y="315"/>
                      <a:pt x="109" y="298"/>
                      <a:pt x="100" y="283"/>
                    </a:cubicBezTo>
                    <a:cubicBezTo>
                      <a:pt x="90" y="268"/>
                      <a:pt x="76" y="251"/>
                      <a:pt x="66" y="241"/>
                    </a:cubicBezTo>
                    <a:cubicBezTo>
                      <a:pt x="57" y="232"/>
                      <a:pt x="51" y="233"/>
                      <a:pt x="43" y="226"/>
                    </a:cubicBezTo>
                    <a:cubicBezTo>
                      <a:pt x="36" y="219"/>
                      <a:pt x="0" y="229"/>
                      <a:pt x="21" y="200"/>
                    </a:cubicBezTo>
                    <a:cubicBezTo>
                      <a:pt x="43" y="172"/>
                      <a:pt x="134" y="90"/>
                      <a:pt x="171" y="57"/>
                    </a:cubicBezTo>
                    <a:cubicBezTo>
                      <a:pt x="208" y="24"/>
                      <a:pt x="224" y="7"/>
                      <a:pt x="245" y="3"/>
                    </a:cubicBezTo>
                    <a:cubicBezTo>
                      <a:pt x="265" y="0"/>
                      <a:pt x="279" y="23"/>
                      <a:pt x="293" y="34"/>
                    </a:cubicBezTo>
                    <a:cubicBezTo>
                      <a:pt x="307" y="44"/>
                      <a:pt x="322" y="53"/>
                      <a:pt x="331" y="67"/>
                    </a:cubicBezTo>
                    <a:cubicBezTo>
                      <a:pt x="340" y="82"/>
                      <a:pt x="339" y="96"/>
                      <a:pt x="348" y="121"/>
                    </a:cubicBezTo>
                    <a:cubicBezTo>
                      <a:pt x="358" y="145"/>
                      <a:pt x="376" y="194"/>
                      <a:pt x="387" y="214"/>
                    </a:cubicBezTo>
                    <a:cubicBezTo>
                      <a:pt x="398" y="235"/>
                      <a:pt x="407" y="240"/>
                      <a:pt x="415" y="245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37"/>
            <p:cNvGrpSpPr/>
            <p:nvPr/>
          </p:nvGrpSpPr>
          <p:grpSpPr>
            <a:xfrm>
              <a:off x="4840200" y="1312200"/>
              <a:ext cx="583560" cy="771120"/>
              <a:chOff x="4840200" y="1312200"/>
              <a:chExt cx="583560" cy="771120"/>
            </a:xfrm>
          </p:grpSpPr>
          <p:sp>
            <p:nvSpPr>
              <p:cNvPr id="268" name="Freeform 38"/>
              <p:cNvSpPr/>
              <p:nvPr/>
            </p:nvSpPr>
            <p:spPr>
              <a:xfrm>
                <a:off x="4840200" y="1312200"/>
                <a:ext cx="583560" cy="771120"/>
              </a:xfrm>
              <a:custGeom>
                <a:avLst/>
                <a:gdLst>
                  <a:gd name="textAreaLeft" fmla="*/ 0 w 583560"/>
                  <a:gd name="textAreaRight" fmla="*/ 583920 w 583560"/>
                  <a:gd name="textAreaTop" fmla="*/ 0 h 771120"/>
                  <a:gd name="textAreaBottom" fmla="*/ 771480 h 771120"/>
                </a:gdLst>
                <a:ahLst/>
                <a:rect l="textAreaLeft" t="textAreaTop" r="textAreaRight" b="textAreaBottom"/>
                <a:pathLst>
                  <a:path w="13920" h="19246">
                    <a:moveTo>
                      <a:pt x="3552" y="495"/>
                    </a:moveTo>
                    <a:cubicBezTo>
                      <a:pt x="3137" y="707"/>
                      <a:pt x="2722" y="918"/>
                      <a:pt x="2434" y="1354"/>
                    </a:cubicBezTo>
                    <a:cubicBezTo>
                      <a:pt x="2147" y="1790"/>
                      <a:pt x="2011" y="2514"/>
                      <a:pt x="1833" y="3115"/>
                    </a:cubicBezTo>
                    <a:cubicBezTo>
                      <a:pt x="1655" y="3716"/>
                      <a:pt x="1406" y="4419"/>
                      <a:pt x="1363" y="4961"/>
                    </a:cubicBezTo>
                    <a:cubicBezTo>
                      <a:pt x="1321" y="5502"/>
                      <a:pt x="1418" y="5926"/>
                      <a:pt x="1575" y="6374"/>
                    </a:cubicBezTo>
                    <a:cubicBezTo>
                      <a:pt x="1732" y="6823"/>
                      <a:pt x="2337" y="7259"/>
                      <a:pt x="2307" y="7665"/>
                    </a:cubicBezTo>
                    <a:cubicBezTo>
                      <a:pt x="2278" y="8072"/>
                      <a:pt x="1694" y="8343"/>
                      <a:pt x="1406" y="8821"/>
                    </a:cubicBezTo>
                    <a:cubicBezTo>
                      <a:pt x="1118" y="9299"/>
                      <a:pt x="817" y="10116"/>
                      <a:pt x="589" y="10540"/>
                    </a:cubicBezTo>
                    <a:cubicBezTo>
                      <a:pt x="360" y="10963"/>
                      <a:pt x="59" y="11086"/>
                      <a:pt x="30" y="11356"/>
                    </a:cubicBezTo>
                    <a:cubicBezTo>
                      <a:pt x="0" y="11627"/>
                      <a:pt x="220" y="11962"/>
                      <a:pt x="419" y="12169"/>
                    </a:cubicBezTo>
                    <a:cubicBezTo>
                      <a:pt x="618" y="12377"/>
                      <a:pt x="1033" y="12478"/>
                      <a:pt x="1232" y="12601"/>
                    </a:cubicBezTo>
                    <a:cubicBezTo>
                      <a:pt x="1431" y="12724"/>
                      <a:pt x="1571" y="12681"/>
                      <a:pt x="1622" y="12901"/>
                    </a:cubicBezTo>
                    <a:cubicBezTo>
                      <a:pt x="1672" y="13122"/>
                      <a:pt x="1478" y="13600"/>
                      <a:pt x="1533" y="13930"/>
                    </a:cubicBezTo>
                    <a:cubicBezTo>
                      <a:pt x="1588" y="14260"/>
                      <a:pt x="1863" y="14675"/>
                      <a:pt x="1965" y="14874"/>
                    </a:cubicBezTo>
                    <a:cubicBezTo>
                      <a:pt x="2066" y="15073"/>
                      <a:pt x="2147" y="14967"/>
                      <a:pt x="2134" y="15132"/>
                    </a:cubicBezTo>
                    <a:cubicBezTo>
                      <a:pt x="2121" y="15297"/>
                      <a:pt x="1770" y="15644"/>
                      <a:pt x="1876" y="15860"/>
                    </a:cubicBezTo>
                    <a:cubicBezTo>
                      <a:pt x="1981" y="16076"/>
                      <a:pt x="2583" y="16220"/>
                      <a:pt x="2777" y="16419"/>
                    </a:cubicBezTo>
                    <a:cubicBezTo>
                      <a:pt x="2972" y="16618"/>
                      <a:pt x="3027" y="16804"/>
                      <a:pt x="3036" y="17062"/>
                    </a:cubicBezTo>
                    <a:cubicBezTo>
                      <a:pt x="3044" y="17321"/>
                      <a:pt x="2608" y="17621"/>
                      <a:pt x="2824" y="17964"/>
                    </a:cubicBezTo>
                    <a:cubicBezTo>
                      <a:pt x="3040" y="18307"/>
                      <a:pt x="3607" y="19001"/>
                      <a:pt x="4323" y="19124"/>
                    </a:cubicBezTo>
                    <a:cubicBezTo>
                      <a:pt x="5038" y="19246"/>
                      <a:pt x="6020" y="19145"/>
                      <a:pt x="7117" y="18696"/>
                    </a:cubicBezTo>
                    <a:cubicBezTo>
                      <a:pt x="8213" y="18248"/>
                      <a:pt x="9970" y="17143"/>
                      <a:pt x="10893" y="16419"/>
                    </a:cubicBezTo>
                    <a:cubicBezTo>
                      <a:pt x="11816" y="15695"/>
                      <a:pt x="12201" y="15098"/>
                      <a:pt x="12654" y="14362"/>
                    </a:cubicBezTo>
                    <a:cubicBezTo>
                      <a:pt x="13107" y="13625"/>
                      <a:pt x="13442" y="12758"/>
                      <a:pt x="13598" y="12000"/>
                    </a:cubicBezTo>
                    <a:cubicBezTo>
                      <a:pt x="13755" y="11242"/>
                      <a:pt x="13920" y="10264"/>
                      <a:pt x="13598" y="9811"/>
                    </a:cubicBezTo>
                    <a:cubicBezTo>
                      <a:pt x="13277" y="9359"/>
                      <a:pt x="12066" y="9325"/>
                      <a:pt x="11659" y="9270"/>
                    </a:cubicBezTo>
                    <a:cubicBezTo>
                      <a:pt x="11253" y="9215"/>
                      <a:pt x="11287" y="9634"/>
                      <a:pt x="11168" y="9469"/>
                    </a:cubicBezTo>
                    <a:cubicBezTo>
                      <a:pt x="11050" y="9304"/>
                      <a:pt x="11139" y="9105"/>
                      <a:pt x="10935" y="8267"/>
                    </a:cubicBezTo>
                    <a:cubicBezTo>
                      <a:pt x="10732" y="7428"/>
                      <a:pt x="10491" y="5545"/>
                      <a:pt x="9949" y="4444"/>
                    </a:cubicBezTo>
                    <a:cubicBezTo>
                      <a:pt x="9407" y="3344"/>
                      <a:pt x="8374" y="2362"/>
                      <a:pt x="7671" y="1655"/>
                    </a:cubicBezTo>
                    <a:cubicBezTo>
                      <a:pt x="6969" y="948"/>
                      <a:pt x="6469" y="389"/>
                      <a:pt x="5741" y="195"/>
                    </a:cubicBezTo>
                    <a:cubicBezTo>
                      <a:pt x="5013" y="0"/>
                      <a:pt x="4153" y="245"/>
                      <a:pt x="3294" y="495"/>
                    </a:cubicBez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39"/>
              <p:cNvSpPr/>
              <p:nvPr/>
            </p:nvSpPr>
            <p:spPr>
              <a:xfrm>
                <a:off x="4840200" y="1312200"/>
                <a:ext cx="583560" cy="771120"/>
              </a:xfrm>
              <a:custGeom>
                <a:avLst/>
                <a:gdLst>
                  <a:gd name="textAreaLeft" fmla="*/ 0 w 583560"/>
                  <a:gd name="textAreaRight" fmla="*/ 583920 w 583560"/>
                  <a:gd name="textAreaTop" fmla="*/ 0 h 771120"/>
                  <a:gd name="textAreaBottom" fmla="*/ 771480 h 771120"/>
                </a:gdLst>
                <a:ahLst/>
                <a:rect l="textAreaLeft" t="textAreaTop" r="textAreaRight" b="textAreaBottom"/>
                <a:pathLst>
                  <a:path w="373" h="519">
                    <a:moveTo>
                      <a:pt x="96" y="13"/>
                    </a:moveTo>
                    <a:cubicBezTo>
                      <a:pt x="84" y="19"/>
                      <a:pt x="73" y="25"/>
                      <a:pt x="66" y="36"/>
                    </a:cubicBezTo>
                    <a:cubicBezTo>
                      <a:pt x="58" y="48"/>
                      <a:pt x="54" y="68"/>
                      <a:pt x="49" y="84"/>
                    </a:cubicBezTo>
                    <a:cubicBezTo>
                      <a:pt x="45" y="100"/>
                      <a:pt x="38" y="119"/>
                      <a:pt x="37" y="134"/>
                    </a:cubicBezTo>
                    <a:cubicBezTo>
                      <a:pt x="36" y="148"/>
                      <a:pt x="38" y="160"/>
                      <a:pt x="42" y="172"/>
                    </a:cubicBezTo>
                    <a:cubicBezTo>
                      <a:pt x="47" y="184"/>
                      <a:pt x="63" y="196"/>
                      <a:pt x="62" y="207"/>
                    </a:cubicBezTo>
                    <a:cubicBezTo>
                      <a:pt x="61" y="218"/>
                      <a:pt x="46" y="225"/>
                      <a:pt x="38" y="238"/>
                    </a:cubicBezTo>
                    <a:cubicBezTo>
                      <a:pt x="30" y="251"/>
                      <a:pt x="22" y="273"/>
                      <a:pt x="16" y="284"/>
                    </a:cubicBezTo>
                    <a:cubicBezTo>
                      <a:pt x="10" y="296"/>
                      <a:pt x="2" y="299"/>
                      <a:pt x="1" y="306"/>
                    </a:cubicBezTo>
                    <a:cubicBezTo>
                      <a:pt x="0" y="314"/>
                      <a:pt x="6" y="323"/>
                      <a:pt x="11" y="328"/>
                    </a:cubicBezTo>
                    <a:cubicBezTo>
                      <a:pt x="17" y="334"/>
                      <a:pt x="28" y="337"/>
                      <a:pt x="33" y="340"/>
                    </a:cubicBezTo>
                    <a:cubicBezTo>
                      <a:pt x="39" y="343"/>
                      <a:pt x="42" y="342"/>
                      <a:pt x="44" y="348"/>
                    </a:cubicBezTo>
                    <a:cubicBezTo>
                      <a:pt x="45" y="354"/>
                      <a:pt x="40" y="367"/>
                      <a:pt x="41" y="376"/>
                    </a:cubicBezTo>
                    <a:cubicBezTo>
                      <a:pt x="43" y="385"/>
                      <a:pt x="50" y="396"/>
                      <a:pt x="53" y="401"/>
                    </a:cubicBezTo>
                    <a:cubicBezTo>
                      <a:pt x="56" y="407"/>
                      <a:pt x="58" y="404"/>
                      <a:pt x="57" y="408"/>
                    </a:cubicBezTo>
                    <a:cubicBezTo>
                      <a:pt x="57" y="413"/>
                      <a:pt x="48" y="422"/>
                      <a:pt x="51" y="428"/>
                    </a:cubicBezTo>
                    <a:cubicBezTo>
                      <a:pt x="53" y="434"/>
                      <a:pt x="70" y="437"/>
                      <a:pt x="75" y="443"/>
                    </a:cubicBezTo>
                    <a:cubicBezTo>
                      <a:pt x="80" y="448"/>
                      <a:pt x="81" y="453"/>
                      <a:pt x="82" y="460"/>
                    </a:cubicBezTo>
                    <a:cubicBezTo>
                      <a:pt x="82" y="467"/>
                      <a:pt x="70" y="475"/>
                      <a:pt x="76" y="485"/>
                    </a:cubicBezTo>
                    <a:cubicBezTo>
                      <a:pt x="82" y="494"/>
                      <a:pt x="97" y="513"/>
                      <a:pt x="116" y="516"/>
                    </a:cubicBezTo>
                    <a:cubicBezTo>
                      <a:pt x="135" y="519"/>
                      <a:pt x="162" y="516"/>
                      <a:pt x="191" y="504"/>
                    </a:cubicBezTo>
                    <a:cubicBezTo>
                      <a:pt x="220" y="492"/>
                      <a:pt x="268" y="462"/>
                      <a:pt x="292" y="443"/>
                    </a:cubicBezTo>
                    <a:cubicBezTo>
                      <a:pt x="317" y="423"/>
                      <a:pt x="327" y="407"/>
                      <a:pt x="340" y="387"/>
                    </a:cubicBezTo>
                    <a:cubicBezTo>
                      <a:pt x="352" y="367"/>
                      <a:pt x="361" y="344"/>
                      <a:pt x="365" y="324"/>
                    </a:cubicBezTo>
                    <a:cubicBezTo>
                      <a:pt x="369" y="303"/>
                      <a:pt x="373" y="277"/>
                      <a:pt x="365" y="265"/>
                    </a:cubicBezTo>
                    <a:cubicBezTo>
                      <a:pt x="356" y="252"/>
                      <a:pt x="324" y="251"/>
                      <a:pt x="313" y="250"/>
                    </a:cubicBezTo>
                    <a:cubicBezTo>
                      <a:pt x="302" y="248"/>
                      <a:pt x="303" y="260"/>
                      <a:pt x="300" y="255"/>
                    </a:cubicBezTo>
                    <a:cubicBezTo>
                      <a:pt x="297" y="251"/>
                      <a:pt x="299" y="246"/>
                      <a:pt x="293" y="223"/>
                    </a:cubicBezTo>
                    <a:cubicBezTo>
                      <a:pt x="288" y="200"/>
                      <a:pt x="282" y="149"/>
                      <a:pt x="267" y="120"/>
                    </a:cubicBezTo>
                    <a:cubicBezTo>
                      <a:pt x="252" y="90"/>
                      <a:pt x="225" y="64"/>
                      <a:pt x="206" y="45"/>
                    </a:cubicBezTo>
                    <a:cubicBezTo>
                      <a:pt x="187" y="25"/>
                      <a:pt x="174" y="10"/>
                      <a:pt x="154" y="5"/>
                    </a:cubicBezTo>
                    <a:cubicBezTo>
                      <a:pt x="135" y="0"/>
                      <a:pt x="112" y="6"/>
                      <a:pt x="89" y="13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40"/>
            <p:cNvGrpSpPr/>
            <p:nvPr/>
          </p:nvGrpSpPr>
          <p:grpSpPr>
            <a:xfrm>
              <a:off x="4863600" y="1101240"/>
              <a:ext cx="868680" cy="799560"/>
              <a:chOff x="4863600" y="1101240"/>
              <a:chExt cx="868680" cy="799560"/>
            </a:xfrm>
          </p:grpSpPr>
          <p:sp>
            <p:nvSpPr>
              <p:cNvPr id="271" name="Freeform 41"/>
              <p:cNvSpPr/>
              <p:nvPr/>
            </p:nvSpPr>
            <p:spPr>
              <a:xfrm>
                <a:off x="4863600" y="1101240"/>
                <a:ext cx="868680" cy="799560"/>
              </a:xfrm>
              <a:custGeom>
                <a:avLst/>
                <a:gdLst>
                  <a:gd name="textAreaLeft" fmla="*/ 0 w 868680"/>
                  <a:gd name="textAreaRight" fmla="*/ 869040 w 868680"/>
                  <a:gd name="textAreaTop" fmla="*/ 0 h 799560"/>
                  <a:gd name="textAreaBottom" fmla="*/ 799920 h 799560"/>
                </a:gdLst>
                <a:ahLst/>
                <a:rect l="textAreaLeft" t="textAreaTop" r="textAreaRight" b="textAreaBottom"/>
                <a:pathLst>
                  <a:path w="20720" h="19940">
                    <a:moveTo>
                      <a:pt x="10424" y="15803"/>
                    </a:moveTo>
                    <a:cubicBezTo>
                      <a:pt x="10297" y="14969"/>
                      <a:pt x="10174" y="14134"/>
                      <a:pt x="9996" y="13355"/>
                    </a:cubicBezTo>
                    <a:cubicBezTo>
                      <a:pt x="9818" y="12576"/>
                      <a:pt x="9738" y="11623"/>
                      <a:pt x="9353" y="11124"/>
                    </a:cubicBezTo>
                    <a:cubicBezTo>
                      <a:pt x="8967" y="10624"/>
                      <a:pt x="8091" y="10764"/>
                      <a:pt x="7676" y="10349"/>
                    </a:cubicBezTo>
                    <a:cubicBezTo>
                      <a:pt x="7261" y="9934"/>
                      <a:pt x="6999" y="9129"/>
                      <a:pt x="6863" y="8630"/>
                    </a:cubicBezTo>
                    <a:cubicBezTo>
                      <a:pt x="6728" y="8130"/>
                      <a:pt x="7037" y="7770"/>
                      <a:pt x="6863" y="7342"/>
                    </a:cubicBezTo>
                    <a:cubicBezTo>
                      <a:pt x="6689" y="6915"/>
                      <a:pt x="6630" y="6182"/>
                      <a:pt x="5830" y="6055"/>
                    </a:cubicBezTo>
                    <a:cubicBezTo>
                      <a:pt x="5030" y="5928"/>
                      <a:pt x="3006" y="6923"/>
                      <a:pt x="2054" y="6572"/>
                    </a:cubicBezTo>
                    <a:cubicBezTo>
                      <a:pt x="1101" y="6220"/>
                      <a:pt x="246" y="4586"/>
                      <a:pt x="123" y="3951"/>
                    </a:cubicBezTo>
                    <a:cubicBezTo>
                      <a:pt x="0" y="3315"/>
                      <a:pt x="127" y="3328"/>
                      <a:pt x="1321" y="2748"/>
                    </a:cubicBezTo>
                    <a:cubicBezTo>
                      <a:pt x="2515" y="2168"/>
                      <a:pt x="5601" y="898"/>
                      <a:pt x="7291" y="474"/>
                    </a:cubicBezTo>
                    <a:cubicBezTo>
                      <a:pt x="8980" y="51"/>
                      <a:pt x="9992" y="0"/>
                      <a:pt x="11457" y="216"/>
                    </a:cubicBezTo>
                    <a:cubicBezTo>
                      <a:pt x="12922" y="432"/>
                      <a:pt x="14861" y="1025"/>
                      <a:pt x="16093" y="1761"/>
                    </a:cubicBezTo>
                    <a:cubicBezTo>
                      <a:pt x="17325" y="2498"/>
                      <a:pt x="18112" y="3425"/>
                      <a:pt x="18840" y="4637"/>
                    </a:cubicBezTo>
                    <a:cubicBezTo>
                      <a:pt x="19569" y="5848"/>
                      <a:pt x="20221" y="7503"/>
                      <a:pt x="20470" y="9019"/>
                    </a:cubicBezTo>
                    <a:cubicBezTo>
                      <a:pt x="20720" y="10535"/>
                      <a:pt x="20623" y="12432"/>
                      <a:pt x="20343" y="13741"/>
                    </a:cubicBezTo>
                    <a:cubicBezTo>
                      <a:pt x="20064" y="15049"/>
                      <a:pt x="19171" y="16019"/>
                      <a:pt x="18798" y="16878"/>
                    </a:cubicBezTo>
                    <a:cubicBezTo>
                      <a:pt x="18425" y="17738"/>
                      <a:pt x="18125" y="18386"/>
                      <a:pt x="18112" y="18894"/>
                    </a:cubicBezTo>
                    <a:cubicBezTo>
                      <a:pt x="18099" y="19402"/>
                      <a:pt x="18887" y="19914"/>
                      <a:pt x="18713" y="19927"/>
                    </a:cubicBezTo>
                    <a:cubicBezTo>
                      <a:pt x="18540" y="19940"/>
                      <a:pt x="17744" y="19597"/>
                      <a:pt x="17079" y="18979"/>
                    </a:cubicBezTo>
                    <a:cubicBezTo>
                      <a:pt x="16414" y="18360"/>
                      <a:pt x="15331" y="16832"/>
                      <a:pt x="14717" y="16230"/>
                    </a:cubicBezTo>
                    <a:cubicBezTo>
                      <a:pt x="14103" y="15629"/>
                      <a:pt x="14099" y="15451"/>
                      <a:pt x="13387" y="15375"/>
                    </a:cubicBezTo>
                    <a:cubicBezTo>
                      <a:pt x="12676" y="15299"/>
                      <a:pt x="11063" y="15697"/>
                      <a:pt x="10449" y="15782"/>
                    </a:cubicBezTo>
                    <a:cubicBezTo>
                      <a:pt x="10449" y="15782"/>
                      <a:pt x="10424" y="15803"/>
                      <a:pt x="10424" y="15803"/>
                    </a:cubicBezTo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2"/>
              <p:cNvSpPr/>
              <p:nvPr/>
            </p:nvSpPr>
            <p:spPr>
              <a:xfrm>
                <a:off x="4863600" y="1101240"/>
                <a:ext cx="868680" cy="799560"/>
              </a:xfrm>
              <a:custGeom>
                <a:avLst/>
                <a:gdLst>
                  <a:gd name="textAreaLeft" fmla="*/ 0 w 868680"/>
                  <a:gd name="textAreaRight" fmla="*/ 869040 w 868680"/>
                  <a:gd name="textAreaTop" fmla="*/ 0 h 799560"/>
                  <a:gd name="textAreaBottom" fmla="*/ 799920 h 799560"/>
                </a:gdLst>
                <a:ahLst/>
                <a:rect l="textAreaLeft" t="textAreaTop" r="textAreaRight" b="textAreaBottom"/>
                <a:pathLst>
                  <a:path w="555" h="538">
                    <a:moveTo>
                      <a:pt x="279" y="426"/>
                    </a:moveTo>
                    <a:cubicBezTo>
                      <a:pt x="276" y="404"/>
                      <a:pt x="273" y="381"/>
                      <a:pt x="268" y="360"/>
                    </a:cubicBezTo>
                    <a:cubicBezTo>
                      <a:pt x="263" y="339"/>
                      <a:pt x="261" y="314"/>
                      <a:pt x="251" y="300"/>
                    </a:cubicBezTo>
                    <a:cubicBezTo>
                      <a:pt x="240" y="287"/>
                      <a:pt x="217" y="290"/>
                      <a:pt x="206" y="279"/>
                    </a:cubicBezTo>
                    <a:cubicBezTo>
                      <a:pt x="194" y="268"/>
                      <a:pt x="187" y="246"/>
                      <a:pt x="184" y="233"/>
                    </a:cubicBezTo>
                    <a:cubicBezTo>
                      <a:pt x="180" y="219"/>
                      <a:pt x="188" y="210"/>
                      <a:pt x="184" y="198"/>
                    </a:cubicBezTo>
                    <a:cubicBezTo>
                      <a:pt x="179" y="187"/>
                      <a:pt x="178" y="167"/>
                      <a:pt x="156" y="163"/>
                    </a:cubicBezTo>
                    <a:cubicBezTo>
                      <a:pt x="135" y="160"/>
                      <a:pt x="80" y="187"/>
                      <a:pt x="55" y="177"/>
                    </a:cubicBezTo>
                    <a:cubicBezTo>
                      <a:pt x="29" y="168"/>
                      <a:pt x="6" y="124"/>
                      <a:pt x="3" y="107"/>
                    </a:cubicBezTo>
                    <a:cubicBezTo>
                      <a:pt x="0" y="89"/>
                      <a:pt x="3" y="90"/>
                      <a:pt x="35" y="74"/>
                    </a:cubicBezTo>
                    <a:cubicBezTo>
                      <a:pt x="67" y="58"/>
                      <a:pt x="150" y="24"/>
                      <a:pt x="195" y="13"/>
                    </a:cubicBezTo>
                    <a:cubicBezTo>
                      <a:pt x="241" y="1"/>
                      <a:pt x="268" y="0"/>
                      <a:pt x="307" y="6"/>
                    </a:cubicBezTo>
                    <a:cubicBezTo>
                      <a:pt x="346" y="12"/>
                      <a:pt x="398" y="28"/>
                      <a:pt x="431" y="47"/>
                    </a:cubicBezTo>
                    <a:cubicBezTo>
                      <a:pt x="464" y="67"/>
                      <a:pt x="485" y="92"/>
                      <a:pt x="505" y="125"/>
                    </a:cubicBezTo>
                    <a:cubicBezTo>
                      <a:pt x="524" y="158"/>
                      <a:pt x="542" y="202"/>
                      <a:pt x="549" y="243"/>
                    </a:cubicBezTo>
                    <a:cubicBezTo>
                      <a:pt x="555" y="284"/>
                      <a:pt x="553" y="335"/>
                      <a:pt x="545" y="371"/>
                    </a:cubicBezTo>
                    <a:cubicBezTo>
                      <a:pt x="538" y="406"/>
                      <a:pt x="514" y="432"/>
                      <a:pt x="504" y="455"/>
                    </a:cubicBezTo>
                    <a:cubicBezTo>
                      <a:pt x="494" y="479"/>
                      <a:pt x="486" y="496"/>
                      <a:pt x="485" y="510"/>
                    </a:cubicBezTo>
                    <a:cubicBezTo>
                      <a:pt x="485" y="523"/>
                      <a:pt x="506" y="537"/>
                      <a:pt x="501" y="538"/>
                    </a:cubicBezTo>
                    <a:cubicBezTo>
                      <a:pt x="497" y="538"/>
                      <a:pt x="476" y="529"/>
                      <a:pt x="458" y="512"/>
                    </a:cubicBezTo>
                    <a:cubicBezTo>
                      <a:pt x="440" y="495"/>
                      <a:pt x="411" y="454"/>
                      <a:pt x="394" y="438"/>
                    </a:cubicBezTo>
                    <a:cubicBezTo>
                      <a:pt x="378" y="422"/>
                      <a:pt x="378" y="417"/>
                      <a:pt x="359" y="415"/>
                    </a:cubicBezTo>
                    <a:cubicBezTo>
                      <a:pt x="340" y="413"/>
                      <a:pt x="296" y="423"/>
                      <a:pt x="280" y="426"/>
                    </a:cubicBezTo>
                    <a:cubicBezTo>
                      <a:pt x="280" y="426"/>
                      <a:pt x="279" y="426"/>
                      <a:pt x="279" y="426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43"/>
            <p:cNvGrpSpPr/>
            <p:nvPr/>
          </p:nvGrpSpPr>
          <p:grpSpPr>
            <a:xfrm>
              <a:off x="4916880" y="1939320"/>
              <a:ext cx="82440" cy="34200"/>
              <a:chOff x="4916880" y="1939320"/>
              <a:chExt cx="82440" cy="34200"/>
            </a:xfrm>
          </p:grpSpPr>
          <p:sp>
            <p:nvSpPr>
              <p:cNvPr id="274" name="Freeform 44"/>
              <p:cNvSpPr/>
              <p:nvPr/>
            </p:nvSpPr>
            <p:spPr>
              <a:xfrm>
                <a:off x="4916880" y="1939320"/>
                <a:ext cx="82440" cy="34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954" h="880">
                    <a:moveTo>
                      <a:pt x="0" y="0"/>
                    </a:moveTo>
                    <a:cubicBezTo>
                      <a:pt x="199" y="119"/>
                      <a:pt x="398" y="241"/>
                      <a:pt x="626" y="267"/>
                    </a:cubicBezTo>
                    <a:cubicBezTo>
                      <a:pt x="855" y="292"/>
                      <a:pt x="1146" y="72"/>
                      <a:pt x="1362" y="157"/>
                    </a:cubicBezTo>
                    <a:cubicBezTo>
                      <a:pt x="1578" y="241"/>
                      <a:pt x="1954" y="677"/>
                      <a:pt x="1920" y="779"/>
                    </a:cubicBezTo>
                    <a:cubicBezTo>
                      <a:pt x="1886" y="880"/>
                      <a:pt x="1383" y="800"/>
                      <a:pt x="1159" y="757"/>
                    </a:cubicBezTo>
                    <a:cubicBezTo>
                      <a:pt x="935" y="715"/>
                      <a:pt x="770" y="614"/>
                      <a:pt x="580" y="512"/>
                    </a:cubicBezTo>
                    <a:cubicBezTo>
                      <a:pt x="389" y="411"/>
                      <a:pt x="98" y="229"/>
                      <a:pt x="0" y="157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5"/>
              <p:cNvSpPr/>
              <p:nvPr/>
            </p:nvSpPr>
            <p:spPr>
              <a:xfrm>
                <a:off x="4916880" y="1939320"/>
                <a:ext cx="82440" cy="34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53" h="23">
                    <a:moveTo>
                      <a:pt x="0" y="0"/>
                    </a:moveTo>
                    <a:cubicBezTo>
                      <a:pt x="6" y="3"/>
                      <a:pt x="11" y="6"/>
                      <a:pt x="17" y="7"/>
                    </a:cubicBezTo>
                    <a:cubicBezTo>
                      <a:pt x="23" y="8"/>
                      <a:pt x="31" y="2"/>
                      <a:pt x="37" y="4"/>
                    </a:cubicBezTo>
                    <a:cubicBezTo>
                      <a:pt x="43" y="6"/>
                      <a:pt x="53" y="18"/>
                      <a:pt x="52" y="21"/>
                    </a:cubicBezTo>
                    <a:cubicBezTo>
                      <a:pt x="51" y="23"/>
                      <a:pt x="37" y="21"/>
                      <a:pt x="31" y="20"/>
                    </a:cubicBezTo>
                    <a:cubicBezTo>
                      <a:pt x="25" y="19"/>
                      <a:pt x="21" y="16"/>
                      <a:pt x="16" y="13"/>
                    </a:cubicBezTo>
                    <a:cubicBezTo>
                      <a:pt x="11" y="11"/>
                      <a:pt x="3" y="6"/>
                      <a:pt x="0" y="4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46"/>
            <p:cNvGrpSpPr/>
            <p:nvPr/>
          </p:nvGrpSpPr>
          <p:grpSpPr>
            <a:xfrm>
              <a:off x="4901400" y="1870920"/>
              <a:ext cx="137520" cy="59400"/>
              <a:chOff x="4901400" y="1870920"/>
              <a:chExt cx="137520" cy="59400"/>
            </a:xfrm>
          </p:grpSpPr>
          <p:sp>
            <p:nvSpPr>
              <p:cNvPr id="277" name="Freeform 47"/>
              <p:cNvSpPr/>
              <p:nvPr/>
            </p:nvSpPr>
            <p:spPr>
              <a:xfrm>
                <a:off x="4901400" y="1870920"/>
                <a:ext cx="137520" cy="5940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293" h="1460">
                    <a:moveTo>
                      <a:pt x="139" y="30"/>
                    </a:moveTo>
                    <a:cubicBezTo>
                      <a:pt x="279" y="59"/>
                      <a:pt x="660" y="229"/>
                      <a:pt x="990" y="385"/>
                    </a:cubicBezTo>
                    <a:cubicBezTo>
                      <a:pt x="1321" y="542"/>
                      <a:pt x="1837" y="872"/>
                      <a:pt x="2129" y="965"/>
                    </a:cubicBezTo>
                    <a:cubicBezTo>
                      <a:pt x="2421" y="1058"/>
                      <a:pt x="2590" y="893"/>
                      <a:pt x="2751" y="944"/>
                    </a:cubicBezTo>
                    <a:cubicBezTo>
                      <a:pt x="2912" y="995"/>
                      <a:pt x="3005" y="1172"/>
                      <a:pt x="3086" y="1257"/>
                    </a:cubicBezTo>
                    <a:cubicBezTo>
                      <a:pt x="3166" y="1342"/>
                      <a:pt x="3293" y="1460"/>
                      <a:pt x="3242" y="1456"/>
                    </a:cubicBezTo>
                    <a:cubicBezTo>
                      <a:pt x="3192" y="1452"/>
                      <a:pt x="2925" y="1270"/>
                      <a:pt x="2777" y="1232"/>
                    </a:cubicBezTo>
                    <a:cubicBezTo>
                      <a:pt x="2629" y="1194"/>
                      <a:pt x="2552" y="1261"/>
                      <a:pt x="2349" y="1232"/>
                    </a:cubicBezTo>
                    <a:cubicBezTo>
                      <a:pt x="2146" y="1202"/>
                      <a:pt x="1803" y="1071"/>
                      <a:pt x="1545" y="1054"/>
                    </a:cubicBezTo>
                    <a:cubicBezTo>
                      <a:pt x="1287" y="1037"/>
                      <a:pt x="978" y="1143"/>
                      <a:pt x="808" y="1122"/>
                    </a:cubicBezTo>
                    <a:cubicBezTo>
                      <a:pt x="639" y="1100"/>
                      <a:pt x="631" y="1075"/>
                      <a:pt x="520" y="923"/>
                    </a:cubicBezTo>
                    <a:cubicBezTo>
                      <a:pt x="410" y="770"/>
                      <a:pt x="203" y="351"/>
                      <a:pt x="139" y="207"/>
                    </a:cubicBezTo>
                    <a:cubicBezTo>
                      <a:pt x="76" y="64"/>
                      <a:pt x="0" y="0"/>
                      <a:pt x="139" y="30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8"/>
              <p:cNvSpPr/>
              <p:nvPr/>
            </p:nvSpPr>
            <p:spPr>
              <a:xfrm>
                <a:off x="4901400" y="1870920"/>
                <a:ext cx="137520" cy="5940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88" h="40">
                    <a:moveTo>
                      <a:pt x="4" y="1"/>
                    </a:moveTo>
                    <a:cubicBezTo>
                      <a:pt x="8" y="2"/>
                      <a:pt x="18" y="7"/>
                      <a:pt x="27" y="11"/>
                    </a:cubicBezTo>
                    <a:cubicBezTo>
                      <a:pt x="35" y="15"/>
                      <a:pt x="49" y="24"/>
                      <a:pt x="57" y="26"/>
                    </a:cubicBezTo>
                    <a:cubicBezTo>
                      <a:pt x="65" y="29"/>
                      <a:pt x="70" y="24"/>
                      <a:pt x="74" y="26"/>
                    </a:cubicBezTo>
                    <a:cubicBezTo>
                      <a:pt x="78" y="27"/>
                      <a:pt x="81" y="32"/>
                      <a:pt x="83" y="34"/>
                    </a:cubicBezTo>
                    <a:cubicBezTo>
                      <a:pt x="85" y="37"/>
                      <a:pt x="88" y="40"/>
                      <a:pt x="87" y="40"/>
                    </a:cubicBezTo>
                    <a:cubicBezTo>
                      <a:pt x="86" y="40"/>
                      <a:pt x="78" y="35"/>
                      <a:pt x="75" y="34"/>
                    </a:cubicBezTo>
                    <a:cubicBezTo>
                      <a:pt x="71" y="33"/>
                      <a:pt x="68" y="34"/>
                      <a:pt x="63" y="34"/>
                    </a:cubicBezTo>
                    <a:cubicBezTo>
                      <a:pt x="58" y="33"/>
                      <a:pt x="48" y="29"/>
                      <a:pt x="41" y="29"/>
                    </a:cubicBezTo>
                    <a:cubicBezTo>
                      <a:pt x="35" y="28"/>
                      <a:pt x="26" y="31"/>
                      <a:pt x="22" y="31"/>
                    </a:cubicBezTo>
                    <a:cubicBezTo>
                      <a:pt x="17" y="30"/>
                      <a:pt x="17" y="29"/>
                      <a:pt x="14" y="25"/>
                    </a:cubicBezTo>
                    <a:cubicBezTo>
                      <a:pt x="11" y="21"/>
                      <a:pt x="6" y="10"/>
                      <a:pt x="4" y="6"/>
                    </a:cubicBezTo>
                    <a:cubicBezTo>
                      <a:pt x="2" y="2"/>
                      <a:pt x="0" y="0"/>
                      <a:pt x="4" y="1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49"/>
            <p:cNvGrpSpPr/>
            <p:nvPr/>
          </p:nvGrpSpPr>
          <p:grpSpPr>
            <a:xfrm>
              <a:off x="4882680" y="1792440"/>
              <a:ext cx="73440" cy="27720"/>
              <a:chOff x="4882680" y="1792440"/>
              <a:chExt cx="73440" cy="27720"/>
            </a:xfrm>
          </p:grpSpPr>
          <p:sp>
            <p:nvSpPr>
              <p:cNvPr id="280" name="Freeform 50"/>
              <p:cNvSpPr/>
              <p:nvPr/>
            </p:nvSpPr>
            <p:spPr>
              <a:xfrm>
                <a:off x="4882680" y="1792440"/>
                <a:ext cx="73440" cy="27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773" h="733">
                    <a:moveTo>
                      <a:pt x="321" y="72"/>
                    </a:moveTo>
                    <a:cubicBezTo>
                      <a:pt x="211" y="85"/>
                      <a:pt x="0" y="34"/>
                      <a:pt x="9" y="118"/>
                    </a:cubicBezTo>
                    <a:cubicBezTo>
                      <a:pt x="17" y="203"/>
                      <a:pt x="228" y="500"/>
                      <a:pt x="363" y="589"/>
                    </a:cubicBezTo>
                    <a:cubicBezTo>
                      <a:pt x="498" y="678"/>
                      <a:pt x="646" y="640"/>
                      <a:pt x="811" y="653"/>
                    </a:cubicBezTo>
                    <a:cubicBezTo>
                      <a:pt x="975" y="665"/>
                      <a:pt x="1212" y="665"/>
                      <a:pt x="1364" y="678"/>
                    </a:cubicBezTo>
                    <a:cubicBezTo>
                      <a:pt x="1516" y="691"/>
                      <a:pt x="1672" y="733"/>
                      <a:pt x="1723" y="720"/>
                    </a:cubicBezTo>
                    <a:cubicBezTo>
                      <a:pt x="1773" y="708"/>
                      <a:pt x="1744" y="648"/>
                      <a:pt x="1655" y="610"/>
                    </a:cubicBezTo>
                    <a:cubicBezTo>
                      <a:pt x="1567" y="572"/>
                      <a:pt x="1288" y="568"/>
                      <a:pt x="1187" y="500"/>
                    </a:cubicBezTo>
                    <a:cubicBezTo>
                      <a:pt x="1085" y="432"/>
                      <a:pt x="1140" y="288"/>
                      <a:pt x="1056" y="208"/>
                    </a:cubicBezTo>
                    <a:cubicBezTo>
                      <a:pt x="971" y="127"/>
                      <a:pt x="798" y="59"/>
                      <a:pt x="676" y="29"/>
                    </a:cubicBezTo>
                    <a:cubicBezTo>
                      <a:pt x="553" y="0"/>
                      <a:pt x="431" y="59"/>
                      <a:pt x="321" y="72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51"/>
              <p:cNvSpPr/>
              <p:nvPr/>
            </p:nvSpPr>
            <p:spPr>
              <a:xfrm>
                <a:off x="4882680" y="1792440"/>
                <a:ext cx="73440" cy="27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47" h="19">
                    <a:moveTo>
                      <a:pt x="8" y="1"/>
                    </a:moveTo>
                    <a:cubicBezTo>
                      <a:pt x="5" y="2"/>
                      <a:pt x="0" y="0"/>
                      <a:pt x="0" y="3"/>
                    </a:cubicBezTo>
                    <a:cubicBezTo>
                      <a:pt x="0" y="5"/>
                      <a:pt x="6" y="13"/>
                      <a:pt x="9" y="15"/>
                    </a:cubicBezTo>
                    <a:cubicBezTo>
                      <a:pt x="13" y="18"/>
                      <a:pt x="17" y="17"/>
                      <a:pt x="21" y="17"/>
                    </a:cubicBezTo>
                    <a:cubicBezTo>
                      <a:pt x="26" y="17"/>
                      <a:pt x="32" y="17"/>
                      <a:pt x="36" y="18"/>
                    </a:cubicBezTo>
                    <a:cubicBezTo>
                      <a:pt x="40" y="18"/>
                      <a:pt x="44" y="19"/>
                      <a:pt x="46" y="19"/>
                    </a:cubicBezTo>
                    <a:cubicBezTo>
                      <a:pt x="47" y="19"/>
                      <a:pt x="46" y="17"/>
                      <a:pt x="44" y="16"/>
                    </a:cubicBezTo>
                    <a:cubicBezTo>
                      <a:pt x="42" y="15"/>
                      <a:pt x="34" y="15"/>
                      <a:pt x="31" y="13"/>
                    </a:cubicBezTo>
                    <a:cubicBezTo>
                      <a:pt x="29" y="11"/>
                      <a:pt x="30" y="7"/>
                      <a:pt x="28" y="5"/>
                    </a:cubicBezTo>
                    <a:cubicBezTo>
                      <a:pt x="26" y="3"/>
                      <a:pt x="21" y="1"/>
                      <a:pt x="18" y="0"/>
                    </a:cubicBezTo>
                    <a:cubicBezTo>
                      <a:pt x="14" y="0"/>
                      <a:pt x="11" y="1"/>
                      <a:pt x="8" y="1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Freeform 52"/>
            <p:cNvSpPr/>
            <p:nvPr/>
          </p:nvSpPr>
          <p:spPr>
            <a:xfrm>
              <a:off x="4949640" y="1738800"/>
              <a:ext cx="64080" cy="1213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41" h="82">
                  <a:moveTo>
                    <a:pt x="0" y="0"/>
                  </a:moveTo>
                  <a:cubicBezTo>
                    <a:pt x="0" y="4"/>
                    <a:pt x="0" y="9"/>
                    <a:pt x="3" y="15"/>
                  </a:cubicBezTo>
                  <a:cubicBezTo>
                    <a:pt x="7" y="20"/>
                    <a:pt x="16" y="24"/>
                    <a:pt x="22" y="33"/>
                  </a:cubicBezTo>
                  <a:cubicBezTo>
                    <a:pt x="28" y="43"/>
                    <a:pt x="35" y="63"/>
                    <a:pt x="38" y="71"/>
                  </a:cubicBezTo>
                  <a:cubicBezTo>
                    <a:pt x="41" y="79"/>
                    <a:pt x="40" y="80"/>
                    <a:pt x="39" y="8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3"/>
            <p:cNvSpPr/>
            <p:nvPr/>
          </p:nvSpPr>
          <p:spPr>
            <a:xfrm>
              <a:off x="4948200" y="1773000"/>
              <a:ext cx="37440" cy="460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4" h="31">
                  <a:moveTo>
                    <a:pt x="14" y="0"/>
                  </a:moveTo>
                  <a:cubicBezTo>
                    <a:pt x="19" y="5"/>
                    <a:pt x="23" y="11"/>
                    <a:pt x="24" y="16"/>
                  </a:cubicBezTo>
                  <a:cubicBezTo>
                    <a:pt x="24" y="20"/>
                    <a:pt x="19" y="24"/>
                    <a:pt x="16" y="26"/>
                  </a:cubicBezTo>
                  <a:cubicBezTo>
                    <a:pt x="13" y="29"/>
                    <a:pt x="9" y="30"/>
                    <a:pt x="6" y="30"/>
                  </a:cubicBezTo>
                  <a:cubicBezTo>
                    <a:pt x="3" y="31"/>
                    <a:pt x="2" y="31"/>
                    <a:pt x="0" y="3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54"/>
            <p:cNvGrpSpPr/>
            <p:nvPr/>
          </p:nvGrpSpPr>
          <p:grpSpPr>
            <a:xfrm>
              <a:off x="4930920" y="1518840"/>
              <a:ext cx="180000" cy="89280"/>
              <a:chOff x="4930920" y="1518840"/>
              <a:chExt cx="180000" cy="89280"/>
            </a:xfrm>
          </p:grpSpPr>
          <p:sp>
            <p:nvSpPr>
              <p:cNvPr id="285" name="Freeform 55"/>
              <p:cNvSpPr/>
              <p:nvPr/>
            </p:nvSpPr>
            <p:spPr>
              <a:xfrm>
                <a:off x="4930920" y="1518840"/>
                <a:ext cx="180000" cy="892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4300" h="2214">
                    <a:moveTo>
                      <a:pt x="275" y="906"/>
                    </a:moveTo>
                    <a:cubicBezTo>
                      <a:pt x="550" y="720"/>
                      <a:pt x="1676" y="204"/>
                      <a:pt x="2019" y="102"/>
                    </a:cubicBezTo>
                    <a:cubicBezTo>
                      <a:pt x="2362" y="0"/>
                      <a:pt x="2167" y="178"/>
                      <a:pt x="2332" y="284"/>
                    </a:cubicBezTo>
                    <a:cubicBezTo>
                      <a:pt x="2497" y="390"/>
                      <a:pt x="2802" y="623"/>
                      <a:pt x="3001" y="728"/>
                    </a:cubicBezTo>
                    <a:cubicBezTo>
                      <a:pt x="3200" y="834"/>
                      <a:pt x="3335" y="703"/>
                      <a:pt x="3534" y="932"/>
                    </a:cubicBezTo>
                    <a:cubicBezTo>
                      <a:pt x="3733" y="1160"/>
                      <a:pt x="4300" y="2011"/>
                      <a:pt x="4207" y="2112"/>
                    </a:cubicBezTo>
                    <a:cubicBezTo>
                      <a:pt x="4114" y="2214"/>
                      <a:pt x="3352" y="1668"/>
                      <a:pt x="2975" y="1554"/>
                    </a:cubicBezTo>
                    <a:cubicBezTo>
                      <a:pt x="2599" y="1439"/>
                      <a:pt x="2366" y="1435"/>
                      <a:pt x="1951" y="1422"/>
                    </a:cubicBezTo>
                    <a:cubicBezTo>
                      <a:pt x="1536" y="1410"/>
                      <a:pt x="741" y="1520"/>
                      <a:pt x="478" y="1486"/>
                    </a:cubicBezTo>
                    <a:cubicBezTo>
                      <a:pt x="216" y="1452"/>
                      <a:pt x="402" y="1312"/>
                      <a:pt x="364" y="1219"/>
                    </a:cubicBezTo>
                    <a:cubicBezTo>
                      <a:pt x="326" y="1126"/>
                      <a:pt x="0" y="1092"/>
                      <a:pt x="275" y="906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56"/>
              <p:cNvSpPr/>
              <p:nvPr/>
            </p:nvSpPr>
            <p:spPr>
              <a:xfrm>
                <a:off x="4930920" y="1518840"/>
                <a:ext cx="180000" cy="892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15" h="60">
                    <a:moveTo>
                      <a:pt x="7" y="25"/>
                    </a:moveTo>
                    <a:cubicBezTo>
                      <a:pt x="14" y="20"/>
                      <a:pt x="45" y="6"/>
                      <a:pt x="54" y="3"/>
                    </a:cubicBezTo>
                    <a:cubicBezTo>
                      <a:pt x="63" y="0"/>
                      <a:pt x="58" y="5"/>
                      <a:pt x="62" y="8"/>
                    </a:cubicBezTo>
                    <a:cubicBezTo>
                      <a:pt x="67" y="11"/>
                      <a:pt x="75" y="17"/>
                      <a:pt x="80" y="20"/>
                    </a:cubicBezTo>
                    <a:cubicBezTo>
                      <a:pt x="85" y="23"/>
                      <a:pt x="89" y="19"/>
                      <a:pt x="94" y="25"/>
                    </a:cubicBezTo>
                    <a:cubicBezTo>
                      <a:pt x="100" y="32"/>
                      <a:pt x="115" y="55"/>
                      <a:pt x="112" y="57"/>
                    </a:cubicBezTo>
                    <a:cubicBezTo>
                      <a:pt x="110" y="60"/>
                      <a:pt x="90" y="45"/>
                      <a:pt x="79" y="42"/>
                    </a:cubicBezTo>
                    <a:cubicBezTo>
                      <a:pt x="69" y="39"/>
                      <a:pt x="63" y="39"/>
                      <a:pt x="52" y="39"/>
                    </a:cubicBezTo>
                    <a:cubicBezTo>
                      <a:pt x="41" y="38"/>
                      <a:pt x="20" y="41"/>
                      <a:pt x="12" y="40"/>
                    </a:cubicBezTo>
                    <a:cubicBezTo>
                      <a:pt x="5" y="39"/>
                      <a:pt x="10" y="36"/>
                      <a:pt x="9" y="33"/>
                    </a:cubicBezTo>
                    <a:cubicBezTo>
                      <a:pt x="8" y="31"/>
                      <a:pt x="0" y="30"/>
                      <a:pt x="7" y="25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57"/>
            <p:cNvGrpSpPr/>
            <p:nvPr/>
          </p:nvGrpSpPr>
          <p:grpSpPr>
            <a:xfrm>
              <a:off x="5009400" y="1611360"/>
              <a:ext cx="37440" cy="42840"/>
              <a:chOff x="5009400" y="1611360"/>
              <a:chExt cx="37440" cy="42840"/>
            </a:xfrm>
          </p:grpSpPr>
          <p:sp>
            <p:nvSpPr>
              <p:cNvPr id="288" name="Freeform 58"/>
              <p:cNvSpPr/>
              <p:nvPr/>
            </p:nvSpPr>
            <p:spPr>
              <a:xfrm>
                <a:off x="5009400" y="1611360"/>
                <a:ext cx="37440" cy="428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887" h="1073">
                    <a:moveTo>
                      <a:pt x="718" y="249"/>
                    </a:moveTo>
                    <a:cubicBezTo>
                      <a:pt x="688" y="220"/>
                      <a:pt x="671" y="271"/>
                      <a:pt x="562" y="249"/>
                    </a:cubicBezTo>
                    <a:cubicBezTo>
                      <a:pt x="452" y="228"/>
                      <a:pt x="101" y="0"/>
                      <a:pt x="51" y="118"/>
                    </a:cubicBezTo>
                    <a:cubicBezTo>
                      <a:pt x="0" y="237"/>
                      <a:pt x="123" y="854"/>
                      <a:pt x="249" y="964"/>
                    </a:cubicBezTo>
                    <a:cubicBezTo>
                      <a:pt x="376" y="1073"/>
                      <a:pt x="726" y="854"/>
                      <a:pt x="807" y="765"/>
                    </a:cubicBezTo>
                    <a:cubicBezTo>
                      <a:pt x="887" y="676"/>
                      <a:pt x="756" y="516"/>
                      <a:pt x="739" y="431"/>
                    </a:cubicBezTo>
                    <a:cubicBezTo>
                      <a:pt x="722" y="347"/>
                      <a:pt x="747" y="279"/>
                      <a:pt x="718" y="249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59"/>
              <p:cNvSpPr/>
              <p:nvPr/>
            </p:nvSpPr>
            <p:spPr>
              <a:xfrm>
                <a:off x="5009400" y="1611360"/>
                <a:ext cx="37440" cy="428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19" y="7"/>
                    </a:moveTo>
                    <a:cubicBezTo>
                      <a:pt x="18" y="6"/>
                      <a:pt x="18" y="7"/>
                      <a:pt x="15" y="7"/>
                    </a:cubicBezTo>
                    <a:cubicBezTo>
                      <a:pt x="12" y="6"/>
                      <a:pt x="3" y="0"/>
                      <a:pt x="1" y="3"/>
                    </a:cubicBezTo>
                    <a:cubicBezTo>
                      <a:pt x="0" y="6"/>
                      <a:pt x="3" y="23"/>
                      <a:pt x="7" y="26"/>
                    </a:cubicBezTo>
                    <a:cubicBezTo>
                      <a:pt x="10" y="29"/>
                      <a:pt x="20" y="23"/>
                      <a:pt x="22" y="21"/>
                    </a:cubicBezTo>
                    <a:cubicBezTo>
                      <a:pt x="24" y="18"/>
                      <a:pt x="20" y="14"/>
                      <a:pt x="20" y="12"/>
                    </a:cubicBezTo>
                    <a:cubicBezTo>
                      <a:pt x="19" y="9"/>
                      <a:pt x="20" y="7"/>
                      <a:pt x="19" y="7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Freeform 60"/>
            <p:cNvSpPr/>
            <p:nvPr/>
          </p:nvSpPr>
          <p:spPr>
            <a:xfrm>
              <a:off x="5002920" y="1587240"/>
              <a:ext cx="108000" cy="48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9" h="33">
                  <a:moveTo>
                    <a:pt x="69" y="33"/>
                  </a:moveTo>
                  <a:cubicBezTo>
                    <a:pt x="55" y="30"/>
                    <a:pt x="41" y="28"/>
                    <a:pt x="30" y="25"/>
                  </a:cubicBezTo>
                  <a:cubicBezTo>
                    <a:pt x="19" y="22"/>
                    <a:pt x="8" y="19"/>
                    <a:pt x="4" y="15"/>
                  </a:cubicBezTo>
                  <a:cubicBezTo>
                    <a:pt x="0" y="11"/>
                    <a:pt x="3" y="5"/>
                    <a:pt x="4" y="3"/>
                  </a:cubicBezTo>
                  <a:cubicBezTo>
                    <a:pt x="5" y="1"/>
                    <a:pt x="2" y="0"/>
                    <a:pt x="10" y="3"/>
                  </a:cubicBezTo>
                  <a:cubicBezTo>
                    <a:pt x="18" y="5"/>
                    <a:pt x="42" y="16"/>
                    <a:pt x="51" y="18"/>
                  </a:cubicBezTo>
                  <a:cubicBezTo>
                    <a:pt x="59" y="21"/>
                    <a:pt x="57" y="19"/>
                    <a:pt x="60" y="20"/>
                  </a:cubicBezTo>
                  <a:cubicBezTo>
                    <a:pt x="62" y="21"/>
                    <a:pt x="64" y="22"/>
                    <a:pt x="65" y="24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1"/>
            <p:cNvSpPr/>
            <p:nvPr/>
          </p:nvSpPr>
          <p:spPr>
            <a:xfrm>
              <a:off x="5016960" y="1634760"/>
              <a:ext cx="92160" cy="522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9" h="35">
                  <a:moveTo>
                    <a:pt x="41" y="0"/>
                  </a:moveTo>
                  <a:cubicBezTo>
                    <a:pt x="32" y="3"/>
                    <a:pt x="23" y="5"/>
                    <a:pt x="16" y="6"/>
                  </a:cubicBezTo>
                  <a:cubicBezTo>
                    <a:pt x="10" y="8"/>
                    <a:pt x="4" y="8"/>
                    <a:pt x="2" y="11"/>
                  </a:cubicBezTo>
                  <a:cubicBezTo>
                    <a:pt x="0" y="15"/>
                    <a:pt x="2" y="22"/>
                    <a:pt x="3" y="26"/>
                  </a:cubicBezTo>
                  <a:cubicBezTo>
                    <a:pt x="5" y="29"/>
                    <a:pt x="4" y="35"/>
                    <a:pt x="10" y="34"/>
                  </a:cubicBezTo>
                  <a:cubicBezTo>
                    <a:pt x="15" y="32"/>
                    <a:pt x="29" y="22"/>
                    <a:pt x="37" y="18"/>
                  </a:cubicBezTo>
                  <a:cubicBezTo>
                    <a:pt x="45" y="14"/>
                    <a:pt x="52" y="12"/>
                    <a:pt x="59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62"/>
            <p:cNvGrpSpPr/>
            <p:nvPr/>
          </p:nvGrpSpPr>
          <p:grpSpPr>
            <a:xfrm>
              <a:off x="5348880" y="1551600"/>
              <a:ext cx="190800" cy="259920"/>
              <a:chOff x="5348880" y="1551600"/>
              <a:chExt cx="190800" cy="259920"/>
            </a:xfrm>
          </p:grpSpPr>
          <p:sp>
            <p:nvSpPr>
              <p:cNvPr id="293" name="Freeform 63"/>
              <p:cNvSpPr/>
              <p:nvPr/>
            </p:nvSpPr>
            <p:spPr>
              <a:xfrm>
                <a:off x="5348880" y="1551600"/>
                <a:ext cx="190800" cy="25992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4553" h="6494">
                    <a:moveTo>
                      <a:pt x="563" y="6011"/>
                    </a:moveTo>
                    <a:cubicBezTo>
                      <a:pt x="736" y="6210"/>
                      <a:pt x="1007" y="6468"/>
                      <a:pt x="1380" y="6481"/>
                    </a:cubicBezTo>
                    <a:cubicBezTo>
                      <a:pt x="1752" y="6494"/>
                      <a:pt x="2425" y="6337"/>
                      <a:pt x="2797" y="6096"/>
                    </a:cubicBezTo>
                    <a:cubicBezTo>
                      <a:pt x="3170" y="5854"/>
                      <a:pt x="3369" y="5299"/>
                      <a:pt x="3610" y="5020"/>
                    </a:cubicBezTo>
                    <a:cubicBezTo>
                      <a:pt x="3851" y="4740"/>
                      <a:pt x="4096" y="4833"/>
                      <a:pt x="4253" y="4418"/>
                    </a:cubicBezTo>
                    <a:cubicBezTo>
                      <a:pt x="4410" y="4003"/>
                      <a:pt x="4553" y="3101"/>
                      <a:pt x="4553" y="2529"/>
                    </a:cubicBezTo>
                    <a:cubicBezTo>
                      <a:pt x="4553" y="1957"/>
                      <a:pt x="4401" y="1356"/>
                      <a:pt x="4253" y="983"/>
                    </a:cubicBezTo>
                    <a:cubicBezTo>
                      <a:pt x="4105" y="610"/>
                      <a:pt x="3986" y="433"/>
                      <a:pt x="3656" y="297"/>
                    </a:cubicBezTo>
                    <a:cubicBezTo>
                      <a:pt x="3326" y="161"/>
                      <a:pt x="2708" y="0"/>
                      <a:pt x="2281" y="170"/>
                    </a:cubicBezTo>
                    <a:cubicBezTo>
                      <a:pt x="1854" y="339"/>
                      <a:pt x="1346" y="975"/>
                      <a:pt x="1079" y="1326"/>
                    </a:cubicBezTo>
                    <a:cubicBezTo>
                      <a:pt x="813" y="1678"/>
                      <a:pt x="808" y="1885"/>
                      <a:pt x="694" y="2271"/>
                    </a:cubicBezTo>
                    <a:cubicBezTo>
                      <a:pt x="580" y="2656"/>
                      <a:pt x="508" y="3304"/>
                      <a:pt x="394" y="3647"/>
                    </a:cubicBezTo>
                    <a:cubicBezTo>
                      <a:pt x="279" y="3991"/>
                      <a:pt x="17" y="4063"/>
                      <a:pt x="9" y="4334"/>
                    </a:cubicBezTo>
                    <a:cubicBezTo>
                      <a:pt x="0" y="4605"/>
                      <a:pt x="246" y="4999"/>
                      <a:pt x="351" y="5278"/>
                    </a:cubicBezTo>
                    <a:cubicBezTo>
                      <a:pt x="457" y="5558"/>
                      <a:pt x="389" y="5812"/>
                      <a:pt x="563" y="6011"/>
                    </a:cubicBez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64"/>
              <p:cNvSpPr/>
              <p:nvPr/>
            </p:nvSpPr>
            <p:spPr>
              <a:xfrm>
                <a:off x="5348880" y="1551600"/>
                <a:ext cx="190800" cy="25992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122" h="175">
                    <a:moveTo>
                      <a:pt x="15" y="162"/>
                    </a:moveTo>
                    <a:cubicBezTo>
                      <a:pt x="19" y="167"/>
                      <a:pt x="27" y="174"/>
                      <a:pt x="37" y="175"/>
                    </a:cubicBezTo>
                    <a:cubicBezTo>
                      <a:pt x="47" y="175"/>
                      <a:pt x="65" y="171"/>
                      <a:pt x="75" y="164"/>
                    </a:cubicBezTo>
                    <a:cubicBezTo>
                      <a:pt x="85" y="158"/>
                      <a:pt x="90" y="143"/>
                      <a:pt x="96" y="135"/>
                    </a:cubicBezTo>
                    <a:cubicBezTo>
                      <a:pt x="103" y="128"/>
                      <a:pt x="110" y="130"/>
                      <a:pt x="114" y="119"/>
                    </a:cubicBezTo>
                    <a:cubicBezTo>
                      <a:pt x="118" y="108"/>
                      <a:pt x="122" y="84"/>
                      <a:pt x="122" y="68"/>
                    </a:cubicBezTo>
                    <a:cubicBezTo>
                      <a:pt x="122" y="53"/>
                      <a:pt x="118" y="36"/>
                      <a:pt x="114" y="26"/>
                    </a:cubicBezTo>
                    <a:cubicBezTo>
                      <a:pt x="110" y="16"/>
                      <a:pt x="107" y="12"/>
                      <a:pt x="98" y="8"/>
                    </a:cubicBezTo>
                    <a:cubicBezTo>
                      <a:pt x="89" y="4"/>
                      <a:pt x="72" y="0"/>
                      <a:pt x="61" y="4"/>
                    </a:cubicBezTo>
                    <a:cubicBezTo>
                      <a:pt x="49" y="9"/>
                      <a:pt x="36" y="26"/>
                      <a:pt x="29" y="36"/>
                    </a:cubicBezTo>
                    <a:cubicBezTo>
                      <a:pt x="21" y="45"/>
                      <a:pt x="21" y="51"/>
                      <a:pt x="18" y="61"/>
                    </a:cubicBezTo>
                    <a:cubicBezTo>
                      <a:pt x="15" y="71"/>
                      <a:pt x="13" y="89"/>
                      <a:pt x="10" y="98"/>
                    </a:cubicBezTo>
                    <a:cubicBezTo>
                      <a:pt x="7" y="108"/>
                      <a:pt x="0" y="109"/>
                      <a:pt x="0" y="117"/>
                    </a:cubicBezTo>
                    <a:cubicBezTo>
                      <a:pt x="0" y="124"/>
                      <a:pt x="6" y="135"/>
                      <a:pt x="9" y="142"/>
                    </a:cubicBezTo>
                    <a:cubicBezTo>
                      <a:pt x="12" y="150"/>
                      <a:pt x="10" y="157"/>
                      <a:pt x="15" y="162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65"/>
            <p:cNvGrpSpPr/>
            <p:nvPr/>
          </p:nvGrpSpPr>
          <p:grpSpPr>
            <a:xfrm>
              <a:off x="5394600" y="1597680"/>
              <a:ext cx="106200" cy="144000"/>
              <a:chOff x="5394600" y="1597680"/>
              <a:chExt cx="106200" cy="144000"/>
            </a:xfrm>
          </p:grpSpPr>
          <p:sp>
            <p:nvSpPr>
              <p:cNvPr id="296" name="Freeform 66"/>
              <p:cNvSpPr/>
              <p:nvPr/>
            </p:nvSpPr>
            <p:spPr>
              <a:xfrm>
                <a:off x="5394600" y="1597680"/>
                <a:ext cx="106200" cy="1440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2547" h="3627">
                    <a:moveTo>
                      <a:pt x="1958" y="144"/>
                    </a:moveTo>
                    <a:cubicBezTo>
                      <a:pt x="1695" y="0"/>
                      <a:pt x="1204" y="309"/>
                      <a:pt x="924" y="618"/>
                    </a:cubicBezTo>
                    <a:cubicBezTo>
                      <a:pt x="644" y="927"/>
                      <a:pt x="386" y="1511"/>
                      <a:pt x="280" y="1989"/>
                    </a:cubicBezTo>
                    <a:cubicBezTo>
                      <a:pt x="174" y="2468"/>
                      <a:pt x="0" y="3356"/>
                      <a:pt x="280" y="3492"/>
                    </a:cubicBezTo>
                    <a:cubicBezTo>
                      <a:pt x="559" y="3627"/>
                      <a:pt x="1585" y="3140"/>
                      <a:pt x="1958" y="2806"/>
                    </a:cubicBezTo>
                    <a:cubicBezTo>
                      <a:pt x="2331" y="2472"/>
                      <a:pt x="2479" y="1901"/>
                      <a:pt x="2513" y="1477"/>
                    </a:cubicBezTo>
                    <a:cubicBezTo>
                      <a:pt x="2547" y="1054"/>
                      <a:pt x="2221" y="288"/>
                      <a:pt x="1958" y="144"/>
                    </a:cubicBez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67"/>
              <p:cNvSpPr/>
              <p:nvPr/>
            </p:nvSpPr>
            <p:spPr>
              <a:xfrm>
                <a:off x="5394600" y="1597680"/>
                <a:ext cx="106200" cy="1440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68" h="97">
                    <a:moveTo>
                      <a:pt x="53" y="3"/>
                    </a:moveTo>
                    <a:cubicBezTo>
                      <a:pt x="46" y="0"/>
                      <a:pt x="32" y="8"/>
                      <a:pt x="25" y="16"/>
                    </a:cubicBezTo>
                    <a:cubicBezTo>
                      <a:pt x="17" y="25"/>
                      <a:pt x="11" y="40"/>
                      <a:pt x="8" y="53"/>
                    </a:cubicBezTo>
                    <a:cubicBezTo>
                      <a:pt x="5" y="66"/>
                      <a:pt x="0" y="90"/>
                      <a:pt x="8" y="94"/>
                    </a:cubicBezTo>
                    <a:cubicBezTo>
                      <a:pt x="15" y="97"/>
                      <a:pt x="43" y="84"/>
                      <a:pt x="53" y="75"/>
                    </a:cubicBezTo>
                    <a:cubicBezTo>
                      <a:pt x="63" y="66"/>
                      <a:pt x="67" y="51"/>
                      <a:pt x="68" y="39"/>
                    </a:cubicBezTo>
                    <a:cubicBezTo>
                      <a:pt x="68" y="28"/>
                      <a:pt x="60" y="7"/>
                      <a:pt x="53" y="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Двойная стрелка влево/вправо 70"/>
          <p:cNvSpPr/>
          <p:nvPr/>
        </p:nvSpPr>
        <p:spPr>
          <a:xfrm>
            <a:off x="4040280" y="1601640"/>
            <a:ext cx="552240" cy="263520"/>
          </a:xfrm>
          <a:prstGeom prst="leftRightArrow">
            <a:avLst>
              <a:gd name="adj1" fmla="val 50000"/>
              <a:gd name="adj2" fmla="val 49984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71"/>
          <p:cNvSpPr/>
          <p:nvPr/>
        </p:nvSpPr>
        <p:spPr>
          <a:xfrm>
            <a:off x="620640" y="3365640"/>
            <a:ext cx="8205840" cy="7945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Абстракци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– это выделение существенных свойств объекта, отличающих его от других объект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9" descr="http://shkolazhizni.ru/img/content/i53/53822_or.jpg"/>
          <p:cNvPicPr/>
          <p:nvPr/>
        </p:nvPicPr>
        <p:blipFill>
          <a:blip r:embed="rId1"/>
          <a:stretch/>
        </p:blipFill>
        <p:spPr>
          <a:xfrm>
            <a:off x="698400" y="4597560"/>
            <a:ext cx="1755720" cy="1303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1" descr="http://maugav.info/wp-content/uploads/2013/11/koshachiy-skelet1.jpg"/>
          <p:cNvPicPr/>
          <p:nvPr/>
        </p:nvPicPr>
        <p:blipFill>
          <a:blip r:embed="rId2"/>
          <a:srcRect l="376" t="0" r="0" b="0"/>
          <a:stretch/>
        </p:blipFill>
        <p:spPr>
          <a:xfrm>
            <a:off x="2757600" y="4562640"/>
            <a:ext cx="2590560" cy="133956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34"/>
          <p:cNvGrpSpPr/>
          <p:nvPr/>
        </p:nvGrpSpPr>
        <p:grpSpPr>
          <a:xfrm>
            <a:off x="5376960" y="4578480"/>
            <a:ext cx="3450600" cy="925560"/>
            <a:chOff x="5376960" y="4578480"/>
            <a:chExt cx="3450600" cy="925560"/>
          </a:xfrm>
        </p:grpSpPr>
        <p:sp>
          <p:nvSpPr>
            <p:cNvPr id="303" name="Text Box 32"/>
            <p:cNvSpPr/>
            <p:nvPr/>
          </p:nvSpPr>
          <p:spPr>
            <a:xfrm>
              <a:off x="5881320" y="4678560"/>
              <a:ext cx="29462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ные цели –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разные модел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3"/>
            <p:cNvSpPr/>
            <p:nvPr/>
          </p:nvSpPr>
          <p:spPr>
            <a:xfrm>
              <a:off x="5376960" y="4578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бстрактн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34AA-A41F-4883-91AB-EE98E77FD0F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"/>
          <p:cNvSpPr/>
          <p:nvPr/>
        </p:nvSpPr>
        <p:spPr>
          <a:xfrm>
            <a:off x="388800" y="892080"/>
            <a:ext cx="8562960" cy="3172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 not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hasat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alc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ai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NotImplementedErr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льзя создать такой объект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Скругленная прямоугольная выноска 4"/>
          <p:cNvSpPr/>
          <p:nvPr/>
        </p:nvSpPr>
        <p:spPr>
          <a:xfrm>
            <a:off x="4699080" y="1765440"/>
            <a:ext cx="3849480" cy="998280"/>
          </a:xfrm>
          <a:prstGeom prst="wedgeRoundRectCallout">
            <a:avLst>
              <a:gd name="adj1" fmla="val -38763"/>
              <a:gd name="adj2" fmla="val 722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у объекта нет атрибута (поля или метода) с именем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Скругленная прямоугольная выноска 7"/>
          <p:cNvSpPr/>
          <p:nvPr/>
        </p:nvSpPr>
        <p:spPr>
          <a:xfrm>
            <a:off x="957240" y="4359240"/>
            <a:ext cx="3105000" cy="946080"/>
          </a:xfrm>
          <a:prstGeom prst="wedgeRoundRectCallout">
            <a:avLst>
              <a:gd name="adj1" fmla="val -13523"/>
              <a:gd name="adj2" fmla="val -121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ть («поднять», «выбросить») исключ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6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5" dur="500"/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8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8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полиморфиз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147B-5532-4F4C-8436-B9D4CA66D75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Прямоугольник 3"/>
          <p:cNvSpPr/>
          <p:nvPr/>
        </p:nvSpPr>
        <p:spPr>
          <a:xfrm>
            <a:off x="433800" y="5157720"/>
            <a:ext cx="55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еч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πολ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много,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ορφ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оугольник 4"/>
          <p:cNvSpPr/>
          <p:nvPr/>
        </p:nvSpPr>
        <p:spPr>
          <a:xfrm>
            <a:off x="403200" y="3951360"/>
            <a:ext cx="84232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иморфи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возможность классов-наследников по-разному реализовать метод с одним и тем же име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"/>
          <p:cNvSpPr/>
          <p:nvPr/>
        </p:nvSpPr>
        <p:spPr>
          <a:xfrm>
            <a:off x="368280" y="936360"/>
            <a:ext cx="6681960" cy="2257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1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1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12"/>
          <p:cNvSpPr/>
          <p:nvPr/>
        </p:nvSpPr>
        <p:spPr>
          <a:xfrm>
            <a:off x="1180800" y="2805120"/>
            <a:ext cx="1916640" cy="3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Скругленная прямоугольная выноска 11"/>
          <p:cNvSpPr/>
          <p:nvPr/>
        </p:nvSpPr>
        <p:spPr>
          <a:xfrm>
            <a:off x="3816360" y="2806560"/>
            <a:ext cx="3786120" cy="946440"/>
          </a:xfrm>
          <a:prstGeom prst="wedgeRoundRectCallout">
            <a:avLst>
              <a:gd name="adj1" fmla="val -70046"/>
              <a:gd name="adj2" fmla="val -285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каждого наследника вызывается свой метод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 «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A262-ECBA-4FF7-993B-5DEB29E701C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"/>
          <p:cNvSpPr/>
          <p:nvPr/>
        </p:nvSpPr>
        <p:spPr>
          <a:xfrm>
            <a:off x="388800" y="1871640"/>
            <a:ext cx="8429760" cy="207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ogElemen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I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Group 34"/>
          <p:cNvGrpSpPr/>
          <p:nvPr/>
        </p:nvGrpSpPr>
        <p:grpSpPr>
          <a:xfrm>
            <a:off x="606600" y="4944960"/>
            <a:ext cx="5380920" cy="663480"/>
            <a:chOff x="606600" y="4944960"/>
            <a:chExt cx="5380920" cy="663480"/>
          </a:xfrm>
        </p:grpSpPr>
        <p:sp>
          <p:nvSpPr>
            <p:cNvPr id="867" name="Text Box 32"/>
            <p:cNvSpPr/>
            <p:nvPr/>
          </p:nvSpPr>
          <p:spPr>
            <a:xfrm>
              <a:off x="1110960" y="5045040"/>
              <a:ext cx="4876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Это уже не абстрактный класс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33"/>
            <p:cNvSpPr/>
            <p:nvPr/>
          </p:nvSpPr>
          <p:spPr>
            <a:xfrm>
              <a:off x="606600" y="4944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Скругленная прямоугольная выноска 9"/>
          <p:cNvSpPr/>
          <p:nvPr/>
        </p:nvSpPr>
        <p:spPr>
          <a:xfrm>
            <a:off x="1185840" y="896760"/>
            <a:ext cx="2693880" cy="703440"/>
          </a:xfrm>
          <a:prstGeom prst="wedgeRoundRectCallout">
            <a:avLst>
              <a:gd name="adj1" fmla="val 38842"/>
              <a:gd name="adj2" fmla="val 11362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ник от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Log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4"/>
          <p:cNvGrpSpPr/>
          <p:nvPr/>
        </p:nvGrpSpPr>
        <p:grpSpPr>
          <a:xfrm>
            <a:off x="4594320" y="4064040"/>
            <a:ext cx="3741120" cy="663480"/>
            <a:chOff x="4594320" y="4064040"/>
            <a:chExt cx="3741120" cy="663480"/>
          </a:xfrm>
        </p:grpSpPr>
        <p:sp>
          <p:nvSpPr>
            <p:cNvPr id="871" name="Text Box 32"/>
            <p:cNvSpPr/>
            <p:nvPr/>
          </p:nvSpPr>
          <p:spPr>
            <a:xfrm>
              <a:off x="5098680" y="4164120"/>
              <a:ext cx="3236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 не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__in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33"/>
            <p:cNvSpPr/>
            <p:nvPr/>
          </p:nvSpPr>
          <p:spPr>
            <a:xfrm>
              <a:off x="4594320" y="4064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Скругленная прямоугольная выноска 13"/>
          <p:cNvSpPr/>
          <p:nvPr/>
        </p:nvSpPr>
        <p:spPr>
          <a:xfrm>
            <a:off x="5418000" y="1193760"/>
            <a:ext cx="2652840" cy="1112760"/>
          </a:xfrm>
          <a:prstGeom prst="wedgeRoundRectCallout">
            <a:avLst>
              <a:gd name="adj1" fmla="val -41273"/>
              <a:gd name="adj2" fmla="val 8187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конструктора базового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14"/>
          <p:cNvSpPr/>
          <p:nvPr/>
        </p:nvSpPr>
        <p:spPr>
          <a:xfrm>
            <a:off x="3893040" y="3479760"/>
            <a:ext cx="1643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2" dur="500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 «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2E61-76F5-4F93-9A14-BCB6968CFCB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1"/>
          <p:cNvSpPr/>
          <p:nvPr/>
        </p:nvSpPr>
        <p:spPr>
          <a:xfrm>
            <a:off x="706320" y="1265400"/>
            <a:ext cx="466272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Прямоугольник 9"/>
          <p:cNvSpPr/>
          <p:nvPr/>
        </p:nvSpPr>
        <p:spPr>
          <a:xfrm>
            <a:off x="390960" y="8064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ь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Скругленная прямоугольная выноска 10"/>
          <p:cNvSpPr/>
          <p:nvPr/>
        </p:nvSpPr>
        <p:spPr>
          <a:xfrm>
            <a:off x="3071880" y="1220760"/>
            <a:ext cx="2851200" cy="430200"/>
          </a:xfrm>
          <a:prstGeom prst="wedgeRoundRectCallout">
            <a:avLst>
              <a:gd name="adj1" fmla="val -72583"/>
              <a:gd name="adj2" fmla="val 48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Скругленная прямоугольная выноска 11"/>
          <p:cNvSpPr/>
          <p:nvPr/>
        </p:nvSpPr>
        <p:spPr>
          <a:xfrm>
            <a:off x="3648240" y="1841400"/>
            <a:ext cx="3165480" cy="432000"/>
          </a:xfrm>
          <a:prstGeom prst="wedgeRoundRectCallout">
            <a:avLst>
              <a:gd name="adj1" fmla="val -66745"/>
              <a:gd name="adj2" fmla="val 44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в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Скругленная прямоугольная выноска 12"/>
          <p:cNvSpPr/>
          <p:nvPr/>
        </p:nvSpPr>
        <p:spPr>
          <a:xfrm>
            <a:off x="3789360" y="2655720"/>
            <a:ext cx="3090960" cy="432000"/>
          </a:xfrm>
          <a:prstGeom prst="wedgeRoundRectCallout">
            <a:avLst>
              <a:gd name="adj1" fmla="val -60810"/>
              <a:gd name="adj2" fmla="val -45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резуль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ы с двумя вход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8A18-29B3-4C20-9422-93386A28D0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"/>
          <p:cNvSpPr/>
          <p:nvPr/>
        </p:nvSpPr>
        <p:spPr>
          <a:xfrm>
            <a:off x="442800" y="1851840"/>
            <a:ext cx="7531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2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Скругленная прямоугольная выноска 4"/>
          <p:cNvSpPr/>
          <p:nvPr/>
        </p:nvSpPr>
        <p:spPr>
          <a:xfrm>
            <a:off x="4203720" y="907920"/>
            <a:ext cx="2692440" cy="703440"/>
          </a:xfrm>
          <a:prstGeom prst="wedgeRoundRectCallout">
            <a:avLst>
              <a:gd name="adj1" fmla="val -43643"/>
              <a:gd name="adj2" fmla="val 97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ник от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Log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34"/>
          <p:cNvGrpSpPr/>
          <p:nvPr/>
        </p:nvGrpSpPr>
        <p:grpSpPr>
          <a:xfrm>
            <a:off x="547560" y="2813040"/>
            <a:ext cx="6703920" cy="663480"/>
            <a:chOff x="547560" y="2813040"/>
            <a:chExt cx="6703920" cy="663480"/>
          </a:xfrm>
        </p:grpSpPr>
        <p:sp>
          <p:nvSpPr>
            <p:cNvPr id="887" name="Text Box 32"/>
            <p:cNvSpPr/>
            <p:nvPr/>
          </p:nvSpPr>
          <p:spPr>
            <a:xfrm>
              <a:off x="1052280" y="2913120"/>
              <a:ext cx="6199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создать объект этого класса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33"/>
            <p:cNvSpPr/>
            <p:nvPr/>
          </p:nvSpPr>
          <p:spPr>
            <a:xfrm>
              <a:off x="547560" y="2813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Скругленная прямоугольная выноска 9"/>
          <p:cNvSpPr/>
          <p:nvPr/>
        </p:nvSpPr>
        <p:spPr>
          <a:xfrm>
            <a:off x="1787400" y="3649680"/>
            <a:ext cx="3708360" cy="458640"/>
          </a:xfrm>
          <a:prstGeom prst="wedgeRoundRectCallout">
            <a:avLst>
              <a:gd name="adj1" fmla="val -42875"/>
              <a:gd name="adj2" fmla="val -1214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, он абстрак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ы с двумя вход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7A78-F2E0-4BC2-BAE7-35032558EE9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1"/>
          <p:cNvSpPr/>
          <p:nvPr/>
        </p:nvSpPr>
        <p:spPr>
          <a:xfrm>
            <a:off x="698400" y="1266480"/>
            <a:ext cx="80200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og2In.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n1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I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1"/>
          <p:cNvSpPr/>
          <p:nvPr/>
        </p:nvSpPr>
        <p:spPr>
          <a:xfrm>
            <a:off x="698400" y="3663000"/>
            <a:ext cx="80200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og2In.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n1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I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оугольник 9"/>
          <p:cNvSpPr/>
          <p:nvPr/>
        </p:nvSpPr>
        <p:spPr>
          <a:xfrm>
            <a:off x="391680" y="80640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«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Прямоугольник 9"/>
          <p:cNvSpPr/>
          <p:nvPr/>
        </p:nvSpPr>
        <p:spPr>
          <a:xfrm>
            <a:off x="394200" y="320832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«ИЛ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3" dur="50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6" dur="500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3" dur="500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6" dur="500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элемент «И-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01F1-C968-4EE0-99E4-30FB3D7D19B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1"/>
          <p:cNvSpPr/>
          <p:nvPr/>
        </p:nvSpPr>
        <p:spPr>
          <a:xfrm>
            <a:off x="425520" y="950400"/>
            <a:ext cx="8091360" cy="4117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 A | B | not(A&amp;B)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---------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in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elNot.Re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Группа 36"/>
          <p:cNvGrpSpPr/>
          <p:nvPr/>
        </p:nvGrpSpPr>
        <p:grpSpPr>
          <a:xfrm>
            <a:off x="5800680" y="2757600"/>
            <a:ext cx="2434680" cy="849240"/>
            <a:chOff x="5800680" y="2757600"/>
            <a:chExt cx="2434680" cy="849240"/>
          </a:xfrm>
        </p:grpSpPr>
        <p:grpSp>
          <p:nvGrpSpPr>
            <p:cNvPr id="900" name="Группа 19"/>
            <p:cNvGrpSpPr/>
            <p:nvPr/>
          </p:nvGrpSpPr>
          <p:grpSpPr>
            <a:xfrm>
              <a:off x="6149160" y="2757600"/>
              <a:ext cx="2086200" cy="849240"/>
              <a:chOff x="6149160" y="2757600"/>
              <a:chExt cx="2086200" cy="849240"/>
            </a:xfrm>
          </p:grpSpPr>
          <p:grpSp>
            <p:nvGrpSpPr>
              <p:cNvPr id="901" name="Group 31"/>
              <p:cNvGrpSpPr/>
              <p:nvPr/>
            </p:nvGrpSpPr>
            <p:grpSpPr>
              <a:xfrm>
                <a:off x="6149160" y="2757600"/>
                <a:ext cx="2086200" cy="849240"/>
                <a:chOff x="6149160" y="2757600"/>
                <a:chExt cx="2086200" cy="849240"/>
              </a:xfrm>
            </p:grpSpPr>
            <p:sp>
              <p:nvSpPr>
                <p:cNvPr id="902" name="Rectangle 18"/>
                <p:cNvSpPr/>
                <p:nvPr/>
              </p:nvSpPr>
              <p:spPr>
                <a:xfrm>
                  <a:off x="6549120" y="2757600"/>
                  <a:ext cx="615960" cy="8492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3" name="Group 19"/>
                <p:cNvGrpSpPr/>
                <p:nvPr/>
              </p:nvGrpSpPr>
              <p:grpSpPr>
                <a:xfrm>
                  <a:off x="6149160" y="3002040"/>
                  <a:ext cx="2086200" cy="407880"/>
                  <a:chOff x="6149160" y="3002040"/>
                  <a:chExt cx="2086200" cy="407880"/>
                </a:xfrm>
              </p:grpSpPr>
              <p:sp>
                <p:nvSpPr>
                  <p:cNvPr id="904" name="Line 20"/>
                  <p:cNvSpPr/>
                  <p:nvPr/>
                </p:nvSpPr>
                <p:spPr>
                  <a:xfrm>
                    <a:off x="6149160" y="340992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21"/>
                  <p:cNvSpPr/>
                  <p:nvPr/>
                </p:nvSpPr>
                <p:spPr>
                  <a:xfrm>
                    <a:off x="6149160" y="300204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20"/>
                  <p:cNvSpPr/>
                  <p:nvPr/>
                </p:nvSpPr>
                <p:spPr>
                  <a:xfrm>
                    <a:off x="7158600" y="318132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Line 20"/>
                  <p:cNvSpPr/>
                  <p:nvPr/>
                </p:nvSpPr>
                <p:spPr>
                  <a:xfrm>
                    <a:off x="7838280" y="317196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8" name="Rectangle 23"/>
                <p:cNvSpPr/>
                <p:nvPr/>
              </p:nvSpPr>
              <p:spPr>
                <a:xfrm>
                  <a:off x="6581520" y="277344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9" name="Group 57"/>
              <p:cNvGrpSpPr/>
              <p:nvPr/>
            </p:nvGrpSpPr>
            <p:grpSpPr>
              <a:xfrm>
                <a:off x="7538400" y="2977560"/>
                <a:ext cx="340560" cy="407880"/>
                <a:chOff x="7538400" y="2977560"/>
                <a:chExt cx="340560" cy="407880"/>
              </a:xfrm>
            </p:grpSpPr>
            <p:sp>
              <p:nvSpPr>
                <p:cNvPr id="910" name="Rectangle 58"/>
                <p:cNvSpPr/>
                <p:nvPr/>
              </p:nvSpPr>
              <p:spPr>
                <a:xfrm>
                  <a:off x="7538400" y="2977560"/>
                  <a:ext cx="297720" cy="4078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Oval 59"/>
                <p:cNvSpPr/>
                <p:nvPr/>
              </p:nvSpPr>
              <p:spPr>
                <a:xfrm>
                  <a:off x="7790040" y="3132360"/>
                  <a:ext cx="88920" cy="88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912" name="Object 72"/>
                <p:cNvSpPr txBox="1"/>
                <p:nvPr/>
              </p:nvSpPr>
              <p:spPr>
                <a:xfrm>
                  <a:off x="5827680" y="3252240"/>
                  <a:ext cx="2937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3" name="Object 73"/>
                <p:cNvSpPr txBox="1"/>
                <p:nvPr/>
              </p:nvSpPr>
              <p:spPr>
                <a:xfrm>
                  <a:off x="5800680" y="2790000"/>
                  <a:ext cx="3459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4" name="Полилиния 19"/>
          <p:cNvSpPr/>
          <p:nvPr/>
        </p:nvSpPr>
        <p:spPr>
          <a:xfrm>
            <a:off x="4221000" y="2306520"/>
            <a:ext cx="2041560" cy="69228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041451" h="691116">
                <a:moveTo>
                  <a:pt x="0" y="691116"/>
                </a:moveTo>
                <a:cubicBezTo>
                  <a:pt x="680484" y="659218"/>
                  <a:pt x="1424762" y="0"/>
                  <a:pt x="2041451" y="595423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олилиния 20"/>
          <p:cNvSpPr/>
          <p:nvPr/>
        </p:nvSpPr>
        <p:spPr>
          <a:xfrm>
            <a:off x="4519440" y="3487680"/>
            <a:ext cx="1722600" cy="52092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2474" h="520995">
                <a:moveTo>
                  <a:pt x="0" y="255181"/>
                </a:moveTo>
                <a:cubicBezTo>
                  <a:pt x="616688" y="170121"/>
                  <a:pt x="1297172" y="520995"/>
                  <a:pt x="172247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олилиния 21"/>
          <p:cNvSpPr/>
          <p:nvPr/>
        </p:nvSpPr>
        <p:spPr>
          <a:xfrm>
            <a:off x="5040360" y="3243240"/>
            <a:ext cx="2370240" cy="1009800"/>
          </a:xfrm>
          <a:custGeom>
            <a:avLst/>
            <a:gdLst>
              <a:gd name="textAreaLeft" fmla="*/ 0 w 2370240"/>
              <a:gd name="textAreaRight" fmla="*/ 2370600 w 2370240"/>
              <a:gd name="textAreaTop" fmla="*/ 0 h 1009800"/>
              <a:gd name="textAreaBottom" fmla="*/ 1010160 h 1009800"/>
            </a:gdLst>
            <a:ahLst/>
            <a:rect l="textAreaLeft" t="textAreaTop" r="textAreaRight" b="textAreaBottom"/>
            <a:pathLst>
              <a:path w="2371060" h="1010093">
                <a:moveTo>
                  <a:pt x="0" y="871869"/>
                </a:moveTo>
                <a:cubicBezTo>
                  <a:pt x="616688" y="786809"/>
                  <a:pt x="2179675" y="1010093"/>
                  <a:pt x="237106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Полилиния 22"/>
          <p:cNvSpPr/>
          <p:nvPr/>
        </p:nvSpPr>
        <p:spPr>
          <a:xfrm>
            <a:off x="6421320" y="3232080"/>
            <a:ext cx="1765440" cy="1467000"/>
          </a:xfrm>
          <a:custGeom>
            <a:avLst/>
            <a:gdLst>
              <a:gd name="textAreaLeft" fmla="*/ 0 w 1765440"/>
              <a:gd name="textAreaRight" fmla="*/ 1765800 w 17654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1765002" h="1467294">
                <a:moveTo>
                  <a:pt x="1584249" y="0"/>
                </a:moveTo>
                <a:cubicBezTo>
                  <a:pt x="1765002" y="1041991"/>
                  <a:pt x="0" y="882503"/>
                  <a:pt x="63794" y="1467294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4" dur="5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5" dur="500"/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3" dur="500"/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1" dur="500"/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2" dur="500"/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0" dur="500"/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3" dur="500"/>
                                        <p:tgtEl>
                                          <p:spTgt spid="8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у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B43C-444D-46C3-A92A-D297AF8BBA2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"/>
          <p:cNvSpPr/>
          <p:nvPr/>
        </p:nvSpPr>
        <p:spPr>
          <a:xfrm>
            <a:off x="615960" y="1720440"/>
            <a:ext cx="6559560" cy="40568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Not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2In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And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r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Прямоугольник 4"/>
          <p:cNvSpPr/>
          <p:nvPr/>
        </p:nvSpPr>
        <p:spPr>
          <a:xfrm>
            <a:off x="387360" y="80964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делить классы в отдельный моду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logelement.p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у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C3CB-944F-4195-95AD-4784EC671B4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Прямоугольник 4"/>
          <p:cNvSpPr/>
          <p:nvPr/>
        </p:nvSpPr>
        <p:spPr>
          <a:xfrm>
            <a:off x="402480" y="8618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основную программ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"/>
          <p:cNvSpPr/>
          <p:nvPr/>
        </p:nvSpPr>
        <p:spPr>
          <a:xfrm>
            <a:off x="558720" y="1333800"/>
            <a:ext cx="8217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element.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element.TA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бщения между объек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E5D2-8837-4C30-A6B3-B99BEA09260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34"/>
          <p:cNvGrpSpPr/>
          <p:nvPr/>
        </p:nvGrpSpPr>
        <p:grpSpPr>
          <a:xfrm>
            <a:off x="453960" y="925560"/>
            <a:ext cx="5946840" cy="925560"/>
            <a:chOff x="453960" y="925560"/>
            <a:chExt cx="5946840" cy="925560"/>
          </a:xfrm>
        </p:grpSpPr>
        <p:sp>
          <p:nvSpPr>
            <p:cNvPr id="929" name="Text Box 32"/>
            <p:cNvSpPr/>
            <p:nvPr/>
          </p:nvSpPr>
          <p:spPr>
            <a:xfrm>
              <a:off x="958680" y="1025640"/>
              <a:ext cx="5442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 – автоматическая передача сигналов по цепочк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33"/>
            <p:cNvSpPr/>
            <p:nvPr/>
          </p:nvSpPr>
          <p:spPr>
            <a:xfrm>
              <a:off x="453960" y="925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Rectangle 1"/>
          <p:cNvSpPr/>
          <p:nvPr/>
        </p:nvSpPr>
        <p:spPr>
          <a:xfrm>
            <a:off x="419040" y="2110680"/>
            <a:ext cx="822024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n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xtEl, next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x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x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Скругленная прямоугольная выноска 7"/>
          <p:cNvSpPr/>
          <p:nvPr/>
        </p:nvSpPr>
        <p:spPr>
          <a:xfrm>
            <a:off x="4890960" y="2540160"/>
            <a:ext cx="3454560" cy="742680"/>
          </a:xfrm>
          <a:prstGeom prst="wedgeRoundRectCallout">
            <a:avLst>
              <a:gd name="adj1" fmla="val -64750"/>
              <a:gd name="adj2" fmla="val 60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 следующего элемента в цеп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Скругленная прямоугольная выноска 8"/>
          <p:cNvSpPr/>
          <p:nvPr/>
        </p:nvSpPr>
        <p:spPr>
          <a:xfrm>
            <a:off x="4898880" y="3535200"/>
            <a:ext cx="3746520" cy="765360"/>
          </a:xfrm>
          <a:prstGeom prst="wedgeRoundRectCallout">
            <a:avLst>
              <a:gd name="adj1" fmla="val -67777"/>
              <a:gd name="adj2" fmla="val -106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входа следующе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Скругленная прямоугольная выноска 9"/>
          <p:cNvSpPr/>
          <p:nvPr/>
        </p:nvSpPr>
        <p:spPr>
          <a:xfrm>
            <a:off x="5729400" y="5002200"/>
            <a:ext cx="1904760" cy="739800"/>
          </a:xfrm>
          <a:prstGeom prst="wedgeRoundRectCallout">
            <a:avLst>
              <a:gd name="adj1" fmla="val -81282"/>
              <a:gd name="adj2" fmla="val -397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500"/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9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9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9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5" dur="500"/>
                                        <p:tgtEl>
                                          <p:spTgt spid="9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объек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B1F6-0177-4F7F-ADCB-9FC9E5BD54C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"/>
          <p:cNvSpPr/>
          <p:nvPr/>
        </p:nvSpPr>
        <p:spPr>
          <a:xfrm>
            <a:off x="384120" y="879480"/>
            <a:ext cx="844236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объектов (моделей), каждый из которых обладает своими свойствами и поведением, но его внутреннее устройство скрыто от других объек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34"/>
          <p:cNvGrpSpPr/>
          <p:nvPr/>
        </p:nvGrpSpPr>
        <p:grpSpPr>
          <a:xfrm>
            <a:off x="1220760" y="2595600"/>
            <a:ext cx="6702120" cy="663480"/>
            <a:chOff x="1220760" y="2595600"/>
            <a:chExt cx="6702120" cy="663480"/>
          </a:xfrm>
        </p:grpSpPr>
        <p:sp>
          <p:nvSpPr>
            <p:cNvPr id="309" name="Text Box 32"/>
            <p:cNvSpPr/>
            <p:nvPr/>
          </p:nvSpPr>
          <p:spPr>
            <a:xfrm>
              <a:off x="1725480" y="2695680"/>
              <a:ext cx="6197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«разделить» задачу на объект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33"/>
            <p:cNvSpPr/>
            <p:nvPr/>
          </p:nvSpPr>
          <p:spPr>
            <a:xfrm>
              <a:off x="1220760" y="2595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"/>
          <p:cNvGrpSpPr/>
          <p:nvPr/>
        </p:nvGrpSpPr>
        <p:grpSpPr>
          <a:xfrm>
            <a:off x="542880" y="3413160"/>
            <a:ext cx="5695920" cy="2770200"/>
            <a:chOff x="542880" y="3413160"/>
            <a:chExt cx="5695920" cy="2770200"/>
          </a:xfrm>
        </p:grpSpPr>
        <p:sp>
          <p:nvSpPr>
            <p:cNvPr id="313" name="AutoShape 30"/>
            <p:cNvSpPr/>
            <p:nvPr/>
          </p:nvSpPr>
          <p:spPr>
            <a:xfrm>
              <a:off x="542880" y="3413160"/>
              <a:ext cx="5695920" cy="27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 flipH="1">
              <a:off x="4098600" y="4865760"/>
              <a:ext cx="66960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5" name="AutoShape 28"/>
            <p:cNvCxnSpPr/>
            <p:nvPr/>
          </p:nvCxnSpPr>
          <p:spPr>
            <a:xfrm flipH="1" flipV="1">
              <a:off x="3468600" y="3918240"/>
              <a:ext cx="6120" cy="9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316" name="AutoShape 27"/>
            <p:cNvCxnSpPr/>
            <p:nvPr/>
          </p:nvCxnSpPr>
          <p:spPr>
            <a:xfrm flipH="1">
              <a:off x="2245680" y="3918960"/>
              <a:ext cx="1224000" cy="374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317" name="AutoShape 26"/>
            <p:cNvCxnSpPr/>
            <p:nvPr/>
          </p:nvCxnSpPr>
          <p:spPr>
            <a:xfrm>
              <a:off x="3469320" y="3918600"/>
              <a:ext cx="1038240" cy="35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sp>
          <p:nvSpPr>
            <p:cNvPr id="318" name="AutoShape 25"/>
            <p:cNvSpPr/>
            <p:nvPr/>
          </p:nvSpPr>
          <p:spPr>
            <a:xfrm>
              <a:off x="3257640" y="3516480"/>
              <a:ext cx="423720" cy="402840"/>
            </a:xfrm>
            <a:prstGeom prst="pentagon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17"/>
            <p:cNvGrpSpPr/>
            <p:nvPr/>
          </p:nvGrpSpPr>
          <p:grpSpPr>
            <a:xfrm>
              <a:off x="542880" y="3673080"/>
              <a:ext cx="1703160" cy="1619640"/>
              <a:chOff x="542880" y="3673080"/>
              <a:chExt cx="1703160" cy="1619640"/>
            </a:xfrm>
          </p:grpSpPr>
          <p:sp>
            <p:nvSpPr>
              <p:cNvPr id="320" name="AutoShape 24"/>
              <p:cNvSpPr/>
              <p:nvPr/>
            </p:nvSpPr>
            <p:spPr>
              <a:xfrm>
                <a:off x="542880" y="3673080"/>
                <a:ext cx="1703160" cy="1619640"/>
              </a:xfrm>
              <a:prstGeom prst="pentagon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680" rIns="76680" tIns="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1" name="AutoShape 23"/>
              <p:cNvCxnSpPr/>
              <p:nvPr/>
            </p:nvCxnSpPr>
            <p:spPr>
              <a:xfrm>
                <a:off x="1224360" y="4464000"/>
                <a:ext cx="308880" cy="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22" name="AutoShape 22"/>
              <p:cNvCxnSpPr/>
              <p:nvPr/>
            </p:nvCxnSpPr>
            <p:spPr>
              <a:xfrm>
                <a:off x="1011960" y="4713120"/>
                <a:ext cx="132840" cy="249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23" name="AutoShape 21"/>
              <p:cNvCxnSpPr/>
              <p:nvPr/>
            </p:nvCxnSpPr>
            <p:spPr>
              <a:xfrm flipH="1">
                <a:off x="1568520" y="4720680"/>
                <a:ext cx="46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324" name="AutoShape 20"/>
              <p:cNvSpPr/>
              <p:nvPr/>
            </p:nvSpPr>
            <p:spPr>
              <a:xfrm>
                <a:off x="799920" y="4309920"/>
                <a:ext cx="424080" cy="40356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utoShape 19"/>
              <p:cNvSpPr/>
              <p:nvPr/>
            </p:nvSpPr>
            <p:spPr>
              <a:xfrm>
                <a:off x="1533600" y="4317840"/>
                <a:ext cx="424080" cy="40320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18"/>
              <p:cNvSpPr/>
              <p:nvPr/>
            </p:nvSpPr>
            <p:spPr>
              <a:xfrm>
                <a:off x="1144800" y="4808880"/>
                <a:ext cx="424080" cy="40356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"/>
            <p:cNvGrpSpPr/>
            <p:nvPr/>
          </p:nvGrpSpPr>
          <p:grpSpPr>
            <a:xfrm>
              <a:off x="4506840" y="3656520"/>
              <a:ext cx="1703160" cy="1619640"/>
              <a:chOff x="4506840" y="3656520"/>
              <a:chExt cx="1703160" cy="1619640"/>
            </a:xfrm>
          </p:grpSpPr>
          <p:sp>
            <p:nvSpPr>
              <p:cNvPr id="328" name="AutoShape 16"/>
              <p:cNvSpPr/>
              <p:nvPr/>
            </p:nvSpPr>
            <p:spPr>
              <a:xfrm>
                <a:off x="4506840" y="3656520"/>
                <a:ext cx="1703160" cy="1619640"/>
              </a:xfrm>
              <a:prstGeom prst="pentagon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680" rIns="76680" tIns="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9" name="AutoShape 15"/>
              <p:cNvCxnSpPr/>
              <p:nvPr/>
            </p:nvCxnSpPr>
            <p:spPr>
              <a:xfrm>
                <a:off x="5187600" y="4447080"/>
                <a:ext cx="309240" cy="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30" name="AutoShape 14"/>
              <p:cNvCxnSpPr/>
              <p:nvPr/>
            </p:nvCxnSpPr>
            <p:spPr>
              <a:xfrm flipH="1">
                <a:off x="5532120" y="4703400"/>
                <a:ext cx="17676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31" name="AutoShape 13"/>
              <p:cNvCxnSpPr/>
              <p:nvPr/>
            </p:nvCxnSpPr>
            <p:spPr>
              <a:xfrm flipH="1" flipV="1">
                <a:off x="5104800" y="4695840"/>
                <a:ext cx="474120" cy="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332" name="AutoShape 12"/>
              <p:cNvSpPr/>
              <p:nvPr/>
            </p:nvSpPr>
            <p:spPr>
              <a:xfrm>
                <a:off x="4763880" y="4292640"/>
                <a:ext cx="424080" cy="40428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11"/>
              <p:cNvSpPr/>
              <p:nvPr/>
            </p:nvSpPr>
            <p:spPr>
              <a:xfrm>
                <a:off x="5497560" y="4300560"/>
                <a:ext cx="424080" cy="40284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10"/>
              <p:cNvSpPr/>
              <p:nvPr/>
            </p:nvSpPr>
            <p:spPr>
              <a:xfrm>
                <a:off x="5108760" y="4790880"/>
                <a:ext cx="424080" cy="40428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3"/>
            <p:cNvGrpSpPr/>
            <p:nvPr/>
          </p:nvGrpSpPr>
          <p:grpSpPr>
            <a:xfrm>
              <a:off x="2792160" y="4855680"/>
              <a:ext cx="1365480" cy="1298520"/>
              <a:chOff x="2792160" y="4855680"/>
              <a:chExt cx="1365480" cy="1298520"/>
            </a:xfrm>
          </p:grpSpPr>
          <p:sp>
            <p:nvSpPr>
              <p:cNvPr id="336" name="AutoShape 8"/>
              <p:cNvSpPr/>
              <p:nvPr/>
            </p:nvSpPr>
            <p:spPr>
              <a:xfrm>
                <a:off x="2792160" y="4855680"/>
                <a:ext cx="1365480" cy="1298520"/>
              </a:xfrm>
              <a:prstGeom prst="pentagon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680" rIns="76680" tIns="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7" name="AutoShape 7"/>
              <p:cNvCxnSpPr/>
              <p:nvPr/>
            </p:nvCxnSpPr>
            <p:spPr>
              <a:xfrm flipH="1">
                <a:off x="3302640" y="5815080"/>
                <a:ext cx="35064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338" name="AutoShape 6"/>
              <p:cNvSpPr/>
              <p:nvPr/>
            </p:nvSpPr>
            <p:spPr>
              <a:xfrm>
                <a:off x="2960280" y="5414040"/>
                <a:ext cx="425520" cy="40320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Г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utoShape 5"/>
              <p:cNvSpPr/>
              <p:nvPr/>
            </p:nvSpPr>
            <p:spPr>
              <a:xfrm>
                <a:off x="3570480" y="5412600"/>
                <a:ext cx="424080" cy="40320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Г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4"/>
              <p:cNvSpPr/>
              <p:nvPr/>
            </p:nvSpPr>
            <p:spPr>
              <a:xfrm>
                <a:off x="3362400" y="5711760"/>
                <a:ext cx="2455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Line 2"/>
            <p:cNvSpPr/>
            <p:nvPr/>
          </p:nvSpPr>
          <p:spPr>
            <a:xfrm flipH="1" flipV="1">
              <a:off x="2034360" y="4999320"/>
              <a:ext cx="76140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Скругленная прямоугольная выноска 38"/>
          <p:cNvSpPr/>
          <p:nvPr/>
        </p:nvSpPr>
        <p:spPr>
          <a:xfrm>
            <a:off x="5856120" y="5580000"/>
            <a:ext cx="2914920" cy="781200"/>
          </a:xfrm>
          <a:prstGeom prst="wedgeRoundRectCallout">
            <a:avLst>
              <a:gd name="adj1" fmla="val -70074"/>
              <a:gd name="adj2" fmla="val -632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компози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объек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бщения между объек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16BD-FD14-4CBF-88FE-39B9A02424B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"/>
          <p:cNvSpPr/>
          <p:nvPr/>
        </p:nvSpPr>
        <p:spPr>
          <a:xfrm>
            <a:off x="685800" y="1668240"/>
            <a:ext cx="7835760" cy="3827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1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nex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El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nextEl.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Прямоугольник 5"/>
          <p:cNvSpPr/>
          <p:nvPr/>
        </p:nvSpPr>
        <p:spPr>
          <a:xfrm>
            <a:off x="387360" y="809640"/>
            <a:ext cx="83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изменения выхода «дергаем» следующий элем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Скругленная прямоугольная выноска 6"/>
          <p:cNvSpPr/>
          <p:nvPr/>
        </p:nvSpPr>
        <p:spPr>
          <a:xfrm>
            <a:off x="5046840" y="3067200"/>
            <a:ext cx="3609720" cy="761760"/>
          </a:xfrm>
          <a:prstGeom prst="wedgeRoundRectCallout">
            <a:avLst>
              <a:gd name="adj1" fmla="val -66870"/>
              <a:gd name="adj2" fmla="val 60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ледующий элемент установле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Скругленная прямоугольная выноска 7"/>
          <p:cNvSpPr/>
          <p:nvPr/>
        </p:nvSpPr>
        <p:spPr>
          <a:xfrm>
            <a:off x="4176720" y="5688000"/>
            <a:ext cx="3610080" cy="762120"/>
          </a:xfrm>
          <a:prstGeom prst="wedgeRoundRectCallout">
            <a:avLst>
              <a:gd name="adj1" fmla="val -39430"/>
              <a:gd name="adj2" fmla="val -8337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ать результат на нужный в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0" dur="500"/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3" dur="500"/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8" dur="500"/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6" dur="500"/>
                                        <p:tgtEl>
                                          <p:spTgt spid="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4" dur="500"/>
                                        <p:tgtEl>
                                          <p:spTgt spid="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9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бщения между объек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D53F-DA58-4482-9483-D5E25E8B1D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1"/>
          <p:cNvSpPr/>
          <p:nvPr/>
        </p:nvSpPr>
        <p:spPr>
          <a:xfrm>
            <a:off x="609480" y="1316520"/>
            <a:ext cx="7763040" cy="4635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lin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lNot, 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 A | B | not(A&amp;B)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---------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in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elNot.Re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оугольник 5"/>
          <p:cNvSpPr/>
          <p:nvPr/>
        </p:nvSpPr>
        <p:spPr>
          <a:xfrm>
            <a:off x="387360" y="8096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ения в основной програм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Прямоугольник 8"/>
          <p:cNvSpPr/>
          <p:nvPr/>
        </p:nvSpPr>
        <p:spPr>
          <a:xfrm>
            <a:off x="687240" y="2127240"/>
            <a:ext cx="4534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And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lin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elNot, 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Скругленная прямоугольная выноска 9"/>
          <p:cNvSpPr/>
          <p:nvPr/>
        </p:nvSpPr>
        <p:spPr>
          <a:xfrm>
            <a:off x="5213520" y="1449360"/>
            <a:ext cx="1866600" cy="781200"/>
          </a:xfrm>
          <a:prstGeom prst="wedgeRoundRectCallout">
            <a:avLst>
              <a:gd name="adj1" fmla="val -71250"/>
              <a:gd name="adj2" fmla="val 48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Группа 14"/>
          <p:cNvGrpSpPr/>
          <p:nvPr/>
        </p:nvGrpSpPr>
        <p:grpSpPr>
          <a:xfrm>
            <a:off x="1447920" y="4803840"/>
            <a:ext cx="3805200" cy="409680"/>
            <a:chOff x="1447920" y="4803840"/>
            <a:chExt cx="3805200" cy="409680"/>
          </a:xfrm>
        </p:grpSpPr>
        <p:sp>
          <p:nvSpPr>
            <p:cNvPr id="948" name="Прямоугольник 10"/>
            <p:cNvSpPr/>
            <p:nvPr/>
          </p:nvSpPr>
          <p:spPr>
            <a:xfrm>
              <a:off x="1447920" y="4803840"/>
              <a:ext cx="3805200" cy="400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Прямая соединительная линия 12"/>
            <p:cNvSpPr/>
            <p:nvPr/>
          </p:nvSpPr>
          <p:spPr>
            <a:xfrm flipV="1">
              <a:off x="1457640" y="4808880"/>
              <a:ext cx="3794040" cy="404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Прямая соединительная линия 13"/>
            <p:cNvSpPr/>
            <p:nvPr/>
          </p:nvSpPr>
          <p:spPr>
            <a:xfrm>
              <a:off x="1457640" y="4809240"/>
              <a:ext cx="3794040" cy="404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Скругленная прямоугольная выноска 15"/>
          <p:cNvSpPr/>
          <p:nvPr/>
        </p:nvSpPr>
        <p:spPr>
          <a:xfrm>
            <a:off x="5450040" y="4010040"/>
            <a:ext cx="1866600" cy="781200"/>
          </a:xfrm>
          <a:prstGeom prst="wedgeRoundRectCallout">
            <a:avLst>
              <a:gd name="adj1" fmla="val -62731"/>
              <a:gd name="adj2" fmla="val 688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же не ну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F1A3-6D28-4455-AFB3-9E998DDEB09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69720" y="809640"/>
            <a:ext cx="842040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ашнее животно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 двумя скрытыми полями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__n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__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ра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Они должны быть доступны для чтения через свойств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едоступны для записи.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ttingOld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возраст на 1 год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страктный, он имеет абстрактный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два класса-наследника –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ш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а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Они должны реализовать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исания классов должны быть в отдельном модул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ls.p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. следующий слай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5E3F-659E-4D92-95DE-EE17ADC9494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5"/>
          <p:cNvSpPr/>
          <p:nvPr/>
        </p:nvSpPr>
        <p:spPr>
          <a:xfrm>
            <a:off x="369720" y="809640"/>
            <a:ext cx="842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animals import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Dog(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Шарик"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gettingOld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p.name + ":", p.age, 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лет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ts = [ Cat(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урка", 3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p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 in p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Прямоугольник 4"/>
          <p:cNvSpPr/>
          <p:nvPr/>
        </p:nvSpPr>
        <p:spPr>
          <a:xfrm>
            <a:off x="6045120" y="1009800"/>
            <a:ext cx="27687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6 лет Мурка: Мя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Га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38FB-D5C8-4660-9909-27A6BD55ACB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ьте клас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екопитающе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следник класс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едок для класс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должен иметь мет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выводит сообщение вида «Вася побежа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animals import 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ts = [Cat("Мурзик", 3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g("Шарик", 5)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 in p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run()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Прямоугольник 4"/>
          <p:cNvSpPr/>
          <p:nvPr/>
        </p:nvSpPr>
        <p:spPr>
          <a:xfrm>
            <a:off x="4178160" y="3867120"/>
            <a:ext cx="45594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: Мя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 побежал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Га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 побежал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425E-F4A0-461E-B593-19726FA2A5B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369720" y="809640"/>
            <a:ext cx="84204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ь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til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птил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наследник класс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предок для новых классов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rt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репах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ak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ме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должен иметь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aw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з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который выводит сообщение вида «Вася пополз…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animals import 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ts = [Cat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урзик", 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urtle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к", 32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og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Шарик", 5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nake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аки", 2)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 in pe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sinstance(p, Mamma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ru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sinstance(p, Reptilia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crawl()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Прямоугольник 4"/>
          <p:cNvSpPr/>
          <p:nvPr/>
        </p:nvSpPr>
        <p:spPr>
          <a:xfrm>
            <a:off x="5753160" y="2685960"/>
            <a:ext cx="3213000" cy="2775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: 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 побежал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: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 пополз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 побежал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Чаки: ш-ш-ш-ш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Чаки пополз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C492-C422-4FE0-9E3E-78FB22885E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рать полную программу и построить таблицу истинности последовательного соединения элементов «ИЛИ» и «НЕ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not(A+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A473-552A-4031-9BFA-4A87C336DE9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369720" y="809640"/>
            <a:ext cx="8420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ить в иерархию классов элементы «И-НЕ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NAn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«ИЛИ-НЕ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N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которые представляют собой последовательные соединения элементов «И» и «ИЛИ» с элементом «НЕ». Построить их таблицы исти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nand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 nor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B6D3-ADB0-4ADC-97A7-102F9ED06F0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369720" y="809640"/>
            <a:ext cx="842040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ить в иерархию классов элемент «исключающее ИЛИ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X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«импликация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 Построить их таблицы исти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xor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 -&gt;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AC2A-984F-4125-A4D6-E54903C76B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5"/>
          <p:cNvSpPr/>
          <p:nvPr/>
        </p:nvSpPr>
        <p:spPr>
          <a:xfrm>
            <a:off x="369720" y="809640"/>
            <a:ext cx="842040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ить в иерархию классов элемент «триггер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Trigg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 Построить его таблицу истиннос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чальных значениях выход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ных 0 и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и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Q = 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и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Q =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06200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ъекты и кла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690D-1222-46D5-8D9C-DBCB1638F3B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80680" y="4387320"/>
            <a:ext cx="84106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граммы с графическим интерфей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4F72-DEBB-4FB6-8E39-6624C9E486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терфейс: объекты и сообщ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7EB4-3FBF-49D6-B257-D52AA14E042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2" descr=""/>
          <p:cNvPicPr/>
          <p:nvPr/>
        </p:nvPicPr>
        <p:blipFill>
          <a:blip r:embed="rId1"/>
          <a:stretch/>
        </p:blipFill>
        <p:spPr>
          <a:xfrm>
            <a:off x="2197080" y="1419120"/>
            <a:ext cx="4749840" cy="1600200"/>
          </a:xfrm>
          <a:prstGeom prst="rect">
            <a:avLst/>
          </a:prstGeom>
          <a:ln w="0">
            <a:noFill/>
          </a:ln>
        </p:spPr>
      </p:pic>
      <p:sp>
        <p:nvSpPr>
          <p:cNvPr id="985" name="Скругленная прямоугольная выноска 6"/>
          <p:cNvSpPr/>
          <p:nvPr/>
        </p:nvSpPr>
        <p:spPr>
          <a:xfrm>
            <a:off x="3295800" y="888840"/>
            <a:ext cx="1866600" cy="466920"/>
          </a:xfrm>
          <a:prstGeom prst="wedgeRoundRectCallout">
            <a:avLst>
              <a:gd name="adj1" fmla="val -20925"/>
              <a:gd name="adj2" fmla="val 15690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Скругленная прямоугольная выноска 7"/>
          <p:cNvSpPr/>
          <p:nvPr/>
        </p:nvSpPr>
        <p:spPr>
          <a:xfrm>
            <a:off x="7169040" y="1689120"/>
            <a:ext cx="1225800" cy="466560"/>
          </a:xfrm>
          <a:prstGeom prst="wedgeRoundRectCallout">
            <a:avLst>
              <a:gd name="adj1" fmla="val -84777"/>
              <a:gd name="adj2" fmla="val -363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Скругленная прямоугольная выноска 8"/>
          <p:cNvSpPr/>
          <p:nvPr/>
        </p:nvSpPr>
        <p:spPr>
          <a:xfrm>
            <a:off x="412920" y="1752480"/>
            <a:ext cx="1504800" cy="466920"/>
          </a:xfrm>
          <a:prstGeom prst="wedgeRoundRectCallout">
            <a:avLst>
              <a:gd name="adj1" fmla="val 77185"/>
              <a:gd name="adj2" fmla="val 589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а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Скругленная прямоугольная выноска 9"/>
          <p:cNvSpPr/>
          <p:nvPr/>
        </p:nvSpPr>
        <p:spPr>
          <a:xfrm>
            <a:off x="1371600" y="2717640"/>
            <a:ext cx="2527200" cy="466920"/>
          </a:xfrm>
          <a:prstGeom prst="wedgeRoundRectCallout">
            <a:avLst>
              <a:gd name="adj1" fmla="val 63615"/>
              <a:gd name="adj2" fmla="val -55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Прямоугольник 10"/>
          <p:cNvSpPr/>
          <p:nvPr/>
        </p:nvSpPr>
        <p:spPr>
          <a:xfrm>
            <a:off x="457200" y="3186000"/>
            <a:ext cx="811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элементы окон – объекты, которые обмениваются данными, посылая друг другу со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Прямоугольник 11"/>
          <p:cNvSpPr/>
          <p:nvPr/>
        </p:nvSpPr>
        <p:spPr>
          <a:xfrm>
            <a:off x="457200" y="4038480"/>
            <a:ext cx="802656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общ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блок данных определённой структуры, который используется для обмена информацией между объе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723960" y="5262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дресат (кому)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ироковещ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вой код (тип) со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метры (дополнительные дан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5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2" dur="500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ическ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E03B-CA95-4FE8-A80F-A803BFC3553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Группа 40"/>
          <p:cNvGrpSpPr/>
          <p:nvPr/>
        </p:nvGrpSpPr>
        <p:grpSpPr>
          <a:xfrm>
            <a:off x="4616280" y="905040"/>
            <a:ext cx="4129200" cy="3362040"/>
            <a:chOff x="4616280" y="905040"/>
            <a:chExt cx="4129200" cy="3362040"/>
          </a:xfrm>
        </p:grpSpPr>
        <p:sp>
          <p:nvSpPr>
            <p:cNvPr id="996" name="Rectangle 29"/>
            <p:cNvSpPr/>
            <p:nvPr/>
          </p:nvSpPr>
          <p:spPr>
            <a:xfrm>
              <a:off x="4616280" y="905040"/>
              <a:ext cx="4129200" cy="336204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6"/>
            <p:cNvSpPr/>
            <p:nvPr/>
          </p:nvSpPr>
          <p:spPr>
            <a:xfrm>
              <a:off x="4838400" y="1886040"/>
              <a:ext cx="3684960" cy="2226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цедуры и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8" name="AutoShape 17"/>
            <p:cNvCxnSpPr/>
            <p:nvPr/>
          </p:nvCxnSpPr>
          <p:spPr>
            <a:xfrm flipH="1">
              <a:off x="5276880" y="1528200"/>
              <a:ext cx="1404000" cy="57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999" name="AutoShape 16"/>
            <p:cNvCxnSpPr/>
            <p:nvPr/>
          </p:nvCxnSpPr>
          <p:spPr>
            <a:xfrm flipH="1">
              <a:off x="6131160" y="1528560"/>
              <a:ext cx="549720" cy="1017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0" name="AutoShape 15"/>
            <p:cNvCxnSpPr/>
            <p:nvPr/>
          </p:nvCxnSpPr>
          <p:spPr>
            <a:xfrm>
              <a:off x="6680880" y="1528200"/>
              <a:ext cx="369360" cy="715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1" name="AutoShape 14"/>
            <p:cNvCxnSpPr/>
            <p:nvPr/>
          </p:nvCxnSpPr>
          <p:spPr>
            <a:xfrm flipH="1">
              <a:off x="5366160" y="2783880"/>
              <a:ext cx="496080" cy="309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2" name="AutoShape 13"/>
            <p:cNvCxnSpPr/>
            <p:nvPr/>
          </p:nvCxnSpPr>
          <p:spPr>
            <a:xfrm>
              <a:off x="6399720" y="2784240"/>
              <a:ext cx="5540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3" name="AutoShape 12"/>
            <p:cNvCxnSpPr/>
            <p:nvPr/>
          </p:nvCxnSpPr>
          <p:spPr>
            <a:xfrm flipH="1">
              <a:off x="6953400" y="2720880"/>
              <a:ext cx="96480" cy="413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4" name="AutoShape 11"/>
            <p:cNvCxnSpPr/>
            <p:nvPr/>
          </p:nvCxnSpPr>
          <p:spPr>
            <a:xfrm flipH="1">
              <a:off x="7221600" y="3056760"/>
              <a:ext cx="528480" cy="315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5" name="AutoShape 10"/>
            <p:cNvCxnSpPr/>
            <p:nvPr/>
          </p:nvCxnSpPr>
          <p:spPr>
            <a:xfrm>
              <a:off x="7317360" y="2482200"/>
              <a:ext cx="702360" cy="336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06" name="Rectangle 8"/>
            <p:cNvSpPr/>
            <p:nvPr/>
          </p:nvSpPr>
          <p:spPr>
            <a:xfrm>
              <a:off x="5008320" y="210348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7"/>
            <p:cNvSpPr/>
            <p:nvPr/>
          </p:nvSpPr>
          <p:spPr>
            <a:xfrm>
              <a:off x="5862600" y="254484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6"/>
            <p:cNvSpPr/>
            <p:nvPr/>
          </p:nvSpPr>
          <p:spPr>
            <a:xfrm>
              <a:off x="6780240" y="2243160"/>
              <a:ext cx="5382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5"/>
            <p:cNvSpPr/>
            <p:nvPr/>
          </p:nvSpPr>
          <p:spPr>
            <a:xfrm>
              <a:off x="7750080" y="281772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"/>
            <p:cNvSpPr/>
            <p:nvPr/>
          </p:nvSpPr>
          <p:spPr>
            <a:xfrm>
              <a:off x="6684840" y="313380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3"/>
            <p:cNvSpPr/>
            <p:nvPr/>
          </p:nvSpPr>
          <p:spPr>
            <a:xfrm>
              <a:off x="5097240" y="3092400"/>
              <a:ext cx="5382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34"/>
          <p:cNvGrpSpPr/>
          <p:nvPr/>
        </p:nvGrpSpPr>
        <p:grpSpPr>
          <a:xfrm>
            <a:off x="316080" y="4773600"/>
            <a:ext cx="8614800" cy="925560"/>
            <a:chOff x="316080" y="4773600"/>
            <a:chExt cx="8614800" cy="925560"/>
          </a:xfrm>
        </p:grpSpPr>
        <p:sp>
          <p:nvSpPr>
            <p:cNvPr id="1013" name="Text Box 32"/>
            <p:cNvSpPr/>
            <p:nvPr/>
          </p:nvSpPr>
          <p:spPr>
            <a:xfrm>
              <a:off x="820440" y="4873680"/>
              <a:ext cx="8110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рядок выполнения команд определяется программистом, пользователь не может вмешаться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33"/>
            <p:cNvSpPr/>
            <p:nvPr/>
          </p:nvSpPr>
          <p:spPr>
            <a:xfrm>
              <a:off x="316080" y="4773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Freeform 28"/>
          <p:cNvSpPr/>
          <p:nvPr/>
        </p:nvSpPr>
        <p:spPr>
          <a:xfrm>
            <a:off x="3700440" y="1023840"/>
            <a:ext cx="1185840" cy="341964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3419640"/>
              <a:gd name="textAreaBottom" fmla="*/ 3420000 h 3419640"/>
            </a:gdLst>
            <a:ahLst/>
            <a:rect l="textAreaLeft" t="textAreaTop" r="textAreaRight" b="textAreaBottom"/>
            <a:pathLst>
              <a:path w="1726" h="2667">
                <a:moveTo>
                  <a:pt x="1715" y="54"/>
                </a:moveTo>
                <a:lnTo>
                  <a:pt x="0" y="0"/>
                </a:lnTo>
                <a:cubicBezTo>
                  <a:pt x="29" y="889"/>
                  <a:pt x="57" y="1778"/>
                  <a:pt x="86" y="2667"/>
                </a:cubicBezTo>
                <a:lnTo>
                  <a:pt x="1707" y="371"/>
                </a:lnTo>
                <a:cubicBezTo>
                  <a:pt x="1696" y="285"/>
                  <a:pt x="1726" y="140"/>
                  <a:pt x="1715" y="5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>
                  <a:alpha val="50196"/>
                </a:srgbClr>
              </a:gs>
            </a:gsLst>
            <a:lin ang="0"/>
          </a:gra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Группа 39"/>
          <p:cNvGrpSpPr/>
          <p:nvPr/>
        </p:nvGrpSpPr>
        <p:grpSpPr>
          <a:xfrm>
            <a:off x="419040" y="987480"/>
            <a:ext cx="3362400" cy="3492360"/>
            <a:chOff x="419040" y="987480"/>
            <a:chExt cx="3362400" cy="3492360"/>
          </a:xfrm>
        </p:grpSpPr>
        <p:sp>
          <p:nvSpPr>
            <p:cNvPr id="1017" name="AutoShape 27"/>
            <p:cNvSpPr/>
            <p:nvPr/>
          </p:nvSpPr>
          <p:spPr>
            <a:xfrm>
              <a:off x="419040" y="987480"/>
              <a:ext cx="3362400" cy="3492360"/>
            </a:xfrm>
            <a:custGeom>
              <a:avLst/>
              <a:gdLst>
                <a:gd name="textAreaLeft" fmla="*/ 55440 w 3362400"/>
                <a:gd name="textAreaRight" fmla="*/ 3306960 w 3362400"/>
                <a:gd name="textAreaTop" fmla="*/ 55440 h 3492360"/>
                <a:gd name="textAreaBottom" fmla="*/ 3436920 h 3492360"/>
              </a:gdLst>
              <a:ahLst/>
              <a:rect l="textAreaLeft" t="textAreaTop" r="textAreaRight" b="textAreaBottom"/>
              <a:pathLst>
                <a:path w="21600" h="22435">
                  <a:moveTo>
                    <a:pt x="1216" y="0"/>
                  </a:moveTo>
                  <a:arcTo wR="1216" hR="1216" stAng="16200000" swAng="-5400000"/>
                  <a:lnTo>
                    <a:pt x="0" y="21219"/>
                  </a:lnTo>
                  <a:arcTo wR="1216" hR="1216" stAng="10800000" swAng="-5400000"/>
                  <a:lnTo>
                    <a:pt x="20384" y="22435"/>
                  </a:lnTo>
                  <a:arcTo wR="1216" hR="1216" stAng="5400000" swAng="-5400000"/>
                  <a:lnTo>
                    <a:pt x="21600" y="1216"/>
                  </a:lnTo>
                  <a:arcTo wR="1216" hR="1216" stAng="0" swAng="-5400000"/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8" name="AutoShape 25"/>
            <p:cNvCxnSpPr/>
            <p:nvPr/>
          </p:nvCxnSpPr>
          <p:spPr>
            <a:xfrm>
              <a:off x="2067840" y="2175480"/>
              <a:ext cx="2160" cy="36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19" name="AutoShape 24"/>
            <p:cNvCxnSpPr/>
            <p:nvPr/>
          </p:nvCxnSpPr>
          <p:spPr>
            <a:xfrm>
              <a:off x="2067840" y="2876040"/>
              <a:ext cx="2160" cy="36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20" name="AutoShape 23"/>
            <p:cNvSpPr/>
            <p:nvPr/>
          </p:nvSpPr>
          <p:spPr>
            <a:xfrm>
              <a:off x="691920" y="1844640"/>
              <a:ext cx="2749680" cy="38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ввод дан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AutoShape 22"/>
            <p:cNvSpPr/>
            <p:nvPr/>
          </p:nvSpPr>
          <p:spPr>
            <a:xfrm>
              <a:off x="691920" y="2544840"/>
              <a:ext cx="2749680" cy="385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бработка дан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2" name="AutoShape 21"/>
            <p:cNvCxnSpPr/>
            <p:nvPr/>
          </p:nvCxnSpPr>
          <p:spPr>
            <a:xfrm flipH="1">
              <a:off x="2065680" y="3575160"/>
              <a:ext cx="2160" cy="36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23" name="AutoShape 20"/>
            <p:cNvSpPr/>
            <p:nvPr/>
          </p:nvSpPr>
          <p:spPr>
            <a:xfrm>
              <a:off x="691920" y="3245040"/>
              <a:ext cx="2749680" cy="38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вывод результа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AutoShape 19"/>
            <p:cNvSpPr/>
            <p:nvPr/>
          </p:nvSpPr>
          <p:spPr>
            <a:xfrm>
              <a:off x="1431720" y="3944880"/>
              <a:ext cx="1268280" cy="331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не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AutoShape 18"/>
            <p:cNvCxnSpPr/>
            <p:nvPr/>
          </p:nvCxnSpPr>
          <p:spPr>
            <a:xfrm>
              <a:off x="2066040" y="1478160"/>
              <a:ext cx="2160" cy="36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26" name="AutoShape 2"/>
            <p:cNvSpPr/>
            <p:nvPr/>
          </p:nvSpPr>
          <p:spPr>
            <a:xfrm>
              <a:off x="1431720" y="1144440"/>
              <a:ext cx="1268280" cy="333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нача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AutoShape 9"/>
          <p:cNvSpPr/>
          <p:nvPr/>
        </p:nvSpPr>
        <p:spPr>
          <a:xfrm>
            <a:off x="4838760" y="1095480"/>
            <a:ext cx="3684600" cy="433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снов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, управляемые событ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305E-E746-40D8-AEA0-879E35E0D7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Прямоугольник 3"/>
          <p:cNvSpPr/>
          <p:nvPr/>
        </p:nvSpPr>
        <p:spPr>
          <a:xfrm>
            <a:off x="390600" y="923760"/>
            <a:ext cx="8429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быт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ереход какого-либо объекта из одного состояния в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3"/>
          <p:cNvSpPr/>
          <p:nvPr/>
        </p:nvSpPr>
        <p:spPr>
          <a:xfrm>
            <a:off x="723960" y="1805760"/>
            <a:ext cx="716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жатие на клавиш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щелчок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упление данных из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рос к веб-серв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ершение вычис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Group 34"/>
          <p:cNvGrpSpPr/>
          <p:nvPr/>
        </p:nvGrpSpPr>
        <p:grpSpPr>
          <a:xfrm>
            <a:off x="1378080" y="4716360"/>
            <a:ext cx="6387480" cy="925560"/>
            <a:chOff x="1378080" y="4716360"/>
            <a:chExt cx="6387480" cy="925560"/>
          </a:xfrm>
        </p:grpSpPr>
        <p:sp>
          <p:nvSpPr>
            <p:cNvPr id="1033" name="Text Box 32"/>
            <p:cNvSpPr/>
            <p:nvPr/>
          </p:nvSpPr>
          <p:spPr>
            <a:xfrm>
              <a:off x="1882440" y="4816440"/>
              <a:ext cx="5883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ачинает работать при наступлении событий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33"/>
            <p:cNvSpPr/>
            <p:nvPr/>
          </p:nvSpPr>
          <p:spPr>
            <a:xfrm>
              <a:off x="1378080" y="47163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7" dur="indefinite" restart="never" nodeType="tmRoot">
          <p:childTnLst>
            <p:seq>
              <p:cTn id="2108" dur="indefinite" nodeType="mainSeq">
                <p:childTnLst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8" dur="500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3" dur="500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500"/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3" dur="500"/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6" dur="500"/>
                                        <p:tgtEl>
                                          <p:spTgt spid="10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Группа 40"/>
          <p:cNvGrpSpPr/>
          <p:nvPr/>
        </p:nvGrpSpPr>
        <p:grpSpPr>
          <a:xfrm>
            <a:off x="4883040" y="3218040"/>
            <a:ext cx="3902040" cy="1674720"/>
            <a:chOff x="4883040" y="3218040"/>
            <a:chExt cx="3902040" cy="1674720"/>
          </a:xfrm>
        </p:grpSpPr>
        <p:sp>
          <p:nvSpPr>
            <p:cNvPr id="1036" name="Rectangle 34"/>
            <p:cNvSpPr/>
            <p:nvPr/>
          </p:nvSpPr>
          <p:spPr>
            <a:xfrm>
              <a:off x="4883040" y="3218040"/>
              <a:ext cx="3902040" cy="1674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грам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31"/>
            <p:cNvSpPr/>
            <p:nvPr/>
          </p:nvSpPr>
          <p:spPr>
            <a:xfrm>
              <a:off x="6400800" y="3762360"/>
              <a:ext cx="2211480" cy="1015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бработчики сообщ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9"/>
            <p:cNvSpPr/>
            <p:nvPr/>
          </p:nvSpPr>
          <p:spPr>
            <a:xfrm>
              <a:off x="6578280" y="3867120"/>
              <a:ext cx="3441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8"/>
            <p:cNvSpPr/>
            <p:nvPr/>
          </p:nvSpPr>
          <p:spPr>
            <a:xfrm>
              <a:off x="7064280" y="3867120"/>
              <a:ext cx="3459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17"/>
            <p:cNvSpPr/>
            <p:nvPr/>
          </p:nvSpPr>
          <p:spPr>
            <a:xfrm>
              <a:off x="7549920" y="3867120"/>
              <a:ext cx="3459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16"/>
            <p:cNvSpPr/>
            <p:nvPr/>
          </p:nvSpPr>
          <p:spPr>
            <a:xfrm>
              <a:off x="8037360" y="3867120"/>
              <a:ext cx="3459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15"/>
            <p:cNvSpPr/>
            <p:nvPr/>
          </p:nvSpPr>
          <p:spPr>
            <a:xfrm>
              <a:off x="6753240" y="3517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14"/>
            <p:cNvSpPr/>
            <p:nvPr/>
          </p:nvSpPr>
          <p:spPr>
            <a:xfrm>
              <a:off x="7237440" y="3517920"/>
              <a:ext cx="144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13"/>
            <p:cNvSpPr/>
            <p:nvPr/>
          </p:nvSpPr>
          <p:spPr>
            <a:xfrm>
              <a:off x="7723080" y="3517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12"/>
            <p:cNvSpPr/>
            <p:nvPr/>
          </p:nvSpPr>
          <p:spPr>
            <a:xfrm>
              <a:off x="8209080" y="3517920"/>
              <a:ext cx="144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9"/>
            <p:cNvSpPr/>
            <p:nvPr/>
          </p:nvSpPr>
          <p:spPr>
            <a:xfrm>
              <a:off x="6303960" y="35193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Группа 38"/>
          <p:cNvGrpSpPr/>
          <p:nvPr/>
        </p:nvGrpSpPr>
        <p:grpSpPr>
          <a:xfrm>
            <a:off x="4883040" y="901800"/>
            <a:ext cx="3902040" cy="2095560"/>
            <a:chOff x="4883040" y="901800"/>
            <a:chExt cx="3902040" cy="2095560"/>
          </a:xfrm>
        </p:grpSpPr>
        <p:sp>
          <p:nvSpPr>
            <p:cNvPr id="1048" name="Rectangle 35"/>
            <p:cNvSpPr/>
            <p:nvPr/>
          </p:nvSpPr>
          <p:spPr>
            <a:xfrm>
              <a:off x="4883040" y="1379520"/>
              <a:ext cx="3902040" cy="161784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перацион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исте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6"/>
            <p:cNvSpPr/>
            <p:nvPr/>
          </p:nvSpPr>
          <p:spPr>
            <a:xfrm>
              <a:off x="5025600" y="1495440"/>
              <a:ext cx="3616560" cy="477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60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истемная очередь сообщ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AutoShape 5"/>
            <p:cNvSpPr/>
            <p:nvPr/>
          </p:nvSpPr>
          <p:spPr>
            <a:xfrm>
              <a:off x="6759360" y="1206360"/>
              <a:ext cx="147600" cy="298440"/>
            </a:xfrm>
            <a:prstGeom prst="downArrow">
              <a:avLst>
                <a:gd name="adj1" fmla="val 50000"/>
                <a:gd name="adj2" fmla="val 505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4"/>
            <p:cNvSpPr/>
            <p:nvPr/>
          </p:nvSpPr>
          <p:spPr>
            <a:xfrm>
              <a:off x="5035320" y="901800"/>
              <a:ext cx="36068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лавиатура, мышь,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, управляемые событ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29FB-754D-4F8E-AC2F-03CFC9DEC8B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33"/>
          <p:cNvSpPr/>
          <p:nvPr/>
        </p:nvSpPr>
        <p:spPr>
          <a:xfrm>
            <a:off x="3936960" y="1854360"/>
            <a:ext cx="1085760" cy="287316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2873160"/>
              <a:gd name="textAreaBottom" fmla="*/ 2873520 h 2873160"/>
            </a:gdLst>
            <a:ahLst/>
            <a:rect l="textAreaLeft" t="textAreaTop" r="textAreaRight" b="textAreaBottom"/>
            <a:pathLst>
              <a:path w="958" h="2755">
                <a:moveTo>
                  <a:pt x="945" y="1385"/>
                </a:moveTo>
                <a:lnTo>
                  <a:pt x="0" y="0"/>
                </a:lnTo>
                <a:cubicBezTo>
                  <a:pt x="10" y="918"/>
                  <a:pt x="21" y="1837"/>
                  <a:pt x="31" y="2755"/>
                </a:cubicBezTo>
                <a:lnTo>
                  <a:pt x="924" y="1917"/>
                </a:lnTo>
                <a:cubicBezTo>
                  <a:pt x="911" y="1780"/>
                  <a:pt x="958" y="1522"/>
                  <a:pt x="945" y="138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>
                  <a:alpha val="65098"/>
                </a:srgbClr>
              </a:gs>
            </a:gsLst>
            <a:lin ang="0"/>
          </a:gra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8"/>
          <p:cNvSpPr/>
          <p:nvPr/>
        </p:nvSpPr>
        <p:spPr>
          <a:xfrm>
            <a:off x="4952880" y="3303720"/>
            <a:ext cx="1441440" cy="579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6000" bIns="342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сно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7"/>
          <p:cNvSpPr/>
          <p:nvPr/>
        </p:nvSpPr>
        <p:spPr>
          <a:xfrm>
            <a:off x="5581800" y="2876400"/>
            <a:ext cx="149040" cy="432000"/>
          </a:xfrm>
          <a:prstGeom prst="downArrow">
            <a:avLst>
              <a:gd name="adj1" fmla="val 50000"/>
              <a:gd name="adj2" fmla="val 8836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Группа 39"/>
          <p:cNvGrpSpPr/>
          <p:nvPr/>
        </p:nvGrpSpPr>
        <p:grpSpPr>
          <a:xfrm>
            <a:off x="4924440" y="1953720"/>
            <a:ext cx="3006000" cy="910080"/>
            <a:chOff x="4924440" y="1953720"/>
            <a:chExt cx="3006000" cy="910080"/>
          </a:xfrm>
        </p:grpSpPr>
        <p:sp>
          <p:nvSpPr>
            <p:cNvPr id="1059" name="AutoShape 11"/>
            <p:cNvSpPr/>
            <p:nvPr/>
          </p:nvSpPr>
          <p:spPr>
            <a:xfrm>
              <a:off x="4924440" y="2260440"/>
              <a:ext cx="1498680" cy="603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6000" bIns="342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чередь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AutoShape 10"/>
            <p:cNvSpPr/>
            <p:nvPr/>
          </p:nvSpPr>
          <p:spPr>
            <a:xfrm rot="2038800">
              <a:off x="5876640" y="1969560"/>
              <a:ext cx="149040" cy="299880"/>
            </a:xfrm>
            <a:prstGeom prst="downArrow">
              <a:avLst>
                <a:gd name="adj1" fmla="val 50000"/>
                <a:gd name="adj2" fmla="val 5032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AutoShape 3"/>
            <p:cNvSpPr/>
            <p:nvPr/>
          </p:nvSpPr>
          <p:spPr>
            <a:xfrm flipH="1" rot="19561200">
              <a:off x="7710120" y="1969560"/>
              <a:ext cx="149040" cy="299880"/>
            </a:xfrm>
            <a:prstGeom prst="downArrow">
              <a:avLst>
                <a:gd name="adj1" fmla="val 50000"/>
                <a:gd name="adj2" fmla="val 5032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AutoShape 2"/>
            <p:cNvSpPr/>
            <p:nvPr/>
          </p:nvSpPr>
          <p:spPr>
            <a:xfrm>
              <a:off x="6762960" y="2004840"/>
              <a:ext cx="149040" cy="298440"/>
            </a:xfrm>
            <a:prstGeom prst="downArrow">
              <a:avLst>
                <a:gd name="adj1" fmla="val 50000"/>
                <a:gd name="adj2" fmla="val 5007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Группа 41"/>
          <p:cNvGrpSpPr/>
          <p:nvPr/>
        </p:nvGrpSpPr>
        <p:grpSpPr>
          <a:xfrm>
            <a:off x="231840" y="1792440"/>
            <a:ext cx="3752640" cy="2963880"/>
            <a:chOff x="231840" y="1792440"/>
            <a:chExt cx="3752640" cy="2963880"/>
          </a:xfrm>
        </p:grpSpPr>
        <p:sp>
          <p:nvSpPr>
            <p:cNvPr id="1064" name="AutoShape 32"/>
            <p:cNvSpPr/>
            <p:nvPr/>
          </p:nvSpPr>
          <p:spPr>
            <a:xfrm>
              <a:off x="231840" y="1792440"/>
              <a:ext cx="3752640" cy="2963880"/>
            </a:xfrm>
            <a:prstGeom prst="roundRect">
              <a:avLst>
                <a:gd name="adj" fmla="val 5630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AutoShape 30"/>
            <p:cNvSpPr/>
            <p:nvPr/>
          </p:nvSpPr>
          <p:spPr>
            <a:xfrm>
              <a:off x="2921040" y="3302280"/>
              <a:ext cx="930240" cy="361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6" name="AutoShape 29"/>
            <p:cNvCxnSpPr/>
            <p:nvPr/>
          </p:nvCxnSpPr>
          <p:spPr>
            <a:xfrm>
              <a:off x="1932120" y="2203560"/>
              <a:ext cx="36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67" name="AutoShape 28"/>
            <p:cNvCxnSpPr/>
            <p:nvPr/>
          </p:nvCxnSpPr>
          <p:spPr>
            <a:xfrm flipH="1">
              <a:off x="1933200" y="2993760"/>
              <a:ext cx="21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68" name="AutoShape 27"/>
            <p:cNvCxnSpPr/>
            <p:nvPr/>
          </p:nvCxnSpPr>
          <p:spPr>
            <a:xfrm>
              <a:off x="1933560" y="3649680"/>
              <a:ext cx="360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69" name="Oval 26"/>
            <p:cNvSpPr/>
            <p:nvPr/>
          </p:nvSpPr>
          <p:spPr>
            <a:xfrm>
              <a:off x="1911240" y="2368440"/>
              <a:ext cx="4428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0" name="AutoShape 25"/>
            <p:cNvCxnSpPr/>
            <p:nvPr/>
          </p:nvCxnSpPr>
          <p:spPr>
            <a:xfrm flipV="1" rot="16200000">
              <a:off x="954360" y="3348360"/>
              <a:ext cx="1937520" cy="24480"/>
            </a:xfrm>
            <a:prstGeom prst="bentConnector4">
              <a:avLst>
                <a:gd name="adj1" fmla="val -12488"/>
                <a:gd name="adj2" fmla="val 6247761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71" name="AutoShape 24"/>
            <p:cNvSpPr/>
            <p:nvPr/>
          </p:nvSpPr>
          <p:spPr>
            <a:xfrm>
              <a:off x="637920" y="2668680"/>
              <a:ext cx="2593800" cy="3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жидание сообщ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AutoShape 23"/>
            <p:cNvSpPr/>
            <p:nvPr/>
          </p:nvSpPr>
          <p:spPr>
            <a:xfrm>
              <a:off x="610920" y="4002480"/>
              <a:ext cx="2649600" cy="3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бработка сообщ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AutoShape 21"/>
            <p:cNvSpPr/>
            <p:nvPr/>
          </p:nvSpPr>
          <p:spPr>
            <a:xfrm>
              <a:off x="1384200" y="1878120"/>
              <a:ext cx="1095120" cy="3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4" name="AutoShape 20"/>
            <p:cNvCxnSpPr/>
            <p:nvPr/>
          </p:nvCxnSpPr>
          <p:spPr>
            <a:xfrm flipV="1">
              <a:off x="2430000" y="3477600"/>
              <a:ext cx="478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75" name="AutoShape 22"/>
            <p:cNvSpPr/>
            <p:nvPr/>
          </p:nvSpPr>
          <p:spPr>
            <a:xfrm>
              <a:off x="1309680" y="3208320"/>
              <a:ext cx="1245960" cy="541080"/>
            </a:xfrm>
            <a:prstGeom prst="flowChartDecision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топ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Group 34"/>
          <p:cNvGrpSpPr/>
          <p:nvPr/>
        </p:nvGrpSpPr>
        <p:grpSpPr>
          <a:xfrm>
            <a:off x="1378080" y="5243400"/>
            <a:ext cx="6387480" cy="663480"/>
            <a:chOff x="1378080" y="5243400"/>
            <a:chExt cx="6387480" cy="663480"/>
          </a:xfrm>
        </p:grpSpPr>
        <p:sp>
          <p:nvSpPr>
            <p:cNvPr id="1077" name="Text Box 32"/>
            <p:cNvSpPr/>
            <p:nvPr/>
          </p:nvSpPr>
          <p:spPr>
            <a:xfrm>
              <a:off x="1882440" y="5343480"/>
              <a:ext cx="58831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управляется событиями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33"/>
            <p:cNvSpPr/>
            <p:nvPr/>
          </p:nvSpPr>
          <p:spPr>
            <a:xfrm>
              <a:off x="1378080" y="5243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500"/>
                            </p:stCondLst>
                            <p:childTnLst>
                              <p:par>
                                <p:cTn id="2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0B85-F85E-4EE4-8CB2-06A83F07B70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Прямоугольник 3"/>
          <p:cNvSpPr/>
          <p:nvPr/>
        </p:nvSpPr>
        <p:spPr>
          <a:xfrm>
            <a:off x="380880" y="795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RA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Rapid Application Developm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быстрая разработка при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3"/>
          <p:cNvSpPr/>
          <p:nvPr/>
        </p:nvSpPr>
        <p:spPr>
          <a:xfrm>
            <a:off x="587520" y="2007000"/>
            <a:ext cx="716256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имальный код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бавляется автома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анов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ов интерфей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омощью мыши и настройка их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ботч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с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ботки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Прямоугольник 5"/>
          <p:cNvSpPr/>
          <p:nvPr/>
        </p:nvSpPr>
        <p:spPr>
          <a:xfrm>
            <a:off x="387360" y="1650960"/>
            <a:ext cx="34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апы разрабо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Скругленная прямоугольная выноска 6"/>
          <p:cNvSpPr/>
          <p:nvPr/>
        </p:nvSpPr>
        <p:spPr>
          <a:xfrm>
            <a:off x="4286160" y="1413000"/>
            <a:ext cx="3843360" cy="1680840"/>
          </a:xfrm>
          <a:prstGeom prst="wedgeRoundRectCallout">
            <a:avLst>
              <a:gd name="adj1" fmla="val -75004"/>
              <a:gd name="adj2" fmla="val 336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шаблон, по которому строится окно программы или ди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Скругленная прямоугольная выноска 7"/>
          <p:cNvSpPr/>
          <p:nvPr/>
        </p:nvSpPr>
        <p:spPr>
          <a:xfrm>
            <a:off x="2567160" y="5229360"/>
            <a:ext cx="3843000" cy="1286280"/>
          </a:xfrm>
          <a:prstGeom prst="wedgeRoundRectCallout">
            <a:avLst>
              <a:gd name="adj1" fmla="val -41805"/>
              <a:gd name="adj2" fmla="val -7526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ются при возникновении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3" dur="500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1" dur="500"/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6" dur="500"/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1" dur="500"/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1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Delph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ABE5-AA80-46AD-A851-54A55D65097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Прямоугольник 3"/>
          <p:cNvSpPr/>
          <p:nvPr/>
        </p:nvSpPr>
        <p:spPr>
          <a:xfrm>
            <a:off x="387360" y="800280"/>
            <a:ext cx="58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зык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ject Pasca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дне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lp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Прямоугольник 5"/>
          <p:cNvSpPr/>
          <p:nvPr/>
        </p:nvSpPr>
        <p:spPr>
          <a:xfrm>
            <a:off x="837360" y="1244520"/>
            <a:ext cx="71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5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r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barcadero Techn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4" descr=""/>
          <p:cNvPicPr/>
          <p:nvPr/>
        </p:nvPicPr>
        <p:blipFill>
          <a:blip r:embed="rId1"/>
          <a:stretch/>
        </p:blipFill>
        <p:spPr>
          <a:xfrm>
            <a:off x="1309680" y="1739880"/>
            <a:ext cx="652464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0" dur="indefinite" restart="never" nodeType="tmRoot">
          <p:childTnLst>
            <p:seq>
              <p:cTn id="2231" dur="indefinite" nodeType="mainSeq">
                <p:childTnLst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MS Visual St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0249-08C0-4C98-974C-143B9838A95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Прямоугольник 3"/>
          <p:cNvSpPr/>
          <p:nvPr/>
        </p:nvSpPr>
        <p:spPr>
          <a:xfrm>
            <a:off x="387360" y="800280"/>
            <a:ext cx="84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зыки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sual Basic, Visual C++, Visual C#, Visual F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Прямоугольник 5"/>
          <p:cNvSpPr/>
          <p:nvPr/>
        </p:nvSpPr>
        <p:spPr>
          <a:xfrm>
            <a:off x="790200" y="1244520"/>
            <a:ext cx="35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199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.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2" descr=""/>
          <p:cNvPicPr/>
          <p:nvPr/>
        </p:nvPicPr>
        <p:blipFill>
          <a:blip r:embed="rId1"/>
          <a:stretch/>
        </p:blipFill>
        <p:spPr>
          <a:xfrm>
            <a:off x="704880" y="1793880"/>
            <a:ext cx="7735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5" dur="indefinite" restart="never" nodeType="tmRoot">
          <p:childTnLst>
            <p:seq>
              <p:cTn id="2246" dur="indefinite" nodeType="mainSeq">
                <p:childTnLst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Laza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6603-9C32-4BA3-944F-5B0752AF29C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Прямоугольник 3"/>
          <p:cNvSpPr/>
          <p:nvPr/>
        </p:nvSpPr>
        <p:spPr>
          <a:xfrm>
            <a:off x="387360" y="800280"/>
            <a:ext cx="84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зыки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eePascal, 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4" descr=""/>
          <p:cNvPicPr/>
          <p:nvPr/>
        </p:nvPicPr>
        <p:blipFill>
          <a:blip r:embed="rId1"/>
          <a:stretch/>
        </p:blipFill>
        <p:spPr>
          <a:xfrm>
            <a:off x="1527120" y="1325520"/>
            <a:ext cx="6089760" cy="5075280"/>
          </a:xfrm>
          <a:prstGeom prst="rect">
            <a:avLst/>
          </a:prstGeom>
          <a:ln w="0">
            <a:noFill/>
          </a:ln>
        </p:spPr>
      </p:pic>
      <p:sp>
        <p:nvSpPr>
          <p:cNvPr id="1100" name="Скругленная прямоугольная выноска 9"/>
          <p:cNvSpPr/>
          <p:nvPr/>
        </p:nvSpPr>
        <p:spPr>
          <a:xfrm>
            <a:off x="4789440" y="1101600"/>
            <a:ext cx="3843360" cy="955800"/>
          </a:xfrm>
          <a:prstGeom prst="wedgeRoundRectCallout">
            <a:avLst>
              <a:gd name="adj1" fmla="val -53032"/>
              <a:gd name="adj2" fmla="val 121842"/>
              <a:gd name="adj3" fmla="val 16667"/>
            </a:avLst>
          </a:prstGeom>
          <a:solidFill>
            <a:srgbClr val="99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е П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lazarus.freepascal.or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9" dur="indefinite" restart="never" nodeType="tmRoot">
          <p:childTnLst>
            <p:seq>
              <p:cTn id="2260" dur="indefinite" nodeType="mainSeq">
                <p:childTnLst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5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Графический интерфейс: осно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8C20-B84D-4D76-BDEA-085D1D862ED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 чего нача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FB93-7E2C-4394-AA2C-8B55D4C2214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376200" y="833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но-ориентированный анализ (ОО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638280" y="1214280"/>
            <a:ext cx="689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их существенны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ть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ве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команды, которые они могут выполн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4"/>
          <p:cNvGrpSpPr/>
          <p:nvPr/>
        </p:nvGrpSpPr>
        <p:grpSpPr>
          <a:xfrm>
            <a:off x="5065560" y="2478240"/>
            <a:ext cx="3540240" cy="663480"/>
            <a:chOff x="5065560" y="2478240"/>
            <a:chExt cx="3540240" cy="663480"/>
          </a:xfrm>
        </p:grpSpPr>
        <p:sp>
          <p:nvSpPr>
            <p:cNvPr id="351" name="Text Box 32"/>
            <p:cNvSpPr/>
            <p:nvPr/>
          </p:nvSpPr>
          <p:spPr>
            <a:xfrm>
              <a:off x="5570280" y="2578320"/>
              <a:ext cx="3035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такое объек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33"/>
            <p:cNvSpPr/>
            <p:nvPr/>
          </p:nvSpPr>
          <p:spPr>
            <a:xfrm>
              <a:off x="5065560" y="2478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Прямоугольник 8"/>
          <p:cNvSpPr/>
          <p:nvPr/>
        </p:nvSpPr>
        <p:spPr>
          <a:xfrm>
            <a:off x="484200" y="3257640"/>
            <a:ext cx="82249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назвать то, что имеет чёткие границы и обладае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тоя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ед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393840" y="411156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ояние определяет повед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10"/>
          <p:cNvSpPr/>
          <p:nvPr/>
        </p:nvSpPr>
        <p:spPr>
          <a:xfrm>
            <a:off x="638280" y="4473720"/>
            <a:ext cx="68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чий человек не прыг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ряженное ружье не выстре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1"/>
          <p:cNvSpPr/>
          <p:nvPr/>
        </p:nvSpPr>
        <p:spPr>
          <a:xfrm>
            <a:off x="484200" y="5457960"/>
            <a:ext cx="82249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это множество объектов, имеющих общую структуру и общее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рафические библиотек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E224-95BE-4477-8B4C-939AA318D5B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Прямоугольник 5"/>
          <p:cNvSpPr/>
          <p:nvPr/>
        </p:nvSpPr>
        <p:spPr>
          <a:xfrm>
            <a:off x="406440" y="830160"/>
            <a:ext cx="8110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kint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(стандартная библиоте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Pyth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wxPyth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xpython.or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yGT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pygtk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yQ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http://www.riverbankcomputing.com/software/pyqt/int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Прямоугольник 6"/>
          <p:cNvSpPr/>
          <p:nvPr/>
        </p:nvSpPr>
        <p:spPr>
          <a:xfrm>
            <a:off x="500040" y="2801880"/>
            <a:ext cx="8426520" cy="9471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mpletk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ёртка» на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kint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http://kpolyakov.spb.ru/school/probook/python.ht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4" dur="indefinite" restart="never" nodeType="tmRoot">
          <p:childTnLst>
            <p:seq>
              <p:cTn id="2275" dur="indefinite" nodeType="mainSeq">
                <p:childTnLst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0" dur="50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5" dur="500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щие принцип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D6C5-1741-49BA-AB7C-1CB5FCAC09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Picture 2" descr=""/>
          <p:cNvPicPr/>
          <p:nvPr/>
        </p:nvPicPr>
        <p:blipFill>
          <a:blip r:embed="rId1"/>
          <a:stretch/>
        </p:blipFill>
        <p:spPr>
          <a:xfrm>
            <a:off x="2857680" y="1882800"/>
            <a:ext cx="3206520" cy="2636640"/>
          </a:xfrm>
          <a:prstGeom prst="rect">
            <a:avLst/>
          </a:prstGeom>
          <a:ln w="0">
            <a:noFill/>
          </a:ln>
        </p:spPr>
      </p:pic>
      <p:sp>
        <p:nvSpPr>
          <p:cNvPr id="1111" name="Скругленная прямоугольная выноска 4"/>
          <p:cNvSpPr/>
          <p:nvPr/>
        </p:nvSpPr>
        <p:spPr>
          <a:xfrm>
            <a:off x="5291280" y="1046160"/>
            <a:ext cx="3012840" cy="835200"/>
          </a:xfrm>
          <a:prstGeom prst="wedgeRoundRectCallout">
            <a:avLst>
              <a:gd name="adj1" fmla="val -66870"/>
              <a:gd name="adj2" fmla="val 60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кно верхнего уров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Скругленная прямоугольная выноска 5"/>
          <p:cNvSpPr/>
          <p:nvPr/>
        </p:nvSpPr>
        <p:spPr>
          <a:xfrm>
            <a:off x="730080" y="1014480"/>
            <a:ext cx="3013200" cy="834840"/>
          </a:xfrm>
          <a:prstGeom prst="wedgeRoundRectCallout">
            <a:avLst>
              <a:gd name="adj1" fmla="val 33351"/>
              <a:gd name="adj2" fmla="val 1066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мпон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дж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элем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Группа 11"/>
          <p:cNvGrpSpPr/>
          <p:nvPr/>
        </p:nvGrpSpPr>
        <p:grpSpPr>
          <a:xfrm>
            <a:off x="2441520" y="4734000"/>
            <a:ext cx="4260960" cy="1465200"/>
            <a:chOff x="2441520" y="4734000"/>
            <a:chExt cx="4260960" cy="1465200"/>
          </a:xfrm>
        </p:grpSpPr>
        <p:sp>
          <p:nvSpPr>
            <p:cNvPr id="1114" name="Rectangle 1"/>
            <p:cNvSpPr/>
            <p:nvPr/>
          </p:nvSpPr>
          <p:spPr>
            <a:xfrm>
              <a:off x="2441520" y="4734000"/>
              <a:ext cx="4260960" cy="1465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работчики событ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Прямоугольник 7"/>
            <p:cNvSpPr/>
            <p:nvPr/>
          </p:nvSpPr>
          <p:spPr>
            <a:xfrm>
              <a:off x="2705040" y="5294160"/>
              <a:ext cx="957240" cy="7030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Прямоугольник 8"/>
            <p:cNvSpPr/>
            <p:nvPr/>
          </p:nvSpPr>
          <p:spPr>
            <a:xfrm>
              <a:off x="4100400" y="5294160"/>
              <a:ext cx="957240" cy="7030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Прямоугольник 9"/>
            <p:cNvSpPr/>
            <p:nvPr/>
          </p:nvSpPr>
          <p:spPr>
            <a:xfrm>
              <a:off x="5497560" y="5294160"/>
              <a:ext cx="957240" cy="7030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Полилиния 12"/>
          <p:cNvSpPr/>
          <p:nvPr/>
        </p:nvSpPr>
        <p:spPr>
          <a:xfrm>
            <a:off x="2185920" y="2478240"/>
            <a:ext cx="876240" cy="2944800"/>
          </a:xfrm>
          <a:custGeom>
            <a:avLst/>
            <a:gdLst>
              <a:gd name="textAreaLeft" fmla="*/ 0 w 876240"/>
              <a:gd name="textAreaRight" fmla="*/ 876600 w 876240"/>
              <a:gd name="textAreaTop" fmla="*/ 0 h 2944800"/>
              <a:gd name="textAreaBottom" fmla="*/ 2945160 h 2944800"/>
            </a:gdLst>
            <a:ahLst/>
            <a:rect l="textAreaLeft" t="textAreaTop" r="textAreaRight" b="textAreaBottom"/>
            <a:pathLst>
              <a:path w="875414" h="2945219">
                <a:moveTo>
                  <a:pt x="875414" y="0"/>
                </a:moveTo>
                <a:cubicBezTo>
                  <a:pt x="0" y="545805"/>
                  <a:pt x="740735" y="1963479"/>
                  <a:pt x="673395" y="294521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Полилиния 13"/>
          <p:cNvSpPr/>
          <p:nvPr/>
        </p:nvSpPr>
        <p:spPr>
          <a:xfrm>
            <a:off x="4703760" y="2530440"/>
            <a:ext cx="1150920" cy="28926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892600"/>
              <a:gd name="textAreaBottom" fmla="*/ 2892960 h 2892600"/>
            </a:gdLst>
            <a:ahLst/>
            <a:rect l="textAreaLeft" t="textAreaTop" r="textAreaRight" b="textAreaBottom"/>
            <a:pathLst>
              <a:path w="1151860" h="2945219">
                <a:moveTo>
                  <a:pt x="368595" y="0"/>
                </a:moveTo>
                <a:cubicBezTo>
                  <a:pt x="1151860" y="1258186"/>
                  <a:pt x="0" y="1623238"/>
                  <a:pt x="166576" y="294521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Полилиния 14"/>
          <p:cNvSpPr/>
          <p:nvPr/>
        </p:nvSpPr>
        <p:spPr>
          <a:xfrm>
            <a:off x="6018120" y="2987640"/>
            <a:ext cx="782640" cy="2435400"/>
          </a:xfrm>
          <a:custGeom>
            <a:avLst/>
            <a:gdLst>
              <a:gd name="textAreaLeft" fmla="*/ 0 w 782640"/>
              <a:gd name="textAreaRight" fmla="*/ 783000 w 78264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w="783265" h="2434856">
                <a:moveTo>
                  <a:pt x="0" y="0"/>
                </a:moveTo>
                <a:cubicBezTo>
                  <a:pt x="783265" y="1258186"/>
                  <a:pt x="120503" y="1112875"/>
                  <a:pt x="287079" y="243485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Скругленная прямоугольная выноска 15"/>
          <p:cNvSpPr/>
          <p:nvPr/>
        </p:nvSpPr>
        <p:spPr>
          <a:xfrm>
            <a:off x="379440" y="2673360"/>
            <a:ext cx="1863720" cy="750960"/>
          </a:xfrm>
          <a:prstGeom prst="wedgeRoundRectCallout">
            <a:avLst>
              <a:gd name="adj1" fmla="val 72842"/>
              <a:gd name="adj2" fmla="val 678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чок по кноп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Скругленная прямоугольная выноска 16"/>
          <p:cNvSpPr/>
          <p:nvPr/>
        </p:nvSpPr>
        <p:spPr>
          <a:xfrm>
            <a:off x="6248520" y="2066760"/>
            <a:ext cx="2523960" cy="750960"/>
          </a:xfrm>
          <a:prstGeom prst="wedgeRoundRectCallout">
            <a:avLst>
              <a:gd name="adj1" fmla="val -86662"/>
              <a:gd name="adj2" fmla="val 7212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чок по выключ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Скругленная прямоугольная выноска 17"/>
          <p:cNvSpPr/>
          <p:nvPr/>
        </p:nvSpPr>
        <p:spPr>
          <a:xfrm>
            <a:off x="6815160" y="3481560"/>
            <a:ext cx="2030400" cy="750600"/>
          </a:xfrm>
          <a:prstGeom prst="wedgeRoundRectCallout">
            <a:avLst>
              <a:gd name="adj1" fmla="val -69388"/>
              <a:gd name="adj2" fmla="val 4944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раз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3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ейш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8E66-675A-4A11-9EA8-EFD8308A67A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"/>
          <p:cNvSpPr/>
          <p:nvPr/>
        </p:nvSpPr>
        <p:spPr>
          <a:xfrm>
            <a:off x="654120" y="2601360"/>
            <a:ext cx="6649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mpletk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ервая форма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4" descr=""/>
          <p:cNvPicPr/>
          <p:nvPr/>
        </p:nvPicPr>
        <p:blipFill>
          <a:blip r:embed="rId1"/>
          <a:stretch/>
        </p:blipFill>
        <p:spPr>
          <a:xfrm>
            <a:off x="614520" y="990720"/>
            <a:ext cx="3201840" cy="1338120"/>
          </a:xfrm>
          <a:prstGeom prst="rect">
            <a:avLst/>
          </a:prstGeom>
          <a:ln w="0">
            <a:noFill/>
          </a:ln>
        </p:spPr>
      </p:pic>
      <p:sp>
        <p:nvSpPr>
          <p:cNvPr id="1128" name="Скругленная прямоугольная выноска 15"/>
          <p:cNvSpPr/>
          <p:nvPr/>
        </p:nvSpPr>
        <p:spPr>
          <a:xfrm>
            <a:off x="4316400" y="1382760"/>
            <a:ext cx="2179800" cy="1030320"/>
          </a:xfrm>
          <a:prstGeom prst="wedgeRoundRectCallout">
            <a:avLst>
              <a:gd name="adj1" fmla="val -41453"/>
              <a:gd name="adj2" fmla="val 76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орт всех функций из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imple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Скругленная прямоугольная выноска 16"/>
          <p:cNvSpPr/>
          <p:nvPr/>
        </p:nvSpPr>
        <p:spPr>
          <a:xfrm>
            <a:off x="2967120" y="3583080"/>
            <a:ext cx="2179440" cy="1031760"/>
          </a:xfrm>
          <a:prstGeom prst="wedgeRoundRectCallout">
            <a:avLst>
              <a:gd name="adj1" fmla="val -45842"/>
              <a:gd name="adj2" fmla="val -72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приложение (програм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Скругленная прямоугольная выноска 17"/>
          <p:cNvSpPr/>
          <p:nvPr/>
        </p:nvSpPr>
        <p:spPr>
          <a:xfrm>
            <a:off x="5964120" y="3583080"/>
            <a:ext cx="1744920" cy="723960"/>
          </a:xfrm>
          <a:prstGeom prst="wedgeRoundRectCallout">
            <a:avLst>
              <a:gd name="adj1" fmla="val -45231"/>
              <a:gd name="adj2" fmla="val -93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ловок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Скругленная прямоугольная выноска 18"/>
          <p:cNvSpPr/>
          <p:nvPr/>
        </p:nvSpPr>
        <p:spPr>
          <a:xfrm>
            <a:off x="563400" y="4071960"/>
            <a:ext cx="2159280" cy="798480"/>
          </a:xfrm>
          <a:prstGeom prst="wedgeRoundRectCallout">
            <a:avLst>
              <a:gd name="adj1" fmla="val 11328"/>
              <a:gd name="adj2" fmla="val -980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ск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8" dur="indefinite" restart="never" nodeType="tmRoot">
          <p:childTnLst>
            <p:seq>
              <p:cTn id="2339" dur="indefinite" nodeType="mainSeq">
                <p:childTnLst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7" dur="500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5" dur="500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3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8" dur="500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фор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90C9-8609-4097-9218-C0761941BC5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Прямоугольник 8"/>
          <p:cNvSpPr/>
          <p:nvPr/>
        </p:nvSpPr>
        <p:spPr>
          <a:xfrm>
            <a:off x="425520" y="90504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ервая форма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Прямоугольник 10"/>
          <p:cNvSpPr/>
          <p:nvPr/>
        </p:nvSpPr>
        <p:spPr>
          <a:xfrm>
            <a:off x="425520" y="204300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Скругленная прямоугольная выноска 11"/>
          <p:cNvSpPr/>
          <p:nvPr/>
        </p:nvSpPr>
        <p:spPr>
          <a:xfrm>
            <a:off x="3232080" y="1477800"/>
            <a:ext cx="542880" cy="393840"/>
          </a:xfrm>
          <a:prstGeom prst="wedgeRoundRectCallout">
            <a:avLst>
              <a:gd name="adj1" fmla="val 5750"/>
              <a:gd name="adj2" fmla="val 106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Скругленная прямоугольная выноска 12"/>
          <p:cNvSpPr/>
          <p:nvPr/>
        </p:nvSpPr>
        <p:spPr>
          <a:xfrm>
            <a:off x="4157640" y="1477800"/>
            <a:ext cx="541440" cy="393840"/>
          </a:xfrm>
          <a:prstGeom prst="wedgeRoundRectCallout">
            <a:avLst>
              <a:gd name="adj1" fmla="val 5750"/>
              <a:gd name="adj2" fmla="val 106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Скругленная прямоугольная выноска 13"/>
          <p:cNvSpPr/>
          <p:nvPr/>
        </p:nvSpPr>
        <p:spPr>
          <a:xfrm>
            <a:off x="6070680" y="1839960"/>
            <a:ext cx="2222280" cy="722160"/>
          </a:xfrm>
          <a:prstGeom prst="wedgeRoundRectCallout">
            <a:avLst>
              <a:gd name="adj1" fmla="val -71546"/>
              <a:gd name="adj2" fmla="val 522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ые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Прямоугольник 15"/>
          <p:cNvSpPr/>
          <p:nvPr/>
        </p:nvSpPr>
        <p:spPr>
          <a:xfrm>
            <a:off x="425520" y="320184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Скругленная прямоугольная выноска 16"/>
          <p:cNvSpPr/>
          <p:nvPr/>
        </p:nvSpPr>
        <p:spPr>
          <a:xfrm>
            <a:off x="1467000" y="2637000"/>
            <a:ext cx="1638000" cy="393480"/>
          </a:xfrm>
          <a:prstGeom prst="wedgeRoundRectCallout">
            <a:avLst>
              <a:gd name="adj1" fmla="val 29773"/>
              <a:gd name="adj2" fmla="val 125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Скругленная прямоугольная выноска 17"/>
          <p:cNvSpPr/>
          <p:nvPr/>
        </p:nvSpPr>
        <p:spPr>
          <a:xfrm>
            <a:off x="3189240" y="2637000"/>
            <a:ext cx="1638360" cy="393480"/>
          </a:xfrm>
          <a:prstGeom prst="wedgeRoundRectCallout">
            <a:avLst>
              <a:gd name="adj1" fmla="val -21523"/>
              <a:gd name="adj2" fmla="val 11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Прямоугольник 18"/>
          <p:cNvSpPr/>
          <p:nvPr/>
        </p:nvSpPr>
        <p:spPr>
          <a:xfrm>
            <a:off x="425520" y="438156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izabl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Tru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Fa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Скругленная прямоугольная выноска 19"/>
          <p:cNvSpPr/>
          <p:nvPr/>
        </p:nvSpPr>
        <p:spPr>
          <a:xfrm>
            <a:off x="2338560" y="3816360"/>
            <a:ext cx="1925640" cy="393840"/>
          </a:xfrm>
          <a:prstGeom prst="wedgeRoundRectCallout">
            <a:avLst>
              <a:gd name="adj1" fmla="val 29773"/>
              <a:gd name="adj2" fmla="val 125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шир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Скругленная прямоугольная выноска 20"/>
          <p:cNvSpPr/>
          <p:nvPr/>
        </p:nvSpPr>
        <p:spPr>
          <a:xfrm>
            <a:off x="4390920" y="3816360"/>
            <a:ext cx="2052720" cy="393840"/>
          </a:xfrm>
          <a:prstGeom prst="wedgeRoundRectCallout">
            <a:avLst>
              <a:gd name="adj1" fmla="val -21523"/>
              <a:gd name="adj2" fmla="val 11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выс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Скругленная прямоугольная выноска 21"/>
          <p:cNvSpPr/>
          <p:nvPr/>
        </p:nvSpPr>
        <p:spPr>
          <a:xfrm>
            <a:off x="6751800" y="3807000"/>
            <a:ext cx="1946160" cy="1083960"/>
          </a:xfrm>
          <a:prstGeom prst="wedgeRoundRectCallout">
            <a:avLst>
              <a:gd name="adj1" fmla="val -82476"/>
              <a:gd name="adj2" fmla="val 20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менять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Прямоугольник 22"/>
          <p:cNvSpPr/>
          <p:nvPr/>
        </p:nvSpPr>
        <p:spPr>
          <a:xfrm>
            <a:off x="425520" y="550872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siz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Скругленная прямоугольная выноска 23"/>
          <p:cNvSpPr/>
          <p:nvPr/>
        </p:nvSpPr>
        <p:spPr>
          <a:xfrm>
            <a:off x="1690560" y="4943520"/>
            <a:ext cx="1924200" cy="393480"/>
          </a:xfrm>
          <a:prstGeom prst="wedgeRoundRectCallout">
            <a:avLst>
              <a:gd name="adj1" fmla="val 29773"/>
              <a:gd name="adj2" fmla="val 125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шир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Скругленная прямоугольная выноска 24"/>
          <p:cNvSpPr/>
          <p:nvPr/>
        </p:nvSpPr>
        <p:spPr>
          <a:xfrm>
            <a:off x="3753000" y="4943520"/>
            <a:ext cx="2052360" cy="393480"/>
          </a:xfrm>
          <a:prstGeom prst="wedgeRoundRectCallout">
            <a:avLst>
              <a:gd name="adj1" fmla="val -21523"/>
              <a:gd name="adj2" fmla="val 11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выс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Скругленная прямоугольная выноска 25"/>
          <p:cNvSpPr/>
          <p:nvPr/>
        </p:nvSpPr>
        <p:spPr>
          <a:xfrm>
            <a:off x="6326280" y="5167440"/>
            <a:ext cx="2349360" cy="776160"/>
          </a:xfrm>
          <a:prstGeom prst="wedgeRoundRectCallout">
            <a:avLst>
              <a:gd name="adj1" fmla="val -82476"/>
              <a:gd name="adj2" fmla="val 20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ые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Прямоугольник 26"/>
          <p:cNvSpPr/>
          <p:nvPr/>
        </p:nvSpPr>
        <p:spPr>
          <a:xfrm>
            <a:off x="425520" y="600876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siz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9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1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Скругленный прямоугольник 12"/>
          <p:cNvSpPr/>
          <p:nvPr/>
        </p:nvSpPr>
        <p:spPr>
          <a:xfrm>
            <a:off x="6006960" y="893880"/>
            <a:ext cx="2211480" cy="39204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чик событ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2406-B5A6-4934-8779-FB2EE46292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15" descr=""/>
          <p:cNvPicPr/>
          <p:nvPr/>
        </p:nvPicPr>
        <p:blipFill>
          <a:blip r:embed="rId1"/>
          <a:stretch/>
        </p:blipFill>
        <p:spPr>
          <a:xfrm>
            <a:off x="488880" y="1285920"/>
            <a:ext cx="3678480" cy="1365120"/>
          </a:xfrm>
          <a:prstGeom prst="rect">
            <a:avLst/>
          </a:prstGeom>
          <a:ln w="0">
            <a:noFill/>
          </a:ln>
        </p:spPr>
      </p:pic>
      <p:sp>
        <p:nvSpPr>
          <p:cNvPr id="1155" name="Прямоугольник 10"/>
          <p:cNvSpPr/>
          <p:nvPr/>
        </p:nvSpPr>
        <p:spPr>
          <a:xfrm>
            <a:off x="390600" y="83016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росить подтверждение при закрытии о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Скругленная прямоугольная выноска 13"/>
          <p:cNvSpPr/>
          <p:nvPr/>
        </p:nvSpPr>
        <p:spPr>
          <a:xfrm>
            <a:off x="6656400" y="371520"/>
            <a:ext cx="1593720" cy="404640"/>
          </a:xfrm>
          <a:prstGeom prst="wedgeRoundRectCallout">
            <a:avLst>
              <a:gd name="adj1" fmla="val -34212"/>
              <a:gd name="adj2" fmla="val 815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ы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Group 34"/>
          <p:cNvGrpSpPr/>
          <p:nvPr/>
        </p:nvGrpSpPr>
        <p:grpSpPr>
          <a:xfrm>
            <a:off x="4460760" y="1574640"/>
            <a:ext cx="4173480" cy="925560"/>
            <a:chOff x="4460760" y="1574640"/>
            <a:chExt cx="4173480" cy="925560"/>
          </a:xfrm>
        </p:grpSpPr>
        <p:sp>
          <p:nvSpPr>
            <p:cNvPr id="1158" name="Text Box 32"/>
            <p:cNvSpPr/>
            <p:nvPr/>
          </p:nvSpPr>
          <p:spPr>
            <a:xfrm>
              <a:off x="4965480" y="1674720"/>
              <a:ext cx="36687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работчик события – это функция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33"/>
            <p:cNvSpPr/>
            <p:nvPr/>
          </p:nvSpPr>
          <p:spPr>
            <a:xfrm>
              <a:off x="4460760" y="1574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0" name="Прямоугольник 17"/>
          <p:cNvSpPr/>
          <p:nvPr/>
        </p:nvSpPr>
        <p:spPr>
          <a:xfrm>
            <a:off x="425520" y="2765520"/>
            <a:ext cx="8516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kinter.messagebox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k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k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an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Прямоугольник 18"/>
          <p:cNvSpPr/>
          <p:nvPr/>
        </p:nvSpPr>
        <p:spPr>
          <a:xfrm>
            <a:off x="425520" y="3360600"/>
            <a:ext cx="8516880" cy="1634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kOnExit(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k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k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ancel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одтверждение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ы действительно хотите выйти из программы?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destroy(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Скругленная прямоугольная выноска 19"/>
          <p:cNvSpPr/>
          <p:nvPr/>
        </p:nvSpPr>
        <p:spPr>
          <a:xfrm>
            <a:off x="4019400" y="4635360"/>
            <a:ext cx="3157560" cy="414360"/>
          </a:xfrm>
          <a:prstGeom prst="wedgeRoundRectCallout">
            <a:avLst>
              <a:gd name="adj1" fmla="val -67421"/>
              <a:gd name="adj2" fmla="val -109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ить из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Прямоугольник 20"/>
          <p:cNvSpPr/>
          <p:nvPr/>
        </p:nvSpPr>
        <p:spPr>
          <a:xfrm>
            <a:off x="425520" y="5456160"/>
            <a:ext cx="5710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loseQuer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kOn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Прямоугольник 5"/>
          <p:cNvSpPr/>
          <p:nvPr/>
        </p:nvSpPr>
        <p:spPr>
          <a:xfrm>
            <a:off x="387360" y="50306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язка обработч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2" dur="indefinite" restart="never" nodeType="tmRoot">
          <p:childTnLst>
            <p:seq>
              <p:cTn id="2433" dur="indefinite" nodeType="mainSeq">
                <p:childTnLst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1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спользование компон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5863-E6D6-4420-ABAD-0D07DFA5021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9" descr=""/>
          <p:cNvPicPr/>
          <p:nvPr/>
        </p:nvPicPr>
        <p:blipFill>
          <a:blip r:embed="rId1"/>
          <a:stretch/>
        </p:blipFill>
        <p:spPr>
          <a:xfrm>
            <a:off x="1163520" y="1914480"/>
            <a:ext cx="32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2" descr=""/>
          <p:cNvPicPr/>
          <p:nvPr/>
        </p:nvPicPr>
        <p:blipFill>
          <a:blip r:embed="rId2"/>
          <a:stretch/>
        </p:blipFill>
        <p:spPr>
          <a:xfrm>
            <a:off x="4749840" y="1914480"/>
            <a:ext cx="3240000" cy="266400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мотр рисун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8EB6-68A5-4D7E-B5BD-A5C95B1066D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Скругленная прямоугольная выноска 12"/>
          <p:cNvSpPr/>
          <p:nvPr/>
        </p:nvSpPr>
        <p:spPr>
          <a:xfrm>
            <a:off x="3639960" y="3110040"/>
            <a:ext cx="1657440" cy="732600"/>
          </a:xfrm>
          <a:prstGeom prst="wedgeRoundRectCallout">
            <a:avLst>
              <a:gd name="adj1" fmla="val -25921"/>
              <a:gd name="adj2" fmla="val -13492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Скругленная прямоугольная выноска 13"/>
          <p:cNvSpPr/>
          <p:nvPr/>
        </p:nvSpPr>
        <p:spPr>
          <a:xfrm>
            <a:off x="2735280" y="898560"/>
            <a:ext cx="2314440" cy="732600"/>
          </a:xfrm>
          <a:prstGeom prst="wedgeRoundRectCallout">
            <a:avLst>
              <a:gd name="adj1" fmla="val -33861"/>
              <a:gd name="adj2" fmla="val 1450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Check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Скругленная прямоугольная выноска 14"/>
          <p:cNvSpPr/>
          <p:nvPr/>
        </p:nvSpPr>
        <p:spPr>
          <a:xfrm>
            <a:off x="712800" y="4795920"/>
            <a:ext cx="2274840" cy="732600"/>
          </a:xfrm>
          <a:prstGeom prst="wedgeRoundRectCallout">
            <a:avLst>
              <a:gd name="adj1" fmla="val 20930"/>
              <a:gd name="adj2" fmla="val -17775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Скругленная прямоугольная выноска 15"/>
          <p:cNvSpPr/>
          <p:nvPr/>
        </p:nvSpPr>
        <p:spPr>
          <a:xfrm>
            <a:off x="250920" y="898560"/>
            <a:ext cx="1724040" cy="732600"/>
          </a:xfrm>
          <a:prstGeom prst="wedgeRoundRectCallout">
            <a:avLst>
              <a:gd name="adj1" fmla="val 26199"/>
              <a:gd name="adj2" fmla="val 153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8" dur="indefinite" restart="never" nodeType="tmRoot">
          <p:childTnLst>
            <p:seq>
              <p:cTn id="2469" dur="indefinite" nodeType="mainSeq">
                <p:childTnLst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9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4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стройка фор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BF2E-21B3-4255-8005-83C06489B9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Прямоугольник 7"/>
          <p:cNvSpPr/>
          <p:nvPr/>
        </p:nvSpPr>
        <p:spPr>
          <a:xfrm>
            <a:off x="351000" y="915840"/>
            <a:ext cx="85168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mpletk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росмотр рисунков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юда будем добавлять компоненты!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0" dur="indefinite" restart="never" nodeType="tmRoot">
          <p:childTnLst>
            <p:seq>
              <p:cTn id="2491" dur="indefinite" nodeType="mainSeq">
                <p:childTnLst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6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9" dur="500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4" dur="500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1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4" dur="500"/>
                                        <p:tgtEl>
                                          <p:spTgt spid="1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рхняя пан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FC8C-BC17-46C0-9A13-AB11BFC5B0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1" name="Picture 9" descr=""/>
          <p:cNvPicPr/>
          <p:nvPr/>
        </p:nvPicPr>
        <p:blipFill>
          <a:blip r:embed="rId1"/>
          <a:stretch/>
        </p:blipFill>
        <p:spPr>
          <a:xfrm>
            <a:off x="2489040" y="912960"/>
            <a:ext cx="4165920" cy="2043000"/>
          </a:xfrm>
          <a:prstGeom prst="rect">
            <a:avLst/>
          </a:prstGeom>
          <a:ln w="0">
            <a:noFill/>
          </a:ln>
        </p:spPr>
      </p:pic>
      <p:sp>
        <p:nvSpPr>
          <p:cNvPr id="1182" name="Прямоугольник 9"/>
          <p:cNvSpPr/>
          <p:nvPr/>
        </p:nvSpPr>
        <p:spPr>
          <a:xfrm>
            <a:off x="425520" y="3138480"/>
            <a:ext cx="80485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Pan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lie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aise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Прямоугольник 10"/>
          <p:cNvSpPr/>
          <p:nvPr/>
        </p:nvSpPr>
        <p:spPr>
          <a:xfrm>
            <a:off x="425520" y="4838760"/>
            <a:ext cx="8048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top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Скругленная прямоугольная выноска 11"/>
          <p:cNvSpPr/>
          <p:nvPr/>
        </p:nvSpPr>
        <p:spPr>
          <a:xfrm>
            <a:off x="6521400" y="1322280"/>
            <a:ext cx="1657440" cy="732600"/>
          </a:xfrm>
          <a:prstGeom prst="wedgeRoundRectCallout">
            <a:avLst>
              <a:gd name="adj1" fmla="val -90041"/>
              <a:gd name="adj2" fmla="val -20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Скругленная прямоугольная выноска 12"/>
          <p:cNvSpPr/>
          <p:nvPr/>
        </p:nvSpPr>
        <p:spPr>
          <a:xfrm>
            <a:off x="3809880" y="2354400"/>
            <a:ext cx="2357640" cy="732600"/>
          </a:xfrm>
          <a:prstGeom prst="wedgeRoundRectCallout">
            <a:avLst>
              <a:gd name="adj1" fmla="val -46763"/>
              <a:gd name="adj2" fmla="val 760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ьский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Скругленная прямоугольная выноска 13"/>
          <p:cNvSpPr/>
          <p:nvPr/>
        </p:nvSpPr>
        <p:spPr>
          <a:xfrm>
            <a:off x="6469200" y="2843280"/>
            <a:ext cx="2355840" cy="732600"/>
          </a:xfrm>
          <a:prstGeom prst="wedgeRoundRectCallout">
            <a:avLst>
              <a:gd name="adj1" fmla="val -72000"/>
              <a:gd name="adj2" fmla="val 5721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ьеф - приподня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Скругленная прямоугольная выноска 14"/>
          <p:cNvSpPr/>
          <p:nvPr/>
        </p:nvSpPr>
        <p:spPr>
          <a:xfrm>
            <a:off x="5765760" y="4013280"/>
            <a:ext cx="1316160" cy="416520"/>
          </a:xfrm>
          <a:prstGeom prst="wedgeRoundRectCallout">
            <a:avLst>
              <a:gd name="adj1" fmla="val -94652"/>
              <a:gd name="adj2" fmla="val -3731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Скругленная прямоугольная выноска 15"/>
          <p:cNvSpPr/>
          <p:nvPr/>
        </p:nvSpPr>
        <p:spPr>
          <a:xfrm>
            <a:off x="833400" y="3780000"/>
            <a:ext cx="1909800" cy="732600"/>
          </a:xfrm>
          <a:prstGeom prst="wedgeRoundRectCallout">
            <a:avLst>
              <a:gd name="adj1" fmla="val 76212"/>
              <a:gd name="adj2" fmla="val 33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рам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Скругленная прямоугольная выноска 16"/>
          <p:cNvSpPr/>
          <p:nvPr/>
        </p:nvSpPr>
        <p:spPr>
          <a:xfrm>
            <a:off x="4672080" y="4979880"/>
            <a:ext cx="1887480" cy="1047960"/>
          </a:xfrm>
          <a:prstGeom prst="wedgeRoundRectCallout">
            <a:avLst>
              <a:gd name="adj1" fmla="val -94638"/>
              <a:gd name="adj2" fmla="val -3726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жать к верхней гра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Скругленная прямоугольная выноска 17"/>
          <p:cNvSpPr/>
          <p:nvPr/>
        </p:nvSpPr>
        <p:spPr>
          <a:xfrm>
            <a:off x="992160" y="5640480"/>
            <a:ext cx="2400480" cy="732600"/>
          </a:xfrm>
          <a:prstGeom prst="wedgeRoundRectCallout">
            <a:avLst>
              <a:gd name="adj1" fmla="val -8254"/>
              <a:gd name="adj2" fmla="val -115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вн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5" dur="indefinite" restart="never" nodeType="tmRoot">
          <p:childTnLst>
            <p:seq>
              <p:cTn id="2526" dur="indefinite" nodeType="mainSeq">
                <p:childTnLst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1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6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2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Picture 12" descr=""/>
          <p:cNvPicPr/>
          <p:nvPr/>
        </p:nvPicPr>
        <p:blipFill>
          <a:blip r:embed="rId1"/>
          <a:stretch/>
        </p:blipFill>
        <p:spPr>
          <a:xfrm>
            <a:off x="2946240" y="890640"/>
            <a:ext cx="5027760" cy="1958760"/>
          </a:xfrm>
          <a:prstGeom prst="rect">
            <a:avLst/>
          </a:prstGeom>
          <a:ln w="0">
            <a:noFill/>
          </a:ln>
        </p:spPr>
      </p:pic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нопка и выключат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53F1-A957-4F71-A464-1108B086866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Скругленная прямоугольная выноска 5"/>
          <p:cNvSpPr/>
          <p:nvPr/>
        </p:nvSpPr>
        <p:spPr>
          <a:xfrm>
            <a:off x="1049400" y="1069920"/>
            <a:ext cx="1657440" cy="732600"/>
          </a:xfrm>
          <a:prstGeom prst="wedgeRoundRectCallout">
            <a:avLst>
              <a:gd name="adj1" fmla="val 80486"/>
              <a:gd name="adj2" fmla="val 2538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Скругленная прямоугольная выноска 6"/>
          <p:cNvSpPr/>
          <p:nvPr/>
        </p:nvSpPr>
        <p:spPr>
          <a:xfrm>
            <a:off x="6083280" y="1762200"/>
            <a:ext cx="2305080" cy="732600"/>
          </a:xfrm>
          <a:prstGeom prst="wedgeRoundRectCallout">
            <a:avLst>
              <a:gd name="adj1" fmla="val -78009"/>
              <a:gd name="adj2" fmla="val -6669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Check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Прямоугольник 12"/>
          <p:cNvSpPr/>
          <p:nvPr/>
        </p:nvSpPr>
        <p:spPr>
          <a:xfrm>
            <a:off x="425520" y="3340080"/>
            <a:ext cx="8048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Bt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Butt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panel, 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крыть файл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Btn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Скругленная прямоугольная выноска 13"/>
          <p:cNvSpPr/>
          <p:nvPr/>
        </p:nvSpPr>
        <p:spPr>
          <a:xfrm>
            <a:off x="2949480" y="2408400"/>
            <a:ext cx="2355840" cy="732600"/>
          </a:xfrm>
          <a:prstGeom prst="wedgeRoundRectCallout">
            <a:avLst>
              <a:gd name="adj1" fmla="val 4222"/>
              <a:gd name="adj2" fmla="val 920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одитель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Скругленная прямоугольная выноска 16"/>
          <p:cNvSpPr/>
          <p:nvPr/>
        </p:nvSpPr>
        <p:spPr>
          <a:xfrm>
            <a:off x="5776920" y="2811600"/>
            <a:ext cx="1549440" cy="416520"/>
          </a:xfrm>
          <a:prstGeom prst="wedgeRoundRectCallout">
            <a:avLst>
              <a:gd name="adj1" fmla="val 4212"/>
              <a:gd name="adj2" fmla="val 917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Скругленная прямоугольная выноска 17"/>
          <p:cNvSpPr/>
          <p:nvPr/>
        </p:nvSpPr>
        <p:spPr>
          <a:xfrm>
            <a:off x="5532480" y="4268880"/>
            <a:ext cx="2251080" cy="416520"/>
          </a:xfrm>
          <a:prstGeom prst="wedgeRoundRectCallout">
            <a:avLst>
              <a:gd name="adj1" fmla="val -89138"/>
              <a:gd name="adj2" fmla="val -28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Прямоугольник 18"/>
          <p:cNvSpPr/>
          <p:nvPr/>
        </p:nvSpPr>
        <p:spPr>
          <a:xfrm>
            <a:off x="425520" y="4795920"/>
            <a:ext cx="8048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C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heckBo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pan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 центре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Cb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3" dur="indefinite" restart="never" nodeType="tmRoot">
          <p:childTnLst>
            <p:seq>
              <p:cTn id="2564" dur="indefinite" nodeType="mainSeq">
                <p:childTnLst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дороги с автомобил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8B03-A7AD-402D-998F-451F3EA3DFC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3"/>
          <p:cNvSpPr/>
          <p:nvPr/>
        </p:nvSpPr>
        <p:spPr>
          <a:xfrm>
            <a:off x="376200" y="806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 «Дорог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1"/>
          <p:cNvGrpSpPr/>
          <p:nvPr/>
        </p:nvGrpSpPr>
        <p:grpSpPr>
          <a:xfrm>
            <a:off x="733320" y="1295280"/>
            <a:ext cx="8129520" cy="1865520"/>
            <a:chOff x="733320" y="1295280"/>
            <a:chExt cx="8129520" cy="1865520"/>
          </a:xfrm>
        </p:grpSpPr>
        <p:sp>
          <p:nvSpPr>
            <p:cNvPr id="362" name="AutoShape 16"/>
            <p:cNvSpPr/>
            <p:nvPr/>
          </p:nvSpPr>
          <p:spPr>
            <a:xfrm>
              <a:off x="733320" y="1295280"/>
              <a:ext cx="6798240" cy="16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746280" y="1388880"/>
              <a:ext cx="5535000" cy="107316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4"/>
            <p:cNvSpPr/>
            <p:nvPr/>
          </p:nvSpPr>
          <p:spPr>
            <a:xfrm>
              <a:off x="746280" y="1745640"/>
              <a:ext cx="553608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3"/>
            <p:cNvSpPr/>
            <p:nvPr/>
          </p:nvSpPr>
          <p:spPr>
            <a:xfrm>
              <a:off x="746280" y="2102400"/>
              <a:ext cx="553608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2"/>
            <p:cNvSpPr/>
            <p:nvPr/>
          </p:nvSpPr>
          <p:spPr>
            <a:xfrm>
              <a:off x="746280" y="1388880"/>
              <a:ext cx="553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1"/>
            <p:cNvSpPr/>
            <p:nvPr/>
          </p:nvSpPr>
          <p:spPr>
            <a:xfrm>
              <a:off x="746280" y="2459160"/>
              <a:ext cx="55360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0"/>
            <p:cNvSpPr/>
            <p:nvPr/>
          </p:nvSpPr>
          <p:spPr>
            <a:xfrm flipV="1">
              <a:off x="746280" y="2445480"/>
              <a:ext cx="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 flipV="1">
              <a:off x="6280560" y="2445480"/>
              <a:ext cx="72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746280" y="2723400"/>
              <a:ext cx="553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7"/>
            <p:cNvSpPr/>
            <p:nvPr/>
          </p:nvSpPr>
          <p:spPr>
            <a:xfrm>
              <a:off x="2798280" y="2761920"/>
              <a:ext cx="107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дл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3"/>
            <p:cNvGrpSpPr/>
            <p:nvPr/>
          </p:nvGrpSpPr>
          <p:grpSpPr>
            <a:xfrm>
              <a:off x="6275520" y="1385640"/>
              <a:ext cx="347040" cy="1073880"/>
              <a:chOff x="6275520" y="1385640"/>
              <a:chExt cx="347040" cy="1073880"/>
            </a:xfrm>
          </p:grpSpPr>
          <p:sp>
            <p:nvSpPr>
              <p:cNvPr id="373" name="Line 6"/>
              <p:cNvSpPr/>
              <p:nvPr/>
            </p:nvSpPr>
            <p:spPr>
              <a:xfrm flipH="1">
                <a:off x="6275520" y="2459520"/>
                <a:ext cx="34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5"/>
              <p:cNvSpPr/>
              <p:nvPr/>
            </p:nvSpPr>
            <p:spPr>
              <a:xfrm flipH="1">
                <a:off x="6275520" y="1386000"/>
                <a:ext cx="34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4"/>
              <p:cNvSpPr/>
              <p:nvPr/>
            </p:nvSpPr>
            <p:spPr>
              <a:xfrm flipV="1">
                <a:off x="6553440" y="1385640"/>
                <a:ext cx="1440" cy="107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Text Box 2"/>
            <p:cNvSpPr/>
            <p:nvPr/>
          </p:nvSpPr>
          <p:spPr>
            <a:xfrm>
              <a:off x="6635880" y="1544400"/>
              <a:ext cx="222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шир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(число полос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7" name=""/>
          <p:cNvGraphicFramePr/>
          <p:nvPr/>
        </p:nvGraphicFramePr>
        <p:xfrm>
          <a:off x="3057480" y="3533760"/>
          <a:ext cx="1635120" cy="1736640"/>
        </p:xfrm>
        <a:graphic>
          <a:graphicData uri="http://schemas.openxmlformats.org/drawingml/2006/table">
            <a:tbl>
              <a:tblPr/>
              <a:tblGrid>
                <a:gridCol w="163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Скругленная прямоугольная выноска 24"/>
          <p:cNvSpPr/>
          <p:nvPr/>
        </p:nvSpPr>
        <p:spPr>
          <a:xfrm>
            <a:off x="4546440" y="5127480"/>
            <a:ext cx="2030400" cy="747720"/>
          </a:xfrm>
          <a:prstGeom prst="wedgeRoundRectCallout">
            <a:avLst>
              <a:gd name="adj1" fmla="val -70074"/>
              <a:gd name="adj2" fmla="val -63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кругленная прямоугольная выноска 25"/>
          <p:cNvSpPr/>
          <p:nvPr/>
        </p:nvSpPr>
        <p:spPr>
          <a:xfrm>
            <a:off x="665280" y="4043520"/>
            <a:ext cx="2070000" cy="722160"/>
          </a:xfrm>
          <a:prstGeom prst="wedgeRoundRectCallout">
            <a:avLst>
              <a:gd name="adj1" fmla="val 68564"/>
              <a:gd name="adj2" fmla="val -6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стоя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кругленная прямоугольная выноска 27"/>
          <p:cNvSpPr/>
          <p:nvPr/>
        </p:nvSpPr>
        <p:spPr>
          <a:xfrm>
            <a:off x="4753080" y="2938320"/>
            <a:ext cx="1630080" cy="765360"/>
          </a:xfrm>
          <a:prstGeom prst="wedgeRoundRectCallout">
            <a:avLst>
              <a:gd name="adj1" fmla="val -69296"/>
              <a:gd name="adj2" fmla="val 3607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е для рису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6204-3AB9-4EAD-A8E1-C8A7E171D94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Picture 12" descr=""/>
          <p:cNvPicPr/>
          <p:nvPr/>
        </p:nvPicPr>
        <p:blipFill>
          <a:blip r:embed="rId1"/>
          <a:stretch/>
        </p:blipFill>
        <p:spPr>
          <a:xfrm>
            <a:off x="2895480" y="1025640"/>
            <a:ext cx="3353040" cy="2016000"/>
          </a:xfrm>
          <a:prstGeom prst="rect">
            <a:avLst/>
          </a:prstGeom>
          <a:ln w="0">
            <a:noFill/>
          </a:ln>
        </p:spPr>
      </p:pic>
      <p:sp>
        <p:nvSpPr>
          <p:cNvPr id="1204" name="Скругленная прямоугольная выноска 12"/>
          <p:cNvSpPr/>
          <p:nvPr/>
        </p:nvSpPr>
        <p:spPr>
          <a:xfrm>
            <a:off x="6083280" y="1762200"/>
            <a:ext cx="2305080" cy="732600"/>
          </a:xfrm>
          <a:prstGeom prst="wedgeRoundRectCallout">
            <a:avLst>
              <a:gd name="adj1" fmla="val -90458"/>
              <a:gd name="adj2" fmla="val 3771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Прямоугольник 13"/>
          <p:cNvSpPr/>
          <p:nvPr/>
        </p:nvSpPr>
        <p:spPr>
          <a:xfrm>
            <a:off x="425520" y="4211640"/>
            <a:ext cx="80485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b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hite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li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Скругленная прямоугольная выноска 14"/>
          <p:cNvSpPr/>
          <p:nvPr/>
        </p:nvSpPr>
        <p:spPr>
          <a:xfrm>
            <a:off x="2173320" y="3268800"/>
            <a:ext cx="2355840" cy="732600"/>
          </a:xfrm>
          <a:prstGeom prst="wedgeRoundRectCallout">
            <a:avLst>
              <a:gd name="adj1" fmla="val 4222"/>
              <a:gd name="adj2" fmla="val 920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одитель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ок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Скругленная прямоугольная выноска 15"/>
          <p:cNvSpPr/>
          <p:nvPr/>
        </p:nvSpPr>
        <p:spPr>
          <a:xfrm>
            <a:off x="4809960" y="3556080"/>
            <a:ext cx="2355840" cy="416520"/>
          </a:xfrm>
          <a:prstGeom prst="wedgeRoundRectCallout">
            <a:avLst>
              <a:gd name="adj1" fmla="val -10675"/>
              <a:gd name="adj2" fmla="val 119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 –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Скругленная прямоугольная выноска 16"/>
          <p:cNvSpPr/>
          <p:nvPr/>
        </p:nvSpPr>
        <p:spPr>
          <a:xfrm>
            <a:off x="4246560" y="5140440"/>
            <a:ext cx="2355840" cy="1364040"/>
          </a:xfrm>
          <a:prstGeom prst="wedgeRoundRectCallout">
            <a:avLst>
              <a:gd name="adj1" fmla="val -49925"/>
              <a:gd name="adj2" fmla="val -715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все свободн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0" dur="indefinite" restart="never" nodeType="tmRoot">
          <p:childTnLst>
            <p:seq>
              <p:cTn id="2601" dur="indefinite" nodeType="mainSeq">
                <p:childTnLst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1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1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6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фай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DAFE-35FF-4414-AACE-FD242362253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8"/>
          <p:cNvSpPr/>
          <p:nvPr/>
        </p:nvSpPr>
        <p:spPr>
          <a:xfrm>
            <a:off x="649440" y="1248840"/>
            <a:ext cx="76755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брать файл с рису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файл выбран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агрузить рисунок в компонент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Прямоугольник 5"/>
          <p:cNvSpPr/>
          <p:nvPr/>
        </p:nvSpPr>
        <p:spPr>
          <a:xfrm>
            <a:off x="387360" y="81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щелчка по кноп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рямоугольник 5"/>
          <p:cNvSpPr/>
          <p:nvPr/>
        </p:nvSpPr>
        <p:spPr>
          <a:xfrm>
            <a:off x="387360" y="2470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бор фай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8"/>
          <p:cNvSpPr/>
          <p:nvPr/>
        </p:nvSpPr>
        <p:spPr>
          <a:xfrm>
            <a:off x="649440" y="2919600"/>
            <a:ext cx="83358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kinter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le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dialog.askopenfile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yp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Файлы 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се файлы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Прямоугольник 5"/>
          <p:cNvSpPr/>
          <p:nvPr/>
        </p:nvSpPr>
        <p:spPr>
          <a:xfrm>
            <a:off x="387360" y="44895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грузка рису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8"/>
          <p:cNvSpPr/>
          <p:nvPr/>
        </p:nvSpPr>
        <p:spPr>
          <a:xfrm>
            <a:off x="649440" y="4989600"/>
            <a:ext cx="7750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Скругленная прямоугольная выноска 13"/>
          <p:cNvSpPr/>
          <p:nvPr/>
        </p:nvSpPr>
        <p:spPr>
          <a:xfrm>
            <a:off x="3513240" y="4678200"/>
            <a:ext cx="4354560" cy="416520"/>
          </a:xfrm>
          <a:prstGeom prst="wedgeRoundRectCallout">
            <a:avLst>
              <a:gd name="adj1" fmla="val -71921"/>
              <a:gd name="adj2" fmla="val 7391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мя файла не пус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1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2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5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фай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A1F1-AF2B-46EE-8223-DFB1CDC0678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8"/>
          <p:cNvSpPr/>
          <p:nvPr/>
        </p:nvSpPr>
        <p:spPr>
          <a:xfrm>
            <a:off x="404640" y="1291320"/>
            <a:ext cx="833472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kinter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le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ectFil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dialog.askopenfilenam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yp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Файлы 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се файлы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13"/>
          <p:cNvSpPr/>
          <p:nvPr/>
        </p:nvSpPr>
        <p:spPr>
          <a:xfrm>
            <a:off x="425520" y="5200560"/>
            <a:ext cx="5710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Btn.onClic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Прямоугольник 5"/>
          <p:cNvSpPr/>
          <p:nvPr/>
        </p:nvSpPr>
        <p:spPr>
          <a:xfrm>
            <a:off x="387360" y="47750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язка обработч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Прямоугольник 5"/>
          <p:cNvSpPr/>
          <p:nvPr/>
        </p:nvSpPr>
        <p:spPr>
          <a:xfrm>
            <a:off x="387360" y="82080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 щелчка по кноп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Скругленная прямоугольная выноска 16"/>
          <p:cNvSpPr/>
          <p:nvPr/>
        </p:nvSpPr>
        <p:spPr>
          <a:xfrm>
            <a:off x="5554800" y="1743120"/>
            <a:ext cx="2887560" cy="732600"/>
          </a:xfrm>
          <a:prstGeom prst="wedgeRoundRectCallout">
            <a:avLst>
              <a:gd name="adj1" fmla="val -76712"/>
              <a:gd name="adj2" fmla="val 4818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источник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6" dur="indefinite" restart="never" nodeType="tmRoot">
          <p:childTnLst>
            <p:seq>
              <p:cTn id="2657" dur="indefinite" nodeType="mainSeq">
                <p:childTnLst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2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8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3" dur="500"/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1" dur="500"/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4" dur="500"/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7" dur="500"/>
                                        <p:tgtEl>
                                          <p:spTgt spid="1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1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5" dur="500"/>
                                        <p:tgtEl>
                                          <p:spTgt spid="1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ентр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AE0C-27B5-407D-82D6-FAFE33082F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Picture 2" descr=""/>
          <p:cNvPicPr/>
          <p:nvPr/>
        </p:nvPicPr>
        <p:blipFill>
          <a:blip r:embed="rId1"/>
          <a:stretch/>
        </p:blipFill>
        <p:spPr>
          <a:xfrm>
            <a:off x="369720" y="884160"/>
            <a:ext cx="2792520" cy="2295720"/>
          </a:xfrm>
          <a:prstGeom prst="rect">
            <a:avLst/>
          </a:prstGeom>
          <a:ln w="0">
            <a:noFill/>
          </a:ln>
        </p:spPr>
      </p:pic>
      <p:sp>
        <p:nvSpPr>
          <p:cNvPr id="1228" name="Полилиния 10"/>
          <p:cNvSpPr/>
          <p:nvPr/>
        </p:nvSpPr>
        <p:spPr>
          <a:xfrm>
            <a:off x="2392200" y="1509840"/>
            <a:ext cx="393840" cy="1095120"/>
          </a:xfrm>
          <a:custGeom>
            <a:avLst/>
            <a:gdLst>
              <a:gd name="textAreaLeft" fmla="*/ 0 w 393840"/>
              <a:gd name="textAreaRight" fmla="*/ 394200 w 393840"/>
              <a:gd name="textAreaTop" fmla="*/ 0 h 1095120"/>
              <a:gd name="textAreaBottom" fmla="*/ 1095480 h 1095120"/>
            </a:gdLst>
            <a:ahLst/>
            <a:rect l="textAreaLeft" t="textAreaTop" r="textAreaRight" b="textAreaBottom"/>
            <a:pathLst>
              <a:path w="676940" h="1233377">
                <a:moveTo>
                  <a:pt x="74428" y="0"/>
                </a:moveTo>
                <a:cubicBezTo>
                  <a:pt x="676940" y="517452"/>
                  <a:pt x="322521" y="1034903"/>
                  <a:pt x="0" y="1233377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Прямоугольник 5"/>
          <p:cNvSpPr/>
          <p:nvPr/>
        </p:nvSpPr>
        <p:spPr>
          <a:xfrm>
            <a:off x="3173400" y="8618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Прямоугольник 12"/>
          <p:cNvSpPr/>
          <p:nvPr/>
        </p:nvSpPr>
        <p:spPr>
          <a:xfrm>
            <a:off x="3211560" y="1298520"/>
            <a:ext cx="57830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bChang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cen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er.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redrawImag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Скругленная прямоугольная выноска 13"/>
          <p:cNvSpPr/>
          <p:nvPr/>
        </p:nvSpPr>
        <p:spPr>
          <a:xfrm>
            <a:off x="5595840" y="468360"/>
            <a:ext cx="2889360" cy="732600"/>
          </a:xfrm>
          <a:prstGeom prst="wedgeRoundRectCallout">
            <a:avLst>
              <a:gd name="adj1" fmla="val -23717"/>
              <a:gd name="adj2" fmla="val 77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источник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Скругленная прямоугольная выноска 14"/>
          <p:cNvSpPr/>
          <p:nvPr/>
        </p:nvSpPr>
        <p:spPr>
          <a:xfrm>
            <a:off x="6559560" y="2700360"/>
            <a:ext cx="2340000" cy="732600"/>
          </a:xfrm>
          <a:prstGeom prst="wedgeRoundRectCallout">
            <a:avLst>
              <a:gd name="adj1" fmla="val 1680"/>
              <a:gd name="adj2" fmla="val -14341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е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/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Скругленная прямоугольная выноска 15"/>
          <p:cNvSpPr/>
          <p:nvPr/>
        </p:nvSpPr>
        <p:spPr>
          <a:xfrm>
            <a:off x="3444840" y="2700360"/>
            <a:ext cx="2340000" cy="732600"/>
          </a:xfrm>
          <a:prstGeom prst="wedgeRoundRectCallout">
            <a:avLst>
              <a:gd name="adj1" fmla="val 39416"/>
              <a:gd name="adj2" fmla="val -969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рисовать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Прямоугольник 16"/>
          <p:cNvSpPr/>
          <p:nvPr/>
        </p:nvSpPr>
        <p:spPr>
          <a:xfrm>
            <a:off x="425520" y="3978360"/>
            <a:ext cx="5710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Cb.onChan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Прямоугольник 5"/>
          <p:cNvSpPr/>
          <p:nvPr/>
        </p:nvSpPr>
        <p:spPr>
          <a:xfrm>
            <a:off x="387360" y="35528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язка обработч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Скругленная прямоугольная выноска 18"/>
          <p:cNvSpPr/>
          <p:nvPr/>
        </p:nvSpPr>
        <p:spPr>
          <a:xfrm>
            <a:off x="839880" y="4710240"/>
            <a:ext cx="2340000" cy="1364040"/>
          </a:xfrm>
          <a:prstGeom prst="wedgeRoundRectCallout">
            <a:avLst>
              <a:gd name="adj1" fmla="val 39416"/>
              <a:gd name="adj2" fmla="val -78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чик события «изменение состоя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Полилиния 19"/>
          <p:cNvSpPr/>
          <p:nvPr/>
        </p:nvSpPr>
        <p:spPr>
          <a:xfrm>
            <a:off x="4164120" y="1658880"/>
            <a:ext cx="907920" cy="2392560"/>
          </a:xfrm>
          <a:custGeom>
            <a:avLst/>
            <a:gdLst>
              <a:gd name="textAreaLeft" fmla="*/ 0 w 907920"/>
              <a:gd name="textAreaRight" fmla="*/ 908280 w 907920"/>
              <a:gd name="textAreaTop" fmla="*/ 0 h 2392560"/>
              <a:gd name="textAreaBottom" fmla="*/ 2392920 h 2392560"/>
            </a:gdLst>
            <a:ahLst/>
            <a:rect l="textAreaLeft" t="textAreaTop" r="textAreaRight" b="textAreaBottom"/>
            <a:pathLst>
              <a:path w="1561931" h="3700130">
                <a:moveTo>
                  <a:pt x="922828" y="3700130"/>
                </a:moveTo>
                <a:cubicBezTo>
                  <a:pt x="1561931" y="2901981"/>
                  <a:pt x="0" y="1133574"/>
                  <a:pt x="299531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Group 34"/>
          <p:cNvGrpSpPr/>
          <p:nvPr/>
        </p:nvGrpSpPr>
        <p:grpSpPr>
          <a:xfrm>
            <a:off x="3505320" y="4616280"/>
            <a:ext cx="5351040" cy="1291320"/>
            <a:chOff x="3505320" y="4616280"/>
            <a:chExt cx="5351040" cy="1291320"/>
          </a:xfrm>
        </p:grpSpPr>
        <p:sp>
          <p:nvSpPr>
            <p:cNvPr id="1239" name="Text Box 32"/>
            <p:cNvSpPr/>
            <p:nvPr/>
          </p:nvSpPr>
          <p:spPr>
            <a:xfrm>
              <a:off x="4009680" y="4716360"/>
              <a:ext cx="484668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9280"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а основе ОО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1792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спользование компонентов скрывает сложн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Oval 33"/>
            <p:cNvSpPr/>
            <p:nvPr/>
          </p:nvSpPr>
          <p:spPr>
            <a:xfrm>
              <a:off x="3505320" y="46162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4" dur="indefinite" restart="never" nodeType="tmRoot">
          <p:childTnLst>
            <p:seq>
              <p:cTn id="2705" dur="indefinite" nodeType="mainSeq">
                <p:childTnLst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0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5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8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1" dur="500"/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7" dur="500"/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8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1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ый класс – «всё в одном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3771-0561-4352-A8FD-5BAD7A91E2F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Прямоугольник 3"/>
          <p:cNvSpPr/>
          <p:nvPr/>
        </p:nvSpPr>
        <p:spPr>
          <a:xfrm>
            <a:off x="658800" y="2233440"/>
            <a:ext cx="7400880" cy="1709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ageView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Прямоугольник 5"/>
          <p:cNvSpPr/>
          <p:nvPr/>
        </p:nvSpPr>
        <p:spPr>
          <a:xfrm>
            <a:off x="430200" y="17762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сновная 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Group 34"/>
          <p:cNvGrpSpPr/>
          <p:nvPr/>
        </p:nvGrpSpPr>
        <p:grpSpPr>
          <a:xfrm>
            <a:off x="981000" y="936720"/>
            <a:ext cx="7181640" cy="663480"/>
            <a:chOff x="981000" y="936720"/>
            <a:chExt cx="7181640" cy="663480"/>
          </a:xfrm>
        </p:grpSpPr>
        <p:sp>
          <p:nvSpPr>
            <p:cNvPr id="1246" name="Text Box 32"/>
            <p:cNvSpPr/>
            <p:nvPr/>
          </p:nvSpPr>
          <p:spPr>
            <a:xfrm>
              <a:off x="1485360" y="1036800"/>
              <a:ext cx="6677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92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дея: убрать все действия в новый класс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Oval 33"/>
            <p:cNvSpPr/>
            <p:nvPr/>
          </p:nvSpPr>
          <p:spPr>
            <a:xfrm>
              <a:off x="981000" y="9367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Прямоугольник 8"/>
          <p:cNvSpPr/>
          <p:nvPr/>
        </p:nvSpPr>
        <p:spPr>
          <a:xfrm>
            <a:off x="657360" y="2227320"/>
            <a:ext cx="6902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Полилиния 9"/>
          <p:cNvSpPr/>
          <p:nvPr/>
        </p:nvSpPr>
        <p:spPr>
          <a:xfrm>
            <a:off x="3211560" y="2616120"/>
            <a:ext cx="201600" cy="584280"/>
          </a:xfrm>
          <a:custGeom>
            <a:avLst/>
            <a:gdLst>
              <a:gd name="textAreaLeft" fmla="*/ 0 w 201600"/>
              <a:gd name="textAreaRight" fmla="*/ 201960 w 2016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561931" h="3700130">
                <a:moveTo>
                  <a:pt x="922828" y="3700130"/>
                </a:moveTo>
                <a:cubicBezTo>
                  <a:pt x="1561931" y="2901981"/>
                  <a:pt x="0" y="1133574"/>
                  <a:pt x="299531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2" dur="indefinite" restart="never" nodeType="tmRoot">
          <p:childTnLst>
            <p:seq>
              <p:cTn id="2763" dur="indefinite" nodeType="mainSeq">
                <p:childTnLst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2" dur="500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0" dur="500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4" fill="hold">
                            <p:stCondLst>
                              <p:cond delay="500"/>
                            </p:stCondLst>
                            <p:childTnLst>
                              <p:par>
                                <p:cTn id="2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TImageView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FA16-1F12-478C-B8BF-D410740444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Прямоугольник 3"/>
          <p:cNvSpPr/>
          <p:nvPr/>
        </p:nvSpPr>
        <p:spPr>
          <a:xfrm>
            <a:off x="404640" y="915840"/>
            <a:ext cx="8367840" cy="5031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.__init__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росмотр рисунков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os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siz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ane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Panel(self, relief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aised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anel.alig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top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ag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b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hite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alig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lie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penBt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Butt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pane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tex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крыть файл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penBtn.pos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penBtn.onClick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select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enterCb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heckBo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pane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 центре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enterCb.pos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enterCb.onChang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b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Прямоугольник 4"/>
          <p:cNvSpPr/>
          <p:nvPr/>
        </p:nvSpPr>
        <p:spPr>
          <a:xfrm>
            <a:off x="475560" y="6035760"/>
            <a:ext cx="109512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Прямоугольник 5"/>
          <p:cNvSpPr/>
          <p:nvPr/>
        </p:nvSpPr>
        <p:spPr>
          <a:xfrm>
            <a:off x="1656360" y="606276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яем всё в полях объекта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Imag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8" dur="indefinite" restart="never" nodeType="tmRoot">
          <p:childTnLst>
            <p:seq>
              <p:cTn id="2799" dur="indefinite" nodeType="mainSeq">
                <p:childTnLst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TImageView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обработч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018E-76AB-4EE5-911F-350849B8692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3"/>
          <p:cNvSpPr/>
          <p:nvPr/>
        </p:nvSpPr>
        <p:spPr>
          <a:xfrm>
            <a:off x="404640" y="915840"/>
            <a:ext cx="8558280" cy="4635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electFil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dialog.askopenfilenam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yp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Файлы 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се файлы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bChang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cen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er.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redrawImag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8" dur="indefinite" restart="never" nodeType="tmRoot">
          <p:childTnLst>
            <p:seq>
              <p:cTn id="2809" dur="indefinite" nodeType="mainSeq">
                <p:childTnLst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4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7" dur="500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0" dur="500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8" dur="500"/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1" dur="500"/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4" dur="500"/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7" dur="500"/>
                                        <p:tgtEl>
                                          <p:spTgt spid="1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0" dur="500"/>
                                        <p:tgtEl>
                                          <p:spTgt spid="1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3" dur="500"/>
                                        <p:tgtEl>
                                          <p:spTgt spid="1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fill="hold">
                      <p:stCondLst>
                        <p:cond delay="indefinite"/>
                      </p:stCondLst>
                      <p:childTnLst>
                        <p:par>
                          <p:cTn id="2845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8" dur="500"/>
                                        <p:tgtEl>
                                          <p:spTgt spid="1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1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4" dur="500"/>
                                        <p:tgtEl>
                                          <p:spTgt spid="1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8" name="Picture 15" descr=""/>
          <p:cNvPicPr/>
          <p:nvPr/>
        </p:nvPicPr>
        <p:blipFill>
          <a:blip r:embed="rId1"/>
          <a:stretch/>
        </p:blipFill>
        <p:spPr>
          <a:xfrm>
            <a:off x="2386080" y="2052720"/>
            <a:ext cx="4852800" cy="260496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и вывод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E208-219E-44DF-A8CF-D0E07EA6728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Скругленная прямоугольная выноска 4"/>
          <p:cNvSpPr/>
          <p:nvPr/>
        </p:nvSpPr>
        <p:spPr>
          <a:xfrm>
            <a:off x="3170160" y="1000080"/>
            <a:ext cx="2917800" cy="496440"/>
          </a:xfrm>
          <a:prstGeom prst="wedgeRoundRectCallout">
            <a:avLst>
              <a:gd name="adj1" fmla="val 16773"/>
              <a:gd name="adj2" fmla="val 28941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ля веб-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Скругленная прямоугольная выноска 5"/>
          <p:cNvSpPr/>
          <p:nvPr/>
        </p:nvSpPr>
        <p:spPr>
          <a:xfrm>
            <a:off x="6013440" y="1655640"/>
            <a:ext cx="2990880" cy="891000"/>
          </a:xfrm>
          <a:prstGeom prst="wedgeRoundRectCallout">
            <a:avLst>
              <a:gd name="adj1" fmla="val -36439"/>
              <a:gd name="adj2" fmla="val 737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Скругленная прямоугольная выноска 6"/>
          <p:cNvSpPr/>
          <p:nvPr/>
        </p:nvSpPr>
        <p:spPr>
          <a:xfrm>
            <a:off x="5624640" y="3948120"/>
            <a:ext cx="3206520" cy="891000"/>
          </a:xfrm>
          <a:prstGeom prst="wedgeRoundRectCallout">
            <a:avLst>
              <a:gd name="adj1" fmla="val -44703"/>
              <a:gd name="adj2" fmla="val -9426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мет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Скругленная прямоугольная выноска 7"/>
          <p:cNvSpPr/>
          <p:nvPr/>
        </p:nvSpPr>
        <p:spPr>
          <a:xfrm>
            <a:off x="222120" y="1628640"/>
            <a:ext cx="2990880" cy="1286280"/>
          </a:xfrm>
          <a:prstGeom prst="wedgeRoundRectCallout">
            <a:avLst>
              <a:gd name="adj1" fmla="val 59277"/>
              <a:gd name="adj2" fmla="val 4297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ввод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Скругленная прямоугольная выноска 8"/>
          <p:cNvSpPr/>
          <p:nvPr/>
        </p:nvSpPr>
        <p:spPr>
          <a:xfrm>
            <a:off x="328680" y="5035680"/>
            <a:ext cx="2990880" cy="1286280"/>
          </a:xfrm>
          <a:prstGeom prst="wedgeRoundRectCallout">
            <a:avLst>
              <a:gd name="adj1" fmla="val 56171"/>
              <a:gd name="adj2" fmla="val -10436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ввод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Скругленная прямоугольная выноска 9"/>
          <p:cNvSpPr/>
          <p:nvPr/>
        </p:nvSpPr>
        <p:spPr>
          <a:xfrm>
            <a:off x="3483000" y="5035680"/>
            <a:ext cx="2990880" cy="1286280"/>
          </a:xfrm>
          <a:prstGeom prst="wedgeRoundRectCallout">
            <a:avLst>
              <a:gd name="adj1" fmla="val -31120"/>
              <a:gd name="adj2" fmla="val -15687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ввод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Группа 15"/>
          <p:cNvGrpSpPr/>
          <p:nvPr/>
        </p:nvGrpSpPr>
        <p:grpSpPr>
          <a:xfrm>
            <a:off x="439560" y="2836800"/>
            <a:ext cx="2181240" cy="1395360"/>
            <a:chOff x="439560" y="2836800"/>
            <a:chExt cx="2181240" cy="1395360"/>
          </a:xfrm>
        </p:grpSpPr>
        <p:sp>
          <p:nvSpPr>
            <p:cNvPr id="1268" name="Скругленная прямоугольная выноска 12"/>
            <p:cNvSpPr/>
            <p:nvPr/>
          </p:nvSpPr>
          <p:spPr>
            <a:xfrm>
              <a:off x="439560" y="3127320"/>
              <a:ext cx="1692360" cy="891000"/>
            </a:xfrm>
            <a:prstGeom prst="wedgeRoundRectCallout">
              <a:avLst>
                <a:gd name="adj1" fmla="val 74157"/>
                <a:gd name="adj2" fmla="val -8078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ме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</a:rPr>
                <a:t>TLab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Полилиния 13"/>
            <p:cNvSpPr/>
            <p:nvPr/>
          </p:nvSpPr>
          <p:spPr>
            <a:xfrm>
              <a:off x="2030400" y="2836800"/>
              <a:ext cx="584280" cy="461880"/>
            </a:xfrm>
            <a:custGeom>
              <a:avLst/>
              <a:gdLst/>
              <a:ahLst/>
              <a:rect l="l" t="t" r="r" b="b"/>
              <a:pathLst>
                <a:path w="584200" h="355600">
                  <a:moveTo>
                    <a:pt x="0" y="241300"/>
                  </a:moveTo>
                  <a:lnTo>
                    <a:pt x="584200" y="0"/>
                  </a:lnTo>
                  <a:lnTo>
                    <a:pt x="95250" y="355600"/>
                  </a:lnTo>
                  <a:lnTo>
                    <a:pt x="0" y="2413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Полилиния 14"/>
            <p:cNvSpPr/>
            <p:nvPr/>
          </p:nvSpPr>
          <p:spPr>
            <a:xfrm>
              <a:off x="2049480" y="3770280"/>
              <a:ext cx="571320" cy="461880"/>
            </a:xfrm>
            <a:custGeom>
              <a:avLst/>
              <a:gdLst/>
              <a:ahLst/>
              <a:rect l="l" t="t" r="r" b="b"/>
              <a:pathLst>
                <a:path w="571500" h="317500">
                  <a:moveTo>
                    <a:pt x="76200" y="0"/>
                  </a:moveTo>
                  <a:lnTo>
                    <a:pt x="0" y="158750"/>
                  </a:lnTo>
                  <a:lnTo>
                    <a:pt x="571500" y="3175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5" dur="indefinite" restart="never" nodeType="tmRoot">
          <p:childTnLst>
            <p:seq>
              <p:cTn id="2856" dur="indefinite" nodeType="mainSeq">
                <p:childTnLst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4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F230-F105-4DCC-9969-38679B4A2A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4"/>
          <p:cNvSpPr/>
          <p:nvPr/>
        </p:nvSpPr>
        <p:spPr>
          <a:xfrm>
            <a:off x="533520" y="1255680"/>
            <a:ext cx="8242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GB-кодирование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Прямоугольник 5"/>
          <p:cNvSpPr/>
          <p:nvPr/>
        </p:nvSpPr>
        <p:spPr>
          <a:xfrm>
            <a:off x="366840" y="809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-прило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Прямоугольник 5"/>
          <p:cNvSpPr/>
          <p:nvPr/>
        </p:nvSpPr>
        <p:spPr>
          <a:xfrm>
            <a:off x="366840" y="2457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ки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G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4"/>
          <p:cNvSpPr/>
          <p:nvPr/>
        </p:nvSpPr>
        <p:spPr>
          <a:xfrm>
            <a:off x="533520" y="2905200"/>
            <a:ext cx="8242200" cy="3111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MS Sans Ser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 =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R.position = 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G =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G.position = 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B =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B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Скругленная прямоугольная выноска 12"/>
          <p:cNvSpPr/>
          <p:nvPr/>
        </p:nvSpPr>
        <p:spPr>
          <a:xfrm>
            <a:off x="3008160" y="2444760"/>
            <a:ext cx="1552680" cy="416520"/>
          </a:xfrm>
          <a:prstGeom prst="wedgeRoundRectCallout">
            <a:avLst>
              <a:gd name="adj1" fmla="val 31268"/>
              <a:gd name="adj2" fmla="val 93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8" name="Picture 8" descr=""/>
          <p:cNvPicPr/>
          <p:nvPr/>
        </p:nvPicPr>
        <p:blipFill>
          <a:blip r:embed="rId1"/>
          <a:stretch/>
        </p:blipFill>
        <p:spPr>
          <a:xfrm>
            <a:off x="5784840" y="1809720"/>
            <a:ext cx="275256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0" dur="indefinite" restart="never" nodeType="tmRoot">
          <p:childTnLst>
            <p:seq>
              <p:cTn id="2891" dur="indefinite" nodeType="mainSeq">
                <p:childTnLst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9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7" dur="500"/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2" dur="500"/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7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0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8" dur="500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1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500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9" dur="500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4" dur="500"/>
                                        <p:tgtEl>
                                          <p:spTgt spid="1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7" dur="500"/>
                                        <p:tgtEl>
                                          <p:spTgt spid="1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2" dur="500"/>
                                        <p:tgtEl>
                                          <p:spTgt spid="1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5" dur="500"/>
                                        <p:tgtEl>
                                          <p:spTgt spid="1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B1C2-5861-49A3-97C0-8E48622E06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Прямоугольник 5"/>
          <p:cNvSpPr/>
          <p:nvPr/>
        </p:nvSpPr>
        <p:spPr>
          <a:xfrm>
            <a:off x="366840" y="2479680"/>
            <a:ext cx="48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ки для вывода результ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4"/>
          <p:cNvSpPr/>
          <p:nvPr/>
        </p:nvSpPr>
        <p:spPr>
          <a:xfrm>
            <a:off x="533520" y="3000240"/>
            <a:ext cx="8242200" cy="2958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ourier Ne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bol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#000000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c, f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navy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h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Скругленная прямоугольная выноска 12"/>
          <p:cNvSpPr/>
          <p:nvPr/>
        </p:nvSpPr>
        <p:spPr>
          <a:xfrm>
            <a:off x="6559560" y="2509920"/>
            <a:ext cx="1552680" cy="416520"/>
          </a:xfrm>
          <a:prstGeom prst="wedgeRoundRectCallout">
            <a:avLst>
              <a:gd name="adj1" fmla="val -45458"/>
              <a:gd name="adj2" fmla="val 130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Picture 2" descr=""/>
          <p:cNvPicPr/>
          <p:nvPr/>
        </p:nvPicPr>
        <p:blipFill>
          <a:blip r:embed="rId1"/>
          <a:stretch/>
        </p:blipFill>
        <p:spPr>
          <a:xfrm>
            <a:off x="2541600" y="922320"/>
            <a:ext cx="2774880" cy="1501920"/>
          </a:xfrm>
          <a:prstGeom prst="rect">
            <a:avLst/>
          </a:prstGeom>
          <a:ln w="0">
            <a:noFill/>
          </a:ln>
        </p:spPr>
      </p:pic>
      <p:sp>
        <p:nvSpPr>
          <p:cNvPr id="1285" name="Скругленная прямоугольная выноска 14"/>
          <p:cNvSpPr/>
          <p:nvPr/>
        </p:nvSpPr>
        <p:spPr>
          <a:xfrm>
            <a:off x="5524560" y="1006560"/>
            <a:ext cx="2035080" cy="496440"/>
          </a:xfrm>
          <a:prstGeom prst="wedgeRoundRectCallout">
            <a:avLst>
              <a:gd name="adj1" fmla="val -75078"/>
              <a:gd name="adj2" fmla="val 3927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Скругленная прямоугольная выноска 15"/>
          <p:cNvSpPr/>
          <p:nvPr/>
        </p:nvSpPr>
        <p:spPr>
          <a:xfrm>
            <a:off x="5529240" y="1832040"/>
            <a:ext cx="1530360" cy="891000"/>
          </a:xfrm>
          <a:prstGeom prst="wedgeRoundRectCallout">
            <a:avLst>
              <a:gd name="adj1" fmla="val -97435"/>
              <a:gd name="adj2" fmla="val -3400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Скругленная прямоугольная выноска 16"/>
          <p:cNvSpPr/>
          <p:nvPr/>
        </p:nvSpPr>
        <p:spPr>
          <a:xfrm>
            <a:off x="7016760" y="4465800"/>
            <a:ext cx="1935000" cy="732600"/>
          </a:xfrm>
          <a:prstGeom prst="wedgeRoundRectCallout">
            <a:avLst>
              <a:gd name="adj1" fmla="val -34398"/>
              <a:gd name="adj2" fmla="val -805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Скругленная прямоугольная выноска 17"/>
          <p:cNvSpPr/>
          <p:nvPr/>
        </p:nvSpPr>
        <p:spPr>
          <a:xfrm>
            <a:off x="5857920" y="5699160"/>
            <a:ext cx="3093840" cy="732600"/>
          </a:xfrm>
          <a:prstGeom prst="wedgeRoundRectCallout">
            <a:avLst>
              <a:gd name="adj1" fmla="val -43324"/>
              <a:gd name="adj2" fmla="val -79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и высота в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мво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6" dur="indefinite" restart="never" nodeType="tmRoot">
          <p:childTnLst>
            <p:seq>
              <p:cTn id="2957" dur="indefinite" nodeType="mainSeq">
                <p:childTnLst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500"/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2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7" dur="500"/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1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5" dur="500"/>
                                        <p:tgtEl>
                                          <p:spTgt spid="1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8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1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Константин Поляков</cp:lastModifiedBy>
  <dcterms:modified xsi:type="dcterms:W3CDTF">2019-04-14T10:22:40Z</dcterms:modified>
  <cp:revision>3572</cp:revision>
  <dc:subject/>
  <dc:title>Программное обеспечение (ПО)</dc:title>
</cp:coreProperties>
</file>