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2.xml.rels" ContentType="application/vnd.openxmlformats-package.relationships+xml"/>
  <Override PartName="/ppt/notesSlides/notesSlide1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0CF9-3614-4C4D-B6B6-E10AA0346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F4E-C9C5-4D25-9637-91622A22F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4FB-4E1C-471D-8938-AC5BF1A3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22E-595C-43A8-AB94-123DFF4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71C-48FE-4A03-86EB-A5A4E94F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9D1-BD8C-4464-A620-1C820E05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1B93-B294-47FE-BD5C-22818D3C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A0EB-6FC0-4810-BE87-57F1C9E6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A7AF-3FF0-43BE-9145-40460915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161-7F84-4C5C-87D1-C86144B1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ACDC-88D2-4E6E-BAD9-00BD4F2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A59-F9C4-4AF3-BADA-6558AE0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0DA-6B72-46D3-86DA-D4A8DD4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8A1-0EF1-407E-B0D3-27F42486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7725-5EF0-4618-9940-97CD338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74A-BE86-4A1F-8602-AF8CED4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27FC-E601-4AB8-B947-F5BF8824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6B2-9918-47BC-AE12-443883E1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93CB-23F2-4929-8D65-4AF4321A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8985-7516-4C29-B580-506A6A83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D109-A82C-40FB-8F4A-25964A3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5423-7E31-4948-ABA2-86D8EE7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D9DB-4927-43FA-87B9-9ABA1C6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AA34-49D4-407E-8746-E0EF3101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F88-131C-41B1-98C1-8FC09B1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6833-F913-49D5-A0FE-6CF28B4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8DB8-060C-4523-82EE-8BA24AC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9CD2-EF44-42F0-BEC0-862AF01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8C3E-1607-490E-9FF9-D062BC4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2EC7-F0FC-4EB4-A7C2-2F34CD67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178D-A886-4E3E-B196-CA661DF3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43AB-E3B1-4272-90F6-1A81AD01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0944-B335-41AE-937E-D82877A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D959-5470-4B9D-BEB2-163A896E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7483-7EC7-4345-B6F5-D819CBEB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A8E-DE6B-4166-9AB2-8A03D9C1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19F28-0837-4A39-A288-22C17FC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D077-0369-45C6-9BE5-49A92996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5E44-CE6F-44C0-96AC-45768CB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BFC4-830C-4853-ACC6-63FE347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2940-6596-4C58-9F6E-2DAF30E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4A44-5C7E-4DB3-8C6D-CE66BC4A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8B85-268F-4D85-9C1D-101D958A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B481-38A5-48C1-8372-50D5B677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E483-C38A-4562-83C6-D0F3F142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7EC-3404-401F-9C1B-FE3E195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A8A-050D-43EF-BCBB-99A182B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520-4DAF-43B9-9018-10C4CB7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28A-2185-406F-936B-DA1DB79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2FE-2172-4398-BEF7-678D8B7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84A-30A0-4E1F-AF7A-4BFBB852D1A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B05-5496-4DC8-8201-ABBC051ECBF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399-90B5-4599-A732-D77B34767FD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1FB-E897-4B2F-AFE7-40538E23426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42.xml"/><Relationship Id="rId5" Type="http://schemas.openxmlformats.org/officeDocument/2006/relationships/slide" Target="slide59.xml"/><Relationship Id="rId6" Type="http://schemas.openxmlformats.org/officeDocument/2006/relationships/slide" Target="slide70.xml"/><Relationship Id="rId7" Type="http://schemas.openxmlformats.org/officeDocument/2006/relationships/slide" Target="slide95.xml"/><Relationship Id="rId8" Type="http://schemas.openxmlformats.org/officeDocument/2006/relationships/slide" Target="slide116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16AC-6663-467D-BBA4-A4D961D802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33520" y="2408040"/>
            <a:ext cx="466416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Алгоритм и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стейш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Вет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Циклические алгорит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Массивы (спи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Поиск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: псевдо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646-58E7-474D-A438-6A3451461E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34880" y="871560"/>
            <a:ext cx="8353440" cy="150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вести два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числить их сум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вести сумму на эк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297160" y="2774880"/>
            <a:ext cx="4970520" cy="1343160"/>
          </a:xfrm>
          <a:prstGeom prst="wedgeRoundRectCallout">
            <a:avLst>
              <a:gd name="adj1" fmla="val -43782"/>
              <a:gd name="adj2" fmla="val -864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горитм на русском языке с элементами языка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846000" y="4443480"/>
            <a:ext cx="7278840" cy="663480"/>
            <a:chOff x="846000" y="4443480"/>
            <a:chExt cx="7278840" cy="663480"/>
          </a:xfrm>
        </p:grpSpPr>
        <p:sp>
          <p:nvSpPr>
            <p:cNvPr id="233" name="Text Box 56"/>
            <p:cNvSpPr/>
            <p:nvPr/>
          </p:nvSpPr>
          <p:spPr>
            <a:xfrm>
              <a:off x="1312920" y="4549680"/>
              <a:ext cx="681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ьютер не может исполнить псевдокод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846000" y="4443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B79-5054-4F36-A936-B120C5F80D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"/>
          <p:cNvSpPr/>
          <p:nvPr/>
        </p:nvSpPr>
        <p:spPr>
          <a:xfrm>
            <a:off x="471600" y="1738440"/>
            <a:ext cx="6994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6"/>
          <p:cNvSpPr/>
          <p:nvPr/>
        </p:nvSpPr>
        <p:spPr>
          <a:xfrm>
            <a:off x="398520" y="4048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"/>
          <p:cNvSpPr/>
          <p:nvPr/>
        </p:nvSpPr>
        <p:spPr>
          <a:xfrm>
            <a:off x="471600" y="446724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9"/>
          <p:cNvSpPr/>
          <p:nvPr/>
        </p:nvSpPr>
        <p:spPr>
          <a:xfrm>
            <a:off x="457200" y="933480"/>
            <a:ext cx="308628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библиотеки (модуля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9"/>
          <p:cNvSpPr/>
          <p:nvPr/>
        </p:nvSpPr>
        <p:spPr>
          <a:xfrm>
            <a:off x="4013280" y="933480"/>
            <a:ext cx="375912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функцию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"/>
                            </p:stCondLst>
                            <p:childTnLst>
                              <p:par>
                                <p:cTn id="2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500"/>
                            </p:stCondLst>
                            <p:childTnLst>
                              <p:par>
                                <p:cTn id="2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582-C1F8-4A61-86A1-F4EFEEBF87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0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028-C6BF-4124-8B73-E4BA4442CB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369720" y="80964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о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369720" y="341316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CFD-C20A-4D25-B0BF-5A1D812EB3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69720" y="8222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половина массива заполняется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вторая половина массива содержит их квадраты в том же поря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7 10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25 64 49 100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E5FB-EEBE-4055-8289-7776B10170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847800" y="127332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836640" y="2622600"/>
            <a:ext cx="5638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14"/>
          <p:cNvSpPr/>
          <p:nvPr/>
        </p:nvSpPr>
        <p:spPr>
          <a:xfrm>
            <a:off x="345960" y="354168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898560" y="4059360"/>
            <a:ext cx="5959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(N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345960" y="215424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од по одному элемент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AC2-CBB1-45C4-8C6B-F269DC9FA0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345960" y="795240"/>
            <a:ext cx="63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сех чисел 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492120" y="1239840"/>
            <a:ext cx="78231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 3 4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,"3","4","5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 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17"/>
          <p:cNvSpPr/>
          <p:nvPr/>
        </p:nvSpPr>
        <p:spPr>
          <a:xfrm>
            <a:off x="1405080" y="1959120"/>
            <a:ext cx="1349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рямоугольник 18"/>
          <p:cNvSpPr/>
          <p:nvPr/>
        </p:nvSpPr>
        <p:spPr>
          <a:xfrm>
            <a:off x="345960" y="2847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492120" y="3306600"/>
            <a:ext cx="73058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A50-7939-42BD-A03E-24DF0086C1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345960" y="795240"/>
            <a:ext cx="4586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"/>
          <p:cNvSpPr/>
          <p:nvPr/>
        </p:nvSpPr>
        <p:spPr>
          <a:xfrm>
            <a:off x="847800" y="1209600"/>
            <a:ext cx="3192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6"/>
          <p:cNvSpPr/>
          <p:nvPr/>
        </p:nvSpPr>
        <p:spPr>
          <a:xfrm>
            <a:off x="836640" y="2765520"/>
            <a:ext cx="6021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04640" y="5265720"/>
            <a:ext cx="8485200" cy="1008000"/>
            <a:chOff x="404640" y="5265720"/>
            <a:chExt cx="8485200" cy="1008000"/>
          </a:xfrm>
        </p:grpSpPr>
        <p:sp>
          <p:nvSpPr>
            <p:cNvPr id="1131" name="Text Box 7"/>
            <p:cNvSpPr/>
            <p:nvPr/>
          </p:nvSpPr>
          <p:spPr>
            <a:xfrm>
              <a:off x="871560" y="5371920"/>
              <a:ext cx="8018280" cy="9018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лико (1000, 1000000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при изменени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менять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"/>
            <p:cNvSpPr/>
            <p:nvPr/>
          </p:nvSpPr>
          <p:spPr>
            <a:xfrm>
              <a:off x="404640" y="526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4" dur="5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250-7109-46C3-A1B1-0987D26CAF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3459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0680" y="1292400"/>
            <a:ext cx="321444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1"/>
          <p:cNvSpPr/>
          <p:nvPr/>
        </p:nvSpPr>
        <p:spPr>
          <a:xfrm>
            <a:off x="485640" y="4794120"/>
            <a:ext cx="3229200" cy="429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ый прямоугольник 12"/>
          <p:cNvSpPr/>
          <p:nvPr/>
        </p:nvSpPr>
        <p:spPr>
          <a:xfrm>
            <a:off x="355680" y="1674720"/>
            <a:ext cx="3494160" cy="69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44085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в цик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4475160" y="1292400"/>
            <a:ext cx="41292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трелка вправо 15"/>
          <p:cNvSpPr/>
          <p:nvPr/>
        </p:nvSpPr>
        <p:spPr>
          <a:xfrm>
            <a:off x="3965400" y="1925640"/>
            <a:ext cx="385920" cy="210960"/>
          </a:xfrm>
          <a:prstGeom prst="rightArrow">
            <a:avLst>
              <a:gd name="adj1" fmla="val 50000"/>
              <a:gd name="adj2" fmla="val 5030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408560" y="28130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4475160" y="3271680"/>
            <a:ext cx="41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трелка вправо 18"/>
          <p:cNvSpPr/>
          <p:nvPr/>
        </p:nvSpPr>
        <p:spPr>
          <a:xfrm rot="5400000">
            <a:off x="7690320" y="2882160"/>
            <a:ext cx="384120" cy="211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2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5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0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1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6" dur="500"/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4" dur="500"/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500"/>
                            </p:stCondLst>
                            <p:childTnLst>
                              <p:par>
                                <p:cTn id="3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50A-3248-4083-AEAA-41766CDF07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4"/>
          <p:cNvSpPr/>
          <p:nvPr/>
        </p:nvSpPr>
        <p:spPr>
          <a:xfrm>
            <a:off x="232560" y="80964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схем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6"/>
          <p:cNvSpPr/>
          <p:nvPr/>
        </p:nvSpPr>
        <p:spPr>
          <a:xfrm>
            <a:off x="719280" y="1300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9"/>
          <p:cNvSpPr/>
          <p:nvPr/>
        </p:nvSpPr>
        <p:spPr>
          <a:xfrm>
            <a:off x="241560" y="3452760"/>
            <a:ext cx="51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не ну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719280" y="394344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719280" y="241308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Прямоугольник 12"/>
          <p:cNvSpPr/>
          <p:nvPr/>
        </p:nvSpPr>
        <p:spPr>
          <a:xfrm>
            <a:off x="1912680" y="481176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A[0], A[1], ..., A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719280" y="53802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4" dur="indefinite" restart="never" nodeType="tmRoot">
          <p:childTnLst>
            <p:seq>
              <p:cTn id="3275" dur="indefinite" nodeType="mainSeq">
                <p:childTnLst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623-FDC6-4422-9B66-BD0F31DC9F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474840" y="89208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474840" y="155412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74840" y="217800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474840" y="2884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+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4735440" y="15541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4735440" y="217800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735440" y="28940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735440" y="32558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6"/>
          <p:cNvSpPr/>
          <p:nvPr/>
        </p:nvSpPr>
        <p:spPr>
          <a:xfrm>
            <a:off x="474840" y="39798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6"/>
          <p:cNvSpPr/>
          <p:nvPr/>
        </p:nvSpPr>
        <p:spPr>
          <a:xfrm>
            <a:off x="4735440" y="39895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735440" y="434196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74840" y="5065560"/>
            <a:ext cx="6089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k] +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4735440" y="57913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3513240" y="5373720"/>
            <a:ext cx="2995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4,5,3,6,8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66D0-3426-442B-AFEE-72E52702B6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68280" y="8175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3320" y="2494080"/>
            <a:ext cx="2386080" cy="27921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3833640" y="2328840"/>
            <a:ext cx="1335240" cy="120024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6"/>
          <p:cNvSpPr/>
          <p:nvPr/>
        </p:nvSpPr>
        <p:spPr>
          <a:xfrm rot="18783600">
            <a:off x="3381480" y="344124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7" descr=""/>
          <p:cNvPicPr/>
          <p:nvPr/>
        </p:nvPicPr>
        <p:blipFill>
          <a:blip r:embed="rId3"/>
          <a:stretch/>
        </p:blipFill>
        <p:spPr>
          <a:xfrm>
            <a:off x="2816280" y="3614760"/>
            <a:ext cx="156060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5437080" y="261144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538520" y="4057560"/>
            <a:ext cx="1036800" cy="64620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нуж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CF25-52B4-4C81-8A5C-DD4C34886B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7"/>
          <p:cNvSpPr/>
          <p:nvPr/>
        </p:nvSpPr>
        <p:spPr>
          <a:xfrm>
            <a:off x="396720" y="841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массиве записаны данные о росте баскетболистов. Сколько из них имеет рост боль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но меньше 190 см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719280" y="3078000"/>
            <a:ext cx="4881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55"/>
          <p:cNvGrpSpPr/>
          <p:nvPr/>
        </p:nvGrpSpPr>
        <p:grpSpPr>
          <a:xfrm>
            <a:off x="758880" y="2168640"/>
            <a:ext cx="2746440" cy="663480"/>
            <a:chOff x="758880" y="2168640"/>
            <a:chExt cx="2746440" cy="663480"/>
          </a:xfrm>
        </p:grpSpPr>
        <p:sp>
          <p:nvSpPr>
            <p:cNvPr id="1175" name="Text Box 56"/>
            <p:cNvSpPr/>
            <p:nvPr/>
          </p:nvSpPr>
          <p:spPr>
            <a:xfrm>
              <a:off x="1225800" y="2274840"/>
              <a:ext cx="2279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реш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57"/>
            <p:cNvSpPr/>
            <p:nvPr/>
          </p:nvSpPr>
          <p:spPr>
            <a:xfrm>
              <a:off x="758880" y="216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7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500"/>
                            </p:stCondLst>
                            <p:childTnLst>
                              <p:par>
                                <p:cTn id="3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B2AE-8E4E-4716-B1E1-BED3B98390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719280" y="1392120"/>
            <a:ext cx="4386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719280" y="3854520"/>
            <a:ext cx="4449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3"/>
          <p:cNvSpPr/>
          <p:nvPr/>
        </p:nvSpPr>
        <p:spPr>
          <a:xfrm>
            <a:off x="229680" y="34113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7"/>
          <p:cNvSpPr/>
          <p:nvPr/>
        </p:nvSpPr>
        <p:spPr>
          <a:xfrm>
            <a:off x="396720" y="84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умму чётных элементов масси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55"/>
          <p:cNvGrpSpPr/>
          <p:nvPr/>
        </p:nvGrpSpPr>
        <p:grpSpPr>
          <a:xfrm>
            <a:off x="4505400" y="1355760"/>
            <a:ext cx="3825360" cy="931680"/>
            <a:chOff x="4505400" y="1355760"/>
            <a:chExt cx="3825360" cy="931680"/>
          </a:xfrm>
        </p:grpSpPr>
        <p:sp>
          <p:nvSpPr>
            <p:cNvPr id="1184" name="Text Box 56"/>
            <p:cNvSpPr/>
            <p:nvPr/>
          </p:nvSpPr>
          <p:spPr>
            <a:xfrm>
              <a:off x="4971960" y="1461960"/>
              <a:ext cx="3358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лемент чётны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7"/>
            <p:cNvSpPr/>
            <p:nvPr/>
          </p:nvSpPr>
          <p:spPr>
            <a:xfrm>
              <a:off x="4505400" y="135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AutoShape 59"/>
          <p:cNvSpPr/>
          <p:nvPr/>
        </p:nvSpPr>
        <p:spPr>
          <a:xfrm>
            <a:off x="2725560" y="5365800"/>
            <a:ext cx="2951280" cy="654120"/>
          </a:xfrm>
          <a:prstGeom prst="wedgeRoundRectCallout">
            <a:avLst>
              <a:gd name="adj1" fmla="val -51226"/>
              <a:gd name="adj2" fmla="val -120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масси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4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ет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B68-B446-4B8A-989F-E58C86574C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444600" y="896760"/>
            <a:ext cx="36543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303200" y="2817720"/>
          <a:ext cx="6096240" cy="517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Прямоугольник 5"/>
          <p:cNvSpPr/>
          <p:nvPr/>
        </p:nvSpPr>
        <p:spPr>
          <a:xfrm>
            <a:off x="79524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79524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303200" y="356724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Прямоугольник 8"/>
          <p:cNvSpPr/>
          <p:nvPr/>
        </p:nvSpPr>
        <p:spPr>
          <a:xfrm>
            <a:off x="178560" y="4299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303200" y="424980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Прямоугольник 10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рямоугольник 11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12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3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4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5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16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17"/>
          <p:cNvSpPr/>
          <p:nvPr/>
        </p:nvSpPr>
        <p:spPr>
          <a:xfrm>
            <a:off x="1614600" y="423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18"/>
          <p:cNvSpPr/>
          <p:nvPr/>
        </p:nvSpPr>
        <p:spPr>
          <a:xfrm>
            <a:off x="1614600" y="423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олилиния 19"/>
          <p:cNvSpPr/>
          <p:nvPr/>
        </p:nvSpPr>
        <p:spPr>
          <a:xfrm>
            <a:off x="1906560" y="3227400"/>
            <a:ext cx="360" cy="468360"/>
          </a:xfrm>
          <a:custGeom>
            <a:avLst/>
            <a:gdLst/>
            <a:ahLst/>
            <a:rect l="l" t="t" r="r" b="b"/>
            <a:pathLst>
              <a:path w="0" h="561860">
                <a:moveTo>
                  <a:pt x="0" y="0"/>
                </a:moveTo>
                <a:lnTo>
                  <a:pt x="0" y="561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олилиния 21"/>
          <p:cNvSpPr/>
          <p:nvPr/>
        </p:nvSpPr>
        <p:spPr>
          <a:xfrm>
            <a:off x="2266920" y="3219480"/>
            <a:ext cx="730440" cy="482400"/>
          </a:xfrm>
          <a:custGeom>
            <a:avLst/>
            <a:gdLst>
              <a:gd name="textAreaLeft" fmla="*/ 0 w 730440"/>
              <a:gd name="textAreaRight" fmla="*/ 730800 w 73044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олилиния 22"/>
          <p:cNvSpPr/>
          <p:nvPr/>
        </p:nvSpPr>
        <p:spPr>
          <a:xfrm>
            <a:off x="2292480" y="3174840"/>
            <a:ext cx="1930320" cy="559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23"/>
          <p:cNvSpPr/>
          <p:nvPr/>
        </p:nvSpPr>
        <p:spPr>
          <a:xfrm>
            <a:off x="2324160" y="3174840"/>
            <a:ext cx="3070080" cy="587520"/>
          </a:xfrm>
          <a:custGeom>
            <a:avLst/>
            <a:gdLst>
              <a:gd name="textAreaLeft" fmla="*/ 0 w 3070080"/>
              <a:gd name="textAreaRight" fmla="*/ 3070440 w 30700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олилиния 24"/>
          <p:cNvSpPr/>
          <p:nvPr/>
        </p:nvSpPr>
        <p:spPr>
          <a:xfrm>
            <a:off x="2371680" y="3174840"/>
            <a:ext cx="4241880" cy="625680"/>
          </a:xfrm>
          <a:custGeom>
            <a:avLst/>
            <a:gdLst>
              <a:gd name="textAreaLeft" fmla="*/ 0 w 4241880"/>
              <a:gd name="textAreaRight" fmla="*/ 4242240 w 4241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Группа 30"/>
          <p:cNvGrpSpPr/>
          <p:nvPr/>
        </p:nvGrpSpPr>
        <p:grpSpPr>
          <a:xfrm>
            <a:off x="2128680" y="3875040"/>
            <a:ext cx="200160" cy="561960"/>
            <a:chOff x="2128680" y="3875040"/>
            <a:chExt cx="200160" cy="561960"/>
          </a:xfrm>
        </p:grpSpPr>
        <p:sp>
          <p:nvSpPr>
            <p:cNvPr id="1211" name="Полилиния 26"/>
            <p:cNvSpPr/>
            <p:nvPr/>
          </p:nvSpPr>
          <p:spPr>
            <a:xfrm>
              <a:off x="2224800" y="3875040"/>
              <a:ext cx="360" cy="561960"/>
            </a:xfrm>
            <a:custGeom>
              <a:avLst/>
              <a:gdLst/>
              <a:ahLst/>
              <a:rect l="l" t="t" r="r" b="b"/>
              <a:pathLst>
                <a:path w="0" h="561860">
                  <a:moveTo>
                    <a:pt x="0" y="0"/>
                  </a:moveTo>
                  <a:lnTo>
                    <a:pt x="0" y="561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Группа 29"/>
            <p:cNvGrpSpPr/>
            <p:nvPr/>
          </p:nvGrpSpPr>
          <p:grpSpPr>
            <a:xfrm>
              <a:off x="2128680" y="4021200"/>
              <a:ext cx="200160" cy="200160"/>
              <a:chOff x="2128680" y="4021200"/>
              <a:chExt cx="200160" cy="200160"/>
            </a:xfrm>
          </p:grpSpPr>
          <p:sp>
            <p:nvSpPr>
              <p:cNvPr id="1213" name="Овал 28"/>
              <p:cNvSpPr/>
              <p:nvPr/>
            </p:nvSpPr>
            <p:spPr>
              <a:xfrm>
                <a:off x="2128680" y="4021200"/>
                <a:ext cx="200160" cy="2001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Плюс 27"/>
              <p:cNvSpPr/>
              <p:nvPr/>
            </p:nvSpPr>
            <p:spPr>
              <a:xfrm>
                <a:off x="2133360" y="4025520"/>
                <a:ext cx="190800" cy="190800"/>
              </a:xfrm>
              <a:custGeom>
                <a:avLst/>
                <a:gdLst>
                  <a:gd name="textAreaLeft" fmla="*/ 25200 w 190800"/>
                  <a:gd name="textAreaRight" fmla="*/ 165600 w 190800"/>
                  <a:gd name="textAreaTop" fmla="*/ 84600 h 190800"/>
                  <a:gd name="textAreaBottom" fmla="*/ 106200 h 190800"/>
                </a:gdLst>
                <a:ahLst/>
                <a:rect l="textAreaLeft" t="textAreaTop" r="textAreaRight" b="textAreaBottom"/>
                <a:pathLst>
                  <a:path w="190500" h="190461">
                    <a:moveTo>
                      <a:pt x="25251" y="84358"/>
                    </a:moveTo>
                    <a:lnTo>
                      <a:pt x="84378" y="84358"/>
                    </a:lnTo>
                    <a:lnTo>
                      <a:pt x="84378" y="25246"/>
                    </a:lnTo>
                    <a:lnTo>
                      <a:pt x="106122" y="25246"/>
                    </a:lnTo>
                    <a:lnTo>
                      <a:pt x="106122" y="84358"/>
                    </a:lnTo>
                    <a:lnTo>
                      <a:pt x="165249" y="84358"/>
                    </a:lnTo>
                    <a:lnTo>
                      <a:pt x="165249" y="106103"/>
                    </a:lnTo>
                    <a:lnTo>
                      <a:pt x="106122" y="106103"/>
                    </a:lnTo>
                    <a:lnTo>
                      <a:pt x="106122" y="165215"/>
                    </a:lnTo>
                    <a:lnTo>
                      <a:pt x="84378" y="165215"/>
                    </a:lnTo>
                    <a:lnTo>
                      <a:pt x="84378" y="106103"/>
                    </a:lnTo>
                    <a:lnTo>
                      <a:pt x="25251" y="106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8" dur="indefinite" restart="never" nodeType="tmRoot">
          <p:childTnLst>
            <p:seq>
              <p:cTn id="3479" dur="indefinite" nodeType="mainSeq">
                <p:childTnLst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5A4F-14DD-4499-88B8-FB4060333B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719280" y="1697040"/>
            <a:ext cx="72864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/cou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9"/>
          <p:cNvSpPr/>
          <p:nvPr/>
        </p:nvSpPr>
        <p:spPr>
          <a:xfrm>
            <a:off x="5654520" y="3254400"/>
            <a:ext cx="2900520" cy="1014480"/>
          </a:xfrm>
          <a:prstGeom prst="wedgeRoundRectCallout">
            <a:avLst>
              <a:gd name="adj1" fmla="val -83296"/>
              <a:gd name="adj2" fmla="val 28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9"/>
          <p:cNvSpPr/>
          <p:nvPr/>
        </p:nvSpPr>
        <p:spPr>
          <a:xfrm>
            <a:off x="229680" y="444492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719280" y="4919760"/>
            <a:ext cx="7286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/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8"/>
          <p:cNvSpPr/>
          <p:nvPr/>
        </p:nvSpPr>
        <p:spPr>
          <a:xfrm>
            <a:off x="4092480" y="4987800"/>
            <a:ext cx="327240" cy="35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59"/>
          <p:cNvSpPr/>
          <p:nvPr/>
        </p:nvSpPr>
        <p:spPr>
          <a:xfrm>
            <a:off x="5159520" y="4435560"/>
            <a:ext cx="2955960" cy="606240"/>
          </a:xfrm>
          <a:prstGeom prst="wedgeRoundRectCallout">
            <a:avLst>
              <a:gd name="adj1" fmla="val -47638"/>
              <a:gd name="adj2" fmla="val 911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ем 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55"/>
          <p:cNvGrpSpPr/>
          <p:nvPr/>
        </p:nvGrpSpPr>
        <p:grpSpPr>
          <a:xfrm>
            <a:off x="5114880" y="1609560"/>
            <a:ext cx="3800520" cy="931680"/>
            <a:chOff x="5114880" y="1609560"/>
            <a:chExt cx="3800520" cy="931680"/>
          </a:xfrm>
        </p:grpSpPr>
        <p:sp>
          <p:nvSpPr>
            <p:cNvPr id="1224" name="Text Box 56"/>
            <p:cNvSpPr/>
            <p:nvPr/>
          </p:nvSpPr>
          <p:spPr>
            <a:xfrm>
              <a:off x="5581800" y="1715760"/>
              <a:ext cx="3333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канчивается на 5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57"/>
            <p:cNvSpPr/>
            <p:nvPr/>
          </p:nvSpPr>
          <p:spPr>
            <a:xfrm>
              <a:off x="5114880" y="1609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Прямоугольник 15"/>
          <p:cNvSpPr/>
          <p:nvPr/>
        </p:nvSpPr>
        <p:spPr>
          <a:xfrm>
            <a:off x="396720" y="84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реднее арифметическое элементов массива, которые оканчиваются на цифру 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4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9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4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EBCE-877F-447B-BA83-4538DF6000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из 5 элементов с клавиатуры и найдите среднее арифметическое его зна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 арифметическое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9720" y="3081240"/>
            <a:ext cx="8610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100] и подсчитайте отдельно среднее значение всех элементов, которые &lt;50, и среднее значение всех элементов, которые ≥5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 2 52 4 6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50 1 2 60 58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5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0: 56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A63-F258-4E2C-B48B-6F0A39E02E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69720" y="809640"/>
            <a:ext cx="842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змер массив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заполните массив из N элемен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лами Фибоначч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ервые два числа Фибоначчи равны 1, а каждое следующее равно сумме двух предыду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азмер масс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а Фибонач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1 2 3 5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0229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D160-2474-4344-AAD8-965E599159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845-860F-4C86-ABA0-56CD67A397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222840" y="806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ти элемент, равный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"/>
          <p:cNvSpPr/>
          <p:nvPr/>
        </p:nvSpPr>
        <p:spPr>
          <a:xfrm>
            <a:off x="719280" y="1303200"/>
            <a:ext cx="7611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55"/>
          <p:cNvGrpSpPr/>
          <p:nvPr/>
        </p:nvGrpSpPr>
        <p:grpSpPr>
          <a:xfrm>
            <a:off x="5521320" y="1577880"/>
            <a:ext cx="2486160" cy="663480"/>
            <a:chOff x="5521320" y="1577880"/>
            <a:chExt cx="2486160" cy="663480"/>
          </a:xfrm>
        </p:grpSpPr>
        <p:sp>
          <p:nvSpPr>
            <p:cNvPr id="1242" name="Text Box 56"/>
            <p:cNvSpPr/>
            <p:nvPr/>
          </p:nvSpPr>
          <p:spPr>
            <a:xfrm>
              <a:off x="5988240" y="1684080"/>
              <a:ext cx="2019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57"/>
            <p:cNvSpPr/>
            <p:nvPr/>
          </p:nvSpPr>
          <p:spPr>
            <a:xfrm>
              <a:off x="5521320" y="157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Плюс 10"/>
          <p:cNvSpPr/>
          <p:nvPr/>
        </p:nvSpPr>
        <p:spPr>
          <a:xfrm rot="18931800">
            <a:off x="1572840" y="1390320"/>
            <a:ext cx="1481040" cy="1481040"/>
          </a:xfrm>
          <a:custGeom>
            <a:avLst/>
            <a:gdLst>
              <a:gd name="textAreaLeft" fmla="*/ 196200 w 1481040"/>
              <a:gd name="textAreaRight" fmla="*/ 1284840 w 1481040"/>
              <a:gd name="textAreaTop" fmla="*/ 676080 h 1481040"/>
              <a:gd name="textAreaBottom" fmla="*/ 804960 h 1481040"/>
            </a:gdLst>
            <a:ahLst/>
            <a:rect l="textAreaLeft" t="textAreaTop" r="textAreaRight" b="textAreaBottom"/>
            <a:pathLst>
              <a:path w="1481137" h="1481138">
                <a:moveTo>
                  <a:pt x="196325" y="676103"/>
                </a:moveTo>
                <a:lnTo>
                  <a:pt x="676102" y="676103"/>
                </a:lnTo>
                <a:lnTo>
                  <a:pt x="676102" y="196325"/>
                </a:lnTo>
                <a:lnTo>
                  <a:pt x="805035" y="196325"/>
                </a:lnTo>
                <a:lnTo>
                  <a:pt x="805035" y="676103"/>
                </a:lnTo>
                <a:lnTo>
                  <a:pt x="1284812" y="676103"/>
                </a:lnTo>
                <a:lnTo>
                  <a:pt x="1284812" y="805035"/>
                </a:lnTo>
                <a:lnTo>
                  <a:pt x="805035" y="805035"/>
                </a:lnTo>
                <a:lnTo>
                  <a:pt x="805035" y="1284813"/>
                </a:lnTo>
                <a:lnTo>
                  <a:pt x="676102" y="1284813"/>
                </a:lnTo>
                <a:lnTo>
                  <a:pt x="676102" y="805035"/>
                </a:lnTo>
                <a:lnTo>
                  <a:pt x="196325" y="805035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719280" y="3397320"/>
            <a:ext cx="7662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55"/>
          <p:cNvGrpSpPr/>
          <p:nvPr/>
        </p:nvGrpSpPr>
        <p:grpSpPr>
          <a:xfrm>
            <a:off x="4782960" y="4210200"/>
            <a:ext cx="3984840" cy="663480"/>
            <a:chOff x="4782960" y="4210200"/>
            <a:chExt cx="3984840" cy="663480"/>
          </a:xfrm>
        </p:grpSpPr>
        <p:sp>
          <p:nvSpPr>
            <p:cNvPr id="1247" name="Text Box 56"/>
            <p:cNvSpPr/>
            <p:nvPr/>
          </p:nvSpPr>
          <p:spPr>
            <a:xfrm>
              <a:off x="5249880" y="4316400"/>
              <a:ext cx="351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если такого н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57"/>
            <p:cNvSpPr/>
            <p:nvPr/>
          </p:nvSpPr>
          <p:spPr>
            <a:xfrm>
              <a:off x="4782960" y="4210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Прямоугольник 16"/>
          <p:cNvSpPr/>
          <p:nvPr/>
        </p:nvSpPr>
        <p:spPr>
          <a:xfrm>
            <a:off x="1874880" y="3751200"/>
            <a:ext cx="904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6" dur="indefinite" restart="never" nodeType="tmRoot">
          <p:childTnLst>
            <p:seq>
              <p:cTn id="3667" dur="indefinite" nodeType="mainSeq">
                <p:childTnLst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1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1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E66-A20D-44DF-A79C-AD9E465008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9280" y="2211480"/>
            <a:ext cx="77007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5"/>
          <p:cNvSpPr/>
          <p:nvPr/>
        </p:nvSpPr>
        <p:spPr>
          <a:xfrm>
            <a:off x="336240" y="8064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с досрочным вых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6"/>
          <p:cNvSpPr/>
          <p:nvPr/>
        </p:nvSpPr>
        <p:spPr>
          <a:xfrm>
            <a:off x="1534320" y="369576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59"/>
          <p:cNvSpPr/>
          <p:nvPr/>
        </p:nvSpPr>
        <p:spPr>
          <a:xfrm>
            <a:off x="3705120" y="3456000"/>
            <a:ext cx="2670120" cy="722160"/>
          </a:xfrm>
          <a:prstGeom prst="wedgeRoundRectCallout">
            <a:avLst>
              <a:gd name="adj1" fmla="val -91486"/>
              <a:gd name="adj2" fmla="val 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рочный выход из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9"/>
          <p:cNvSpPr/>
          <p:nvPr/>
        </p:nvSpPr>
        <p:spPr>
          <a:xfrm>
            <a:off x="1546200" y="1398600"/>
            <a:ext cx="3063960" cy="798480"/>
          </a:xfrm>
          <a:prstGeom prst="wedgeRoundRectCallout">
            <a:avLst>
              <a:gd name="adj1" fmla="val -63527"/>
              <a:gd name="adj2" fmla="val 59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найде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0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0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3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1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6"/>
          <p:cNvSpPr/>
          <p:nvPr/>
        </p:nvSpPr>
        <p:spPr>
          <a:xfrm>
            <a:off x="719280" y="1309680"/>
            <a:ext cx="7700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649F-7F8B-4498-BA94-8C39510B43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оугольник 5"/>
          <p:cNvSpPr/>
          <p:nvPr/>
        </p:nvSpPr>
        <p:spPr>
          <a:xfrm>
            <a:off x="240840" y="8064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Группа 11"/>
          <p:cNvGrpSpPr/>
          <p:nvPr/>
        </p:nvGrpSpPr>
        <p:grpSpPr>
          <a:xfrm>
            <a:off x="250920" y="3035160"/>
            <a:ext cx="6987960" cy="1320840"/>
            <a:chOff x="250920" y="3035160"/>
            <a:chExt cx="6987960" cy="1320840"/>
          </a:xfrm>
        </p:grpSpPr>
        <p:sp>
          <p:nvSpPr>
            <p:cNvPr id="1262" name="Равнобедренный треугольник 10"/>
            <p:cNvSpPr/>
            <p:nvPr/>
          </p:nvSpPr>
          <p:spPr>
            <a:xfrm>
              <a:off x="799920" y="303516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59"/>
            <p:cNvSpPr/>
            <p:nvPr/>
          </p:nvSpPr>
          <p:spPr>
            <a:xfrm>
              <a:off x="250920" y="3735360"/>
              <a:ext cx="6987960" cy="62064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не было досрочного выхода из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Rectangle 6"/>
          <p:cNvSpPr/>
          <p:nvPr/>
        </p:nvSpPr>
        <p:spPr>
          <a:xfrm>
            <a:off x="719280" y="4484520"/>
            <a:ext cx="7700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1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5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8" dur="500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097-04DF-453C-ABB6-607A7FD8DD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7720" cy="120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20D2-DFE8-4FAE-A91F-73053EA734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диапазоне [100,200]. Найдите первое число в  массиве, у которого последняя цифра – 2. Если такого числа нет, вывести ответ «Не нашл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2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шли: A[4]=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3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D9DE-ADE9-40A4-B445-C5DFEE1B4E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69720" y="809640"/>
            <a:ext cx="84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Введите число X и найдите все значения, равные 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5]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3005-9842-4614-A54A-703B9F95CF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Найдите пару одинаковых элементов, стоящих ряд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3 4 1 5 1 3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A[3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2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5 1 2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68E-4682-40CF-93FA-2F3DE729E8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69720" y="80964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 массиве максималь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9"/>
          <p:cNvGrpSpPr/>
          <p:nvPr/>
        </p:nvGrpSpPr>
        <p:grpSpPr>
          <a:xfrm>
            <a:off x="245880" y="1784520"/>
            <a:ext cx="1451880" cy="1888560"/>
            <a:chOff x="245880" y="1784520"/>
            <a:chExt cx="1451880" cy="1888560"/>
          </a:xfrm>
        </p:grpSpPr>
        <p:pic>
          <p:nvPicPr>
            <p:cNvPr id="1278" name="Picture 5" descr="Ученица"/>
            <p:cNvPicPr/>
            <p:nvPr/>
          </p:nvPicPr>
          <p:blipFill>
            <a:blip r:embed="rId1"/>
            <a:stretch/>
          </p:blipFill>
          <p:spPr>
            <a:xfrm flipH="1">
              <a:off x="245880" y="1784520"/>
              <a:ext cx="145188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8" descr=""/>
            <p:cNvPicPr/>
            <p:nvPr/>
          </p:nvPicPr>
          <p:blipFill>
            <a:blip r:embed="rId2"/>
            <a:stretch/>
          </p:blipFill>
          <p:spPr>
            <a:xfrm>
              <a:off x="481320" y="2629800"/>
              <a:ext cx="91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0" name="Group 28"/>
          <p:cNvGrpSpPr/>
          <p:nvPr/>
        </p:nvGrpSpPr>
        <p:grpSpPr>
          <a:xfrm>
            <a:off x="1371600" y="1819440"/>
            <a:ext cx="1452240" cy="1888560"/>
            <a:chOff x="1371600" y="1819440"/>
            <a:chExt cx="1452240" cy="1888560"/>
          </a:xfrm>
        </p:grpSpPr>
        <p:grpSp>
          <p:nvGrpSpPr>
            <p:cNvPr id="1281" name="Group 24"/>
            <p:cNvGrpSpPr/>
            <p:nvPr/>
          </p:nvGrpSpPr>
          <p:grpSpPr>
            <a:xfrm>
              <a:off x="1371600" y="1819440"/>
              <a:ext cx="1452240" cy="1888560"/>
              <a:chOff x="1371600" y="1819440"/>
              <a:chExt cx="1452240" cy="1888560"/>
            </a:xfrm>
          </p:grpSpPr>
          <p:pic>
            <p:nvPicPr>
              <p:cNvPr id="1282" name="Picture 25" descr="Ученица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71600" y="18194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6680" y="26647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4" name="Picture 27" descr="Ананас"/>
            <p:cNvPicPr/>
            <p:nvPr/>
          </p:nvPicPr>
          <p:blipFill>
            <a:blip r:embed="rId5"/>
            <a:srcRect l="7532" t="3694" r="7109" b="8776"/>
            <a:stretch/>
          </p:blipFill>
          <p:spPr>
            <a:xfrm rot="16200000">
              <a:off x="1829880" y="2454480"/>
              <a:ext cx="3855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Group 41"/>
          <p:cNvGrpSpPr/>
          <p:nvPr/>
        </p:nvGrpSpPr>
        <p:grpSpPr>
          <a:xfrm>
            <a:off x="5832360" y="1812960"/>
            <a:ext cx="1452240" cy="1888560"/>
            <a:chOff x="5832360" y="1812960"/>
            <a:chExt cx="1452240" cy="1888560"/>
          </a:xfrm>
        </p:grpSpPr>
        <p:grpSp>
          <p:nvGrpSpPr>
            <p:cNvPr id="1286" name="Group 35"/>
            <p:cNvGrpSpPr/>
            <p:nvPr/>
          </p:nvGrpSpPr>
          <p:grpSpPr>
            <a:xfrm>
              <a:off x="5832360" y="1812960"/>
              <a:ext cx="1452240" cy="1888560"/>
              <a:chOff x="5832360" y="1812960"/>
              <a:chExt cx="1452240" cy="1888560"/>
            </a:xfrm>
          </p:grpSpPr>
          <p:pic>
            <p:nvPicPr>
              <p:cNvPr id="1287" name="Picture 36" descr="Ученица"/>
              <p:cNvPicPr/>
              <p:nvPr/>
            </p:nvPicPr>
            <p:blipFill>
              <a:blip r:embed="rId6"/>
              <a:stretch/>
            </p:blipFill>
            <p:spPr>
              <a:xfrm flipH="1">
                <a:off x="5832360" y="18129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7440" y="26582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9" name="Picture 38" descr="Ананас"/>
            <p:cNvPicPr/>
            <p:nvPr/>
          </p:nvPicPr>
          <p:blipFill>
            <a:blip r:embed="rId8"/>
            <a:srcRect l="7532" t="3694" r="7109" b="8776"/>
            <a:stretch/>
          </p:blipFill>
          <p:spPr>
            <a:xfrm rot="16200000">
              <a:off x="6050520" y="2127600"/>
              <a:ext cx="66672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43"/>
          <p:cNvGrpSpPr/>
          <p:nvPr/>
        </p:nvGrpSpPr>
        <p:grpSpPr>
          <a:xfrm>
            <a:off x="2820960" y="1798560"/>
            <a:ext cx="1452240" cy="1888560"/>
            <a:chOff x="2820960" y="1798560"/>
            <a:chExt cx="1452240" cy="1888560"/>
          </a:xfrm>
        </p:grpSpPr>
        <p:grpSp>
          <p:nvGrpSpPr>
            <p:cNvPr id="1291" name="Group 29"/>
            <p:cNvGrpSpPr/>
            <p:nvPr/>
          </p:nvGrpSpPr>
          <p:grpSpPr>
            <a:xfrm>
              <a:off x="2820960" y="1798560"/>
              <a:ext cx="1452240" cy="1888560"/>
              <a:chOff x="2820960" y="1798560"/>
              <a:chExt cx="1452240" cy="1888560"/>
            </a:xfrm>
          </p:grpSpPr>
          <p:pic>
            <p:nvPicPr>
              <p:cNvPr id="1292" name="Picture 30" descr="Ученица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20960" y="17985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6040" y="26438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4" name="Picture 39" descr="Ананас"/>
            <p:cNvPicPr/>
            <p:nvPr/>
          </p:nvPicPr>
          <p:blipFill>
            <a:blip r:embed="rId11"/>
            <a:srcRect l="7532" t="3694" r="7109" b="8776"/>
            <a:stretch/>
          </p:blipFill>
          <p:spPr>
            <a:xfrm rot="16200000">
              <a:off x="3166920" y="2334600"/>
              <a:ext cx="46044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42"/>
          <p:cNvGrpSpPr/>
          <p:nvPr/>
        </p:nvGrpSpPr>
        <p:grpSpPr>
          <a:xfrm>
            <a:off x="4287960" y="1805040"/>
            <a:ext cx="1452240" cy="1888560"/>
            <a:chOff x="4287960" y="1805040"/>
            <a:chExt cx="1452240" cy="1888560"/>
          </a:xfrm>
        </p:grpSpPr>
        <p:grpSp>
          <p:nvGrpSpPr>
            <p:cNvPr id="1296" name="Group 32"/>
            <p:cNvGrpSpPr/>
            <p:nvPr/>
          </p:nvGrpSpPr>
          <p:grpSpPr>
            <a:xfrm>
              <a:off x="4287960" y="1805040"/>
              <a:ext cx="1452240" cy="1888560"/>
              <a:chOff x="4287960" y="1805040"/>
              <a:chExt cx="1452240" cy="1888560"/>
            </a:xfrm>
          </p:grpSpPr>
          <p:pic>
            <p:nvPicPr>
              <p:cNvPr id="1297" name="Picture 33" descr="Ученица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287960" y="18050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23040" y="26503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9" name="Picture 40" descr="Ананас"/>
            <p:cNvPicPr/>
            <p:nvPr/>
          </p:nvPicPr>
          <p:blipFill>
            <a:blip r:embed="rId14"/>
            <a:srcRect l="7532" t="3694" r="7109" b="8776"/>
            <a:stretch/>
          </p:blipFill>
          <p:spPr>
            <a:xfrm rot="16200000">
              <a:off x="4602600" y="2266200"/>
              <a:ext cx="5346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4"/>
          <p:cNvGrpSpPr/>
          <p:nvPr/>
        </p:nvGrpSpPr>
        <p:grpSpPr>
          <a:xfrm>
            <a:off x="7375320" y="1798560"/>
            <a:ext cx="1451880" cy="1888560"/>
            <a:chOff x="7375320" y="1798560"/>
            <a:chExt cx="1451880" cy="1888560"/>
          </a:xfrm>
        </p:grpSpPr>
        <p:grpSp>
          <p:nvGrpSpPr>
            <p:cNvPr id="1301" name="Group 45"/>
            <p:cNvGrpSpPr/>
            <p:nvPr/>
          </p:nvGrpSpPr>
          <p:grpSpPr>
            <a:xfrm>
              <a:off x="7375320" y="1798560"/>
              <a:ext cx="1451880" cy="1888560"/>
              <a:chOff x="7375320" y="1798560"/>
              <a:chExt cx="1451880" cy="1888560"/>
            </a:xfrm>
          </p:grpSpPr>
          <p:pic>
            <p:nvPicPr>
              <p:cNvPr id="1302" name="Picture 46" descr="Ученица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375320" y="1798560"/>
                <a:ext cx="145188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0760" y="2643840"/>
                <a:ext cx="91404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4" name="Picture 48" descr="Ананас"/>
            <p:cNvPicPr/>
            <p:nvPr/>
          </p:nvPicPr>
          <p:blipFill>
            <a:blip r:embed="rId17"/>
            <a:srcRect l="7532" t="3694" r="7109" b="8776"/>
            <a:stretch/>
          </p:blipFill>
          <p:spPr>
            <a:xfrm rot="16200000">
              <a:off x="7593480" y="2113560"/>
              <a:ext cx="666720" cy="90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5" name="Picture 10" descr="Ананас"/>
          <p:cNvPicPr/>
          <p:nvPr/>
        </p:nvPicPr>
        <p:blipFill>
          <a:blip r:embed="rId18"/>
          <a:srcRect l="7532" t="3694" r="7109" b="8776"/>
          <a:stretch/>
        </p:blipFill>
        <p:spPr>
          <a:xfrm>
            <a:off x="6157800" y="2741760"/>
            <a:ext cx="666720" cy="9032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Ананас"/>
          <p:cNvPicPr/>
          <p:nvPr/>
        </p:nvPicPr>
        <p:blipFill>
          <a:blip r:embed="rId19"/>
          <a:srcRect l="7532" t="3694" r="7109" b="8776"/>
          <a:stretch/>
        </p:blipFill>
        <p:spPr>
          <a:xfrm>
            <a:off x="3279600" y="3019320"/>
            <a:ext cx="460440" cy="6256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7" descr="Ананас"/>
          <p:cNvPicPr/>
          <p:nvPr/>
        </p:nvPicPr>
        <p:blipFill>
          <a:blip r:embed="rId20"/>
          <a:srcRect l="7532" t="3694" r="7109" b="8776"/>
          <a:stretch/>
        </p:blipFill>
        <p:spPr>
          <a:xfrm>
            <a:off x="4657680" y="2919240"/>
            <a:ext cx="534960" cy="7257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8" descr="Ананас"/>
          <p:cNvPicPr/>
          <p:nvPr/>
        </p:nvPicPr>
        <p:blipFill>
          <a:blip r:embed="rId21"/>
          <a:srcRect l="7532" t="3694" r="7109" b="8776"/>
          <a:stretch/>
        </p:blipFill>
        <p:spPr>
          <a:xfrm>
            <a:off x="1901880" y="3121200"/>
            <a:ext cx="385560" cy="52380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9" descr="Ананас"/>
          <p:cNvPicPr/>
          <p:nvPr/>
        </p:nvPicPr>
        <p:blipFill>
          <a:blip r:embed="rId22"/>
          <a:srcRect l="7532" t="3694" r="7109" b="8776"/>
          <a:stretch/>
        </p:blipFill>
        <p:spPr>
          <a:xfrm>
            <a:off x="7642080" y="2955960"/>
            <a:ext cx="508320" cy="68904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49" descr="Ананас"/>
          <p:cNvPicPr/>
          <p:nvPr/>
        </p:nvPicPr>
        <p:blipFill>
          <a:blip r:embed="rId23"/>
          <a:srcRect l="3695" t="7111" r="8778" b="7534"/>
          <a:stretch/>
        </p:blipFill>
        <p:spPr>
          <a:xfrm>
            <a:off x="4070520" y="3174840"/>
            <a:ext cx="625320" cy="4604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0" descr="Ананас"/>
          <p:cNvPicPr/>
          <p:nvPr/>
        </p:nvPicPr>
        <p:blipFill>
          <a:blip r:embed="rId24"/>
          <a:srcRect l="3695" t="7111" r="8778" b="7534"/>
          <a:stretch/>
        </p:blipFill>
        <p:spPr>
          <a:xfrm>
            <a:off x="5468760" y="3098880"/>
            <a:ext cx="725760" cy="5349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1" descr="Ананас"/>
          <p:cNvPicPr/>
          <p:nvPr/>
        </p:nvPicPr>
        <p:blipFill>
          <a:blip r:embed="rId25"/>
          <a:srcRect l="3670" t="7154" r="8785" b="7552"/>
          <a:stretch/>
        </p:blipFill>
        <p:spPr>
          <a:xfrm>
            <a:off x="2811600" y="3265560"/>
            <a:ext cx="523800" cy="385560"/>
          </a:xfrm>
          <a:prstGeom prst="rect">
            <a:avLst/>
          </a:prstGeom>
          <a:ln w="0">
            <a:noFill/>
          </a:ln>
        </p:spPr>
      </p:pic>
      <p:sp>
        <p:nvSpPr>
          <p:cNvPr id="1313" name="AutoShape 20"/>
          <p:cNvSpPr/>
          <p:nvPr/>
        </p:nvSpPr>
        <p:spPr>
          <a:xfrm rot="10800000">
            <a:off x="2970360" y="1782000"/>
            <a:ext cx="568152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1"/>
          <p:cNvSpPr/>
          <p:nvPr/>
        </p:nvSpPr>
        <p:spPr>
          <a:xfrm rot="10800000">
            <a:off x="4265640" y="1782000"/>
            <a:ext cx="438480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2"/>
          <p:cNvSpPr/>
          <p:nvPr/>
        </p:nvSpPr>
        <p:spPr>
          <a:xfrm rot="10800000">
            <a:off x="5665320" y="1782000"/>
            <a:ext cx="298476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23"/>
          <p:cNvSpPr/>
          <p:nvPr/>
        </p:nvSpPr>
        <p:spPr>
          <a:xfrm rot="10800000">
            <a:off x="7345080" y="1782360"/>
            <a:ext cx="130644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5"/>
          <p:cNvSpPr/>
          <p:nvPr/>
        </p:nvSpPr>
        <p:spPr>
          <a:xfrm>
            <a:off x="406440" y="3797280"/>
            <a:ext cx="85215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читаем, что первый элемент – максима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мотреть остальные элементы массива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чередной элемен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то записать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ести знач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2" dur="indefinite" restart="never" nodeType="tmRoot">
          <p:childTnLst>
            <p:seq>
              <p:cTn id="3833" dur="indefinite" nodeType="mainSeq">
                <p:childTnLst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fill="hold">
                      <p:stCondLst>
                        <p:cond delay="indefinite"/>
                      </p:stCondLst>
                      <p:childTnLst>
                        <p:par>
                          <p:cTn id="3867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6" dur="500"/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89A-FE7A-4DB2-A967-FFDEC4E79C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90680" y="936720"/>
            <a:ext cx="4708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490680" y="3433680"/>
            <a:ext cx="4728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55"/>
          <p:cNvGrpSpPr/>
          <p:nvPr/>
        </p:nvGrpSpPr>
        <p:grpSpPr>
          <a:xfrm>
            <a:off x="4516560" y="3983040"/>
            <a:ext cx="4149720" cy="663480"/>
            <a:chOff x="4516560" y="3983040"/>
            <a:chExt cx="4149720" cy="663480"/>
          </a:xfrm>
        </p:grpSpPr>
        <p:sp>
          <p:nvSpPr>
            <p:cNvPr id="1323" name="Text Box 56"/>
            <p:cNvSpPr/>
            <p:nvPr/>
          </p:nvSpPr>
          <p:spPr>
            <a:xfrm>
              <a:off x="4983480" y="4089240"/>
              <a:ext cx="368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его номер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57"/>
            <p:cNvSpPr/>
            <p:nvPr/>
          </p:nvSpPr>
          <p:spPr>
            <a:xfrm>
              <a:off x="4516560" y="398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5"/>
          <p:cNvSpPr/>
          <p:nvPr/>
        </p:nvSpPr>
        <p:spPr>
          <a:xfrm>
            <a:off x="240840" y="29527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490680" y="5135400"/>
            <a:ext cx="472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55"/>
          <p:cNvGrpSpPr/>
          <p:nvPr/>
        </p:nvGrpSpPr>
        <p:grpSpPr>
          <a:xfrm>
            <a:off x="3614760" y="1887480"/>
            <a:ext cx="3357720" cy="663480"/>
            <a:chOff x="3614760" y="1887480"/>
            <a:chExt cx="3357720" cy="663480"/>
          </a:xfrm>
        </p:grpSpPr>
        <p:sp>
          <p:nvSpPr>
            <p:cNvPr id="1328" name="Text Box 56"/>
            <p:cNvSpPr/>
            <p:nvPr/>
          </p:nvSpPr>
          <p:spPr>
            <a:xfrm>
              <a:off x="4081680" y="1993680"/>
              <a:ext cx="2890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57"/>
            <p:cNvSpPr/>
            <p:nvPr/>
          </p:nvSpPr>
          <p:spPr>
            <a:xfrm>
              <a:off x="3614760" y="1887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9" dur="500"/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D34-CEB1-43EC-BDAE-F5BB5A7E79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Группа 8"/>
          <p:cNvGrpSpPr/>
          <p:nvPr/>
        </p:nvGrpSpPr>
        <p:grpSpPr>
          <a:xfrm>
            <a:off x="515880" y="1020600"/>
            <a:ext cx="7980480" cy="2288520"/>
            <a:chOff x="515880" y="1020600"/>
            <a:chExt cx="7980480" cy="2288520"/>
          </a:xfrm>
        </p:grpSpPr>
        <p:sp>
          <p:nvSpPr>
            <p:cNvPr id="1333" name="Rectangle 6"/>
            <p:cNvSpPr/>
            <p:nvPr/>
          </p:nvSpPr>
          <p:spPr>
            <a:xfrm>
              <a:off x="515880" y="1020600"/>
              <a:ext cx="7980480" cy="22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]; nMax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for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 </a:t>
              </a: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n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range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A[i]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i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print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A[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nMax,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]=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M, sep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Прямоугольник 6"/>
            <p:cNvSpPr/>
            <p:nvPr/>
          </p:nvSpPr>
          <p:spPr>
            <a:xfrm>
              <a:off x="2189880" y="1047240"/>
              <a:ext cx="17978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b0f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Прямоугольник 7"/>
            <p:cNvSpPr/>
            <p:nvPr/>
          </p:nvSpPr>
          <p:spPr>
            <a:xfrm>
              <a:off x="1334160" y="2522160"/>
              <a:ext cx="17996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55"/>
          <p:cNvGrpSpPr/>
          <p:nvPr/>
        </p:nvGrpSpPr>
        <p:grpSpPr>
          <a:xfrm>
            <a:off x="4516560" y="1925640"/>
            <a:ext cx="3976200" cy="663480"/>
            <a:chOff x="4516560" y="1925640"/>
            <a:chExt cx="3976200" cy="663480"/>
          </a:xfrm>
        </p:grpSpPr>
        <p:sp>
          <p:nvSpPr>
            <p:cNvPr id="1337" name="Text Box 56"/>
            <p:cNvSpPr/>
            <p:nvPr/>
          </p:nvSpPr>
          <p:spPr>
            <a:xfrm>
              <a:off x="4983120" y="2031840"/>
              <a:ext cx="3509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ожно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4516560" y="1925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55"/>
          <p:cNvGrpSpPr/>
          <p:nvPr/>
        </p:nvGrpSpPr>
        <p:grpSpPr>
          <a:xfrm>
            <a:off x="938160" y="3468600"/>
            <a:ext cx="7267680" cy="663480"/>
            <a:chOff x="938160" y="3468600"/>
            <a:chExt cx="7267680" cy="663480"/>
          </a:xfrm>
        </p:grpSpPr>
        <p:sp>
          <p:nvSpPr>
            <p:cNvPr id="1340" name="Text Box 56"/>
            <p:cNvSpPr/>
            <p:nvPr/>
          </p:nvSpPr>
          <p:spPr>
            <a:xfrm>
              <a:off x="1405080" y="3574800"/>
              <a:ext cx="680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номеру элемента можно найти знач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57"/>
            <p:cNvSpPr/>
            <p:nvPr/>
          </p:nvSpPr>
          <p:spPr>
            <a:xfrm>
              <a:off x="938160" y="3468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Группа 7" descr=""/>
          <p:cNvPicPr/>
          <p:nvPr/>
        </p:nvPicPr>
        <p:blipFill>
          <a:blip r:embed="rId1"/>
          <a:stretch/>
        </p:blipFill>
        <p:spPr>
          <a:xfrm>
            <a:off x="517680" y="4237200"/>
            <a:ext cx="8510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1" dur="indefinite" restart="never" nodeType="tmRoot">
          <p:childTnLst>
            <p:seq>
              <p:cTn id="4022" dur="indefinite" nodeType="mainSeq">
                <p:childTnLst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3D5-C836-47A6-BE23-8B39E859F7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490680" y="1279440"/>
            <a:ext cx="827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a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Ma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Прямоугольник 5"/>
          <p:cNvSpPr/>
          <p:nvPr/>
        </p:nvSpPr>
        <p:spPr>
          <a:xfrm>
            <a:off x="240120" y="831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Группа 12"/>
          <p:cNvGrpSpPr/>
          <p:nvPr/>
        </p:nvGrpSpPr>
        <p:grpSpPr>
          <a:xfrm>
            <a:off x="2270160" y="1994040"/>
            <a:ext cx="3940200" cy="1485720"/>
            <a:chOff x="2270160" y="1994040"/>
            <a:chExt cx="3940200" cy="1485720"/>
          </a:xfrm>
        </p:grpSpPr>
        <p:sp>
          <p:nvSpPr>
            <p:cNvPr id="1348" name="Равнобедренный треугольник 13"/>
            <p:cNvSpPr/>
            <p:nvPr/>
          </p:nvSpPr>
          <p:spPr>
            <a:xfrm>
              <a:off x="2819160" y="199404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59"/>
            <p:cNvSpPr/>
            <p:nvPr/>
          </p:nvSpPr>
          <p:spPr>
            <a:xfrm>
              <a:off x="2270160" y="2693880"/>
              <a:ext cx="3940200" cy="78588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мер заданного элемента (первого из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3" dur="indefinite" restart="never" nodeType="tmRoot">
          <p:childTnLst>
            <p:seq>
              <p:cTn id="4044" dur="indefinite" nodeType="mainSeq">
                <p:childTnLst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2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7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9159-2441-4A70-80E6-9C8DA78F42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элемент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го но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5327-8AC0-42E1-94B7-32CAEAEF4A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9]=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65C3-F728-4C49-8EFE-CD605F45DE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369720" y="7970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и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лементов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чётный: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чёт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158-7D99-4C79-8B40-30E0EF71A2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5D2-AE5F-4F6D-8315-24E8B2E837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5"/>
          <p:cNvSpPr/>
          <p:nvPr/>
        </p:nvSpPr>
        <p:spPr>
          <a:xfrm>
            <a:off x="369720" y="8254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массив из 5 элементов и найти два максимальных элемента массива 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3 4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A[1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максимум: A[2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FE2-1D84-41A7-829A-F3710C27D5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с клавиатуры и найдите (за один проход) количество элементов, имеющих максимальное зна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 4 5 5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ое значение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элементов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26AD-7292-40A6-AD2D-CCEE16715C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F1FA-AB9F-4174-81AB-57904EDECC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4AD-8DAB-47B7-81ED-3BB47520F2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73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>
              <a:gd name="textAreaLeft" fmla="*/ 142560 w 1076400"/>
              <a:gd name="textAreaRight" fmla="*/ 933840 w 1076400"/>
              <a:gd name="textAreaTop" fmla="*/ 497880 h 1076400"/>
              <a:gd name="textAreaBottom" fmla="*/ 578520 h 1076400"/>
            </a:gdLst>
            <a:ahLst/>
            <a:rect l="textAreaLeft" t="textAreaTop" r="textAreaRight" b="textAreaBottom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ACC6-EFF1-4554-B607-9B1E6A4EBE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5"/>
          <p:cNvGrpSpPr/>
          <p:nvPr/>
        </p:nvGrpSpPr>
        <p:grpSpPr>
          <a:xfrm>
            <a:off x="689040" y="2876400"/>
            <a:ext cx="7560720" cy="1800360"/>
            <a:chOff x="689040" y="2876400"/>
            <a:chExt cx="7560720" cy="1800360"/>
          </a:xfrm>
        </p:grpSpPr>
        <p:sp>
          <p:nvSpPr>
            <p:cNvPr id="287" name="Text Box 56"/>
            <p:cNvSpPr/>
            <p:nvPr/>
          </p:nvSpPr>
          <p:spPr>
            <a:xfrm>
              <a:off x="1155600" y="298260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7"/>
            <p:cNvSpPr/>
            <p:nvPr/>
          </p:nvSpPr>
          <p:spPr>
            <a:xfrm>
              <a:off x="689040" y="2876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90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B889-B5EA-41EF-AA01-B7E0DE9A54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14880" y="187956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303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306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7"/>
          <p:cNvSpPr/>
          <p:nvPr/>
        </p:nvSpPr>
        <p:spPr>
          <a:xfrm>
            <a:off x="3156120" y="513396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156120" y="58006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297080" y="4379760"/>
            <a:ext cx="2639880" cy="804960"/>
          </a:xfrm>
          <a:prstGeom prst="wedgeRoundRectCallout">
            <a:avLst>
              <a:gd name="adj1" fmla="val 61342"/>
              <a:gd name="adj2" fmla="val 59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CDB-08C4-4B50-91E4-6A5EE4BBD1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927000"/>
            <a:ext cx="699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53200" y="1527120"/>
            <a:ext cx="1919160" cy="484200"/>
          </a:xfrm>
          <a:prstGeom prst="wedgeRoundRectCallout">
            <a:avLst>
              <a:gd name="adj1" fmla="val -44888"/>
              <a:gd name="adj2" fmla="val -8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3"/>
          <p:cNvSpPr/>
          <p:nvPr/>
        </p:nvSpPr>
        <p:spPr>
          <a:xfrm>
            <a:off x="419040" y="14828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4"/>
          <p:cNvSpPr/>
          <p:nvPr/>
        </p:nvSpPr>
        <p:spPr>
          <a:xfrm>
            <a:off x="3592440" y="14828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1335240" y="2101680"/>
            <a:ext cx="2538000" cy="663480"/>
            <a:chOff x="1335240" y="2101680"/>
            <a:chExt cx="2538000" cy="663480"/>
          </a:xfrm>
        </p:grpSpPr>
        <p:sp>
          <p:nvSpPr>
            <p:cNvPr id="318" name="Text Box 56"/>
            <p:cNvSpPr/>
            <p:nvPr/>
          </p:nvSpPr>
          <p:spPr>
            <a:xfrm>
              <a:off x="1801800" y="2207880"/>
              <a:ext cx="207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 так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1335240" y="210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80880" y="2981160"/>
            <a:ext cx="78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2A2-D771-48E6-ACED-0D97CE374D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>
              <a:gd name="textAreaLeft" fmla="*/ 84600 w 638280"/>
              <a:gd name="textAreaRight" fmla="*/ 553680 w 63828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>
              <a:gd name="textAreaLeft" fmla="*/ 84240 w 636840"/>
              <a:gd name="textAreaRight" fmla="*/ 552600 w 63684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4358880"/>
            <a:ext cx="76197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E65-C9B3-48E8-8A2C-F19F7DC5FF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E5BB-FAA3-4E84-8F27-6026480A5D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46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BAA-123E-4885-9AB5-D62BCF2D13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1360" y="90972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097000" y="15066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41360" y="212400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}+{}={}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(a, b, c 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899D-67CD-4D9C-9E93-E4F84F4D13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66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106-6167-45AF-8880-475D399379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30AE-5F5B-4B30-B6CC-68F3254E65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90B-8F35-457B-B0CF-0C67E13973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2A15-9F18-4277-A777-A4668F3EE5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ое вы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AC37-B54C-40A3-9373-A8483B4105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21280" y="1216080"/>
            <a:ext cx="5470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410760" y="1743120"/>
            <a:ext cx="491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ши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 и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ение и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4476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2977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167616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643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45662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518472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Группа 12"/>
          <p:cNvGrpSpPr/>
          <p:nvPr/>
        </p:nvGrpSpPr>
        <p:grpSpPr>
          <a:xfrm>
            <a:off x="5602320" y="1892160"/>
            <a:ext cx="3300480" cy="1189080"/>
            <a:chOff x="5602320" y="1892160"/>
            <a:chExt cx="3300480" cy="1189080"/>
          </a:xfrm>
        </p:grpSpPr>
        <p:sp>
          <p:nvSpPr>
            <p:cNvPr id="395" name="Блок-схема: процесс 13"/>
            <p:cNvSpPr/>
            <p:nvPr/>
          </p:nvSpPr>
          <p:spPr>
            <a:xfrm>
              <a:off x="5602320" y="1892160"/>
              <a:ext cx="3300480" cy="1176480"/>
            </a:xfrm>
            <a:prstGeom prst="flowChartProcess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12"/>
                <p:cNvSpPr txBox="1"/>
                <p:nvPr/>
              </p:nvSpPr>
              <p:spPr>
                <a:xfrm>
                  <a:off x="5789520" y="1990440"/>
                  <a:ext cx="29433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Овал 15"/>
          <p:cNvSpPr/>
          <p:nvPr/>
        </p:nvSpPr>
        <p:spPr>
          <a:xfrm>
            <a:off x="8269200" y="2271600"/>
            <a:ext cx="568440" cy="567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4"/>
          <p:cNvGrpSpPr/>
          <p:nvPr/>
        </p:nvGrpSpPr>
        <p:grpSpPr>
          <a:xfrm>
            <a:off x="460800" y="4087800"/>
            <a:ext cx="4444560" cy="969120"/>
            <a:chOff x="460800" y="4087800"/>
            <a:chExt cx="4444560" cy="969120"/>
          </a:xfrm>
        </p:grpSpPr>
        <p:sp>
          <p:nvSpPr>
            <p:cNvPr id="399" name="Прямоугольник 16"/>
            <p:cNvSpPr/>
            <p:nvPr/>
          </p:nvSpPr>
          <p:spPr>
            <a:xfrm>
              <a:off x="460800" y="4109760"/>
              <a:ext cx="44341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/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0"/>
            <p:cNvGrpSpPr/>
            <p:nvPr/>
          </p:nvGrpSpPr>
          <p:grpSpPr>
            <a:xfrm>
              <a:off x="4392360" y="4087800"/>
              <a:ext cx="513000" cy="541800"/>
              <a:chOff x="4392360" y="4087800"/>
              <a:chExt cx="513000" cy="541800"/>
            </a:xfrm>
          </p:grpSpPr>
          <p:sp>
            <p:nvSpPr>
              <p:cNvPr id="401" name="Овал 17"/>
              <p:cNvSpPr/>
              <p:nvPr/>
            </p:nvSpPr>
            <p:spPr>
              <a:xfrm>
                <a:off x="4392360" y="4087800"/>
                <a:ext cx="513000" cy="51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оугольник 19"/>
              <p:cNvSpPr/>
              <p:nvPr/>
            </p:nvSpPr>
            <p:spPr>
              <a:xfrm>
                <a:off x="4460040" y="4109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utoShape 7"/>
          <p:cNvSpPr/>
          <p:nvPr/>
        </p:nvSpPr>
        <p:spPr>
          <a:xfrm>
            <a:off x="5452920" y="3583080"/>
            <a:ext cx="3067200" cy="8064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на следующ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446040" y="5346720"/>
            <a:ext cx="4557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       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452920" y="4937040"/>
            <a:ext cx="3067200" cy="8082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внутри скобок разреш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A01-7C9E-4D81-B63D-23F914B492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92040" y="8096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о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579600" y="1265400"/>
            <a:ext cx="5186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392040" y="358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«вниз»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79600" y="4040280"/>
            <a:ext cx="52228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F1C0-050D-4E1C-B3DC-476F38C785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403200" y="8190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 indent="-268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941400" y="1357200"/>
            <a:ext cx="5411880" cy="240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d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8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d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b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a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3"/>
          <p:cNvSpPr/>
          <p:nvPr/>
        </p:nvSpPr>
        <p:spPr>
          <a:xfrm>
            <a:off x="3795840" y="174132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3805200" y="2216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3805200" y="27874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5"/>
          <p:cNvSpPr/>
          <p:nvPr/>
        </p:nvSpPr>
        <p:spPr>
          <a:xfrm>
            <a:off x="3805200" y="32320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941400" y="3948120"/>
            <a:ext cx="5411880" cy="192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9"/>
          <p:cNvSpPr/>
          <p:nvPr/>
        </p:nvSpPr>
        <p:spPr>
          <a:xfrm>
            <a:off x="3805200" y="487044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0"/>
          <p:cNvSpPr/>
          <p:nvPr/>
        </p:nvSpPr>
        <p:spPr>
          <a:xfrm>
            <a:off x="3805200" y="5353200"/>
            <a:ext cx="14382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385-264E-4B80-99DA-F75628AEDF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"/>
          <p:cNvGrpSpPr/>
          <p:nvPr/>
        </p:nvGrpSpPr>
        <p:grpSpPr>
          <a:xfrm>
            <a:off x="6442200" y="814320"/>
            <a:ext cx="2819160" cy="3250800"/>
            <a:chOff x="6442200" y="814320"/>
            <a:chExt cx="2819160" cy="3250800"/>
          </a:xfrm>
        </p:grpSpPr>
        <p:pic>
          <p:nvPicPr>
            <p:cNvPr id="185" name="Picture 2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6904080" y="814320"/>
              <a:ext cx="18950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Прямоугольник 6"/>
            <p:cNvSpPr/>
            <p:nvPr/>
          </p:nvSpPr>
          <p:spPr>
            <a:xfrm>
              <a:off x="6442200" y="34225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хаммед ал-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к. 783–ок. 850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8"/>
          <p:cNvSpPr/>
          <p:nvPr/>
        </p:nvSpPr>
        <p:spPr>
          <a:xfrm>
            <a:off x="393840" y="843120"/>
            <a:ext cx="61974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точное описание порядка действий, которые должен выполнить исполнитель для решения задачи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415800" y="2436840"/>
            <a:ext cx="62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 или одушёвленное существо (человек), способное понять и выполнить команды, составляющие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415800" y="402588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льные исполн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поним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не могут понять) смысл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/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F6C-DC29-43BA-9353-C784D18383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8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кращенная запись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0A35-C3C2-4374-89A5-00C672DAE5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8640" y="950760"/>
            <a:ext cx="5411880" cy="2879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+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-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-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*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*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/= b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%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%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6334200" y="973080"/>
            <a:ext cx="17762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099120" y="1754280"/>
            <a:ext cx="2828880" cy="720720"/>
          </a:xfrm>
          <a:prstGeom prst="wedgeRoundRectCallout">
            <a:avLst>
              <a:gd name="adj1" fmla="val -18375"/>
              <a:gd name="adj2" fmla="val -87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вух значений в одной ст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5AE-FFDB-47EE-85F4-8367FD4DC7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80880" y="92700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2"/>
          <p:cNvSpPr/>
          <p:nvPr/>
        </p:nvSpPr>
        <p:spPr>
          <a:xfrm>
            <a:off x="1821960" y="16095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008600" y="1623960"/>
            <a:ext cx="4554360" cy="61452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4"/>
          <p:cNvSpPr/>
          <p:nvPr/>
        </p:nvSpPr>
        <p:spPr>
          <a:xfrm>
            <a:off x="406440" y="1609560"/>
            <a:ext cx="1314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827720" y="24606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6440" y="2460600"/>
            <a:ext cx="658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16000" y="2460600"/>
            <a:ext cx="627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373640" y="3002040"/>
            <a:ext cx="3306600" cy="730080"/>
          </a:xfrm>
          <a:prstGeom prst="wedgeRoundRectCallout">
            <a:avLst>
              <a:gd name="adj1" fmla="val -61384"/>
              <a:gd name="adj2" fmla="val -6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троку на части по проб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1814400" y="3772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406440" y="3773520"/>
            <a:ext cx="658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1116000" y="3773520"/>
            <a:ext cx="627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382680" y="3141720"/>
            <a:ext cx="1317600" cy="396720"/>
          </a:xfrm>
          <a:prstGeom prst="wedgeRoundRectCallout">
            <a:avLst>
              <a:gd name="adj1" fmla="val 18657"/>
              <a:gd name="adj2" fmla="val 104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2114640" y="3205080"/>
            <a:ext cx="1919160" cy="398520"/>
          </a:xfrm>
          <a:prstGeom prst="wedgeRoundRectCallout">
            <a:avLst>
              <a:gd name="adj1" fmla="val -40745"/>
              <a:gd name="adj2" fmla="val 12359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846440" y="4335480"/>
            <a:ext cx="1842840" cy="709560"/>
          </a:xfrm>
          <a:prstGeom prst="wedgeRoundRectCallout">
            <a:avLst>
              <a:gd name="adj1" fmla="val 32166"/>
              <a:gd name="adj2" fmla="val -67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опе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44"/>
          <p:cNvGrpSpPr/>
          <p:nvPr/>
        </p:nvGrpSpPr>
        <p:grpSpPr>
          <a:xfrm>
            <a:off x="4184640" y="4249800"/>
            <a:ext cx="3238560" cy="774720"/>
            <a:chOff x="4184640" y="4249800"/>
            <a:chExt cx="3238560" cy="774720"/>
          </a:xfrm>
        </p:grpSpPr>
        <p:sp>
          <p:nvSpPr>
            <p:cNvPr id="456" name="AutoShape 7"/>
            <p:cNvSpPr/>
            <p:nvPr/>
          </p:nvSpPr>
          <p:spPr>
            <a:xfrm>
              <a:off x="4308480" y="4626000"/>
              <a:ext cx="2705400" cy="398520"/>
            </a:xfrm>
            <a:prstGeom prst="wedgeRoundRectCallout">
              <a:avLst>
                <a:gd name="adj1" fmla="val 5388"/>
                <a:gd name="adj2" fmla="val -108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каждой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37"/>
            <p:cNvSpPr/>
            <p:nvPr/>
          </p:nvSpPr>
          <p:spPr>
            <a:xfrm rot="16200000">
              <a:off x="5734080" y="2700360"/>
              <a:ext cx="139680" cy="32385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3760 h 3238560"/>
                <a:gd name="textAreaBottom" fmla="*/ 321480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7"/>
                    <a:pt x="10800" y="513"/>
                  </a:cubicBezTo>
                  <a:lnTo>
                    <a:pt x="10800" y="10287"/>
                  </a:lnTo>
                  <a:cubicBezTo>
                    <a:pt x="10800" y="10544"/>
                    <a:pt x="5400" y="10800"/>
                    <a:pt x="0" y="10800"/>
                  </a:cubicBezTo>
                  <a:cubicBezTo>
                    <a:pt x="5400" y="10800"/>
                    <a:pt x="10800" y="11057"/>
                    <a:pt x="10800" y="11313"/>
                  </a:cubicBezTo>
                  <a:lnTo>
                    <a:pt x="10800" y="21087"/>
                  </a:lnTo>
                  <a:cubicBezTo>
                    <a:pt x="10800" y="2134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380880" y="540216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олилиния 39"/>
          <p:cNvSpPr/>
          <p:nvPr/>
        </p:nvSpPr>
        <p:spPr>
          <a:xfrm>
            <a:off x="55872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40"/>
          <p:cNvSpPr/>
          <p:nvPr/>
        </p:nvSpPr>
        <p:spPr>
          <a:xfrm>
            <a:off x="124776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43"/>
          <p:cNvGrpSpPr/>
          <p:nvPr/>
        </p:nvGrpSpPr>
        <p:grpSpPr>
          <a:xfrm>
            <a:off x="720720" y="2141640"/>
            <a:ext cx="795240" cy="322200"/>
            <a:chOff x="720720" y="2141640"/>
            <a:chExt cx="795240" cy="322200"/>
          </a:xfrm>
        </p:grpSpPr>
        <p:sp>
          <p:nvSpPr>
            <p:cNvPr id="462" name="Полилиния 41"/>
            <p:cNvSpPr/>
            <p:nvPr/>
          </p:nvSpPr>
          <p:spPr>
            <a:xfrm>
              <a:off x="720720" y="2141640"/>
              <a:ext cx="391680" cy="32220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олилиния 42"/>
            <p:cNvSpPr/>
            <p:nvPr/>
          </p:nvSpPr>
          <p:spPr>
            <a:xfrm flipH="1">
              <a:off x="1124280" y="2141640"/>
              <a:ext cx="391680" cy="322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BE5E-45B0-4AAF-8835-38E0A41E68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CA0-BC0D-4B2D-A2F8-209E42BF50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65F1-051D-4584-B074-B65096761B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E42-0CC8-4EB0-9D58-82E8818524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486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496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B68-AC9A-4050-964E-D01A91A808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+b) </a:t>
            </a:r>
            <a:r>
              <a:rPr b="1" lang="ru-RU" sz="2200" spc="-1" strike="noStrike">
                <a:solidFill>
                  <a:srgbClr val="3333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7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61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2050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04308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78144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45306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28948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ая прямоугольная выноска 18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522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Прямоугольник 28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076-410B-46C5-B46D-470019F610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8800" y="4981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 b] (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ещественные числа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06400" y="548964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0D9A-3F35-4F02-9347-DAD5897AE6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596880" y="1778040"/>
            <a:ext cx="442764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7"/>
          <p:cNvSpPr/>
          <p:nvPr/>
        </p:nvSpPr>
        <p:spPr>
          <a:xfrm>
            <a:off x="4716360" y="1054080"/>
            <a:ext cx="276408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371520" y="824040"/>
            <a:ext cx="8510400" cy="2815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2427-712E-4EC3-9A56-E620A61B50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88800" y="800280"/>
            <a:ext cx="84837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стоит из отдельных команд, каждая из которых выполняется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ермин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и каждом запуске алгоритма с одними и теми же исходными данными получается один и тот ж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держит только команды, входящи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е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зультативность) — для корректного на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 алгоритм должен завершаться через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рек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я допустимых исходных данных алгоритм должен приводить к правиль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можно использовать для разн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A77-453C-40FF-9FFA-612F0B7383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Сколько очков в среднем выпал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 3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5+3+1)/3=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69720" y="293040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Из этих чисел составляется целое число, программа должна найти его квад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1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квадрат 1512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55AE-4F54-47C9-8493-371864C364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случайное трёхзначное число и вывести через запятую его отдельные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учено число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ни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есятки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ы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DDA-884B-4CDF-A463-985F2AE326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B6A-4654-4EBB-9965-7293FE0992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ить порядок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выполнения некоторо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534960" y="1927080"/>
            <a:ext cx="5324400" cy="3593880"/>
            <a:chOff x="534960" y="1927080"/>
            <a:chExt cx="5324400" cy="3593880"/>
          </a:xfrm>
        </p:grpSpPr>
        <p:sp>
          <p:nvSpPr>
            <p:cNvPr id="558" name="Rectangle 8"/>
            <p:cNvSpPr/>
            <p:nvPr/>
          </p:nvSpPr>
          <p:spPr>
            <a:xfrm>
              <a:off x="534960" y="32191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6"/>
            <p:cNvSpPr/>
            <p:nvPr/>
          </p:nvSpPr>
          <p:spPr>
            <a:xfrm>
              <a:off x="2289240" y="224280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 &gt; b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3171960" y="1927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4275000" y="32317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>
              <a:off x="3162240" y="520056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404496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 flipH="1">
              <a:off x="130104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11120" y="3804840"/>
              <a:ext cx="3748320" cy="544680"/>
            </a:xfrm>
            <a:custGeom>
              <a:avLst/>
              <a:gdLst>
                <a:gd name="textAreaLeft" fmla="*/ 0 w 3748320"/>
                <a:gd name="textAreaRight" fmla="*/ 3748680 w 37483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309680" y="398448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5057640" y="40082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143160" y="43606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116160" y="432576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1311120" y="221580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4359240" y="22348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098800" y="467172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1"/>
          <p:cNvSpPr/>
          <p:nvPr/>
        </p:nvSpPr>
        <p:spPr>
          <a:xfrm>
            <a:off x="404640" y="2101680"/>
            <a:ext cx="5597640" cy="240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/>
          <p:cNvSpPr/>
          <p:nvPr/>
        </p:nvSpPr>
        <p:spPr>
          <a:xfrm>
            <a:off x="6459480" y="1411200"/>
            <a:ext cx="1935360" cy="135900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55"/>
          <p:cNvGrpSpPr/>
          <p:nvPr/>
        </p:nvGrpSpPr>
        <p:grpSpPr>
          <a:xfrm>
            <a:off x="6165720" y="3141720"/>
            <a:ext cx="2584440" cy="663480"/>
            <a:chOff x="6165720" y="3141720"/>
            <a:chExt cx="2584440" cy="663480"/>
          </a:xfrm>
        </p:grpSpPr>
        <p:sp>
          <p:nvSpPr>
            <p:cNvPr id="576" name="Text Box 56"/>
            <p:cNvSpPr/>
            <p:nvPr/>
          </p:nvSpPr>
          <p:spPr>
            <a:xfrm>
              <a:off x="6632640" y="3247920"/>
              <a:ext cx="2117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b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57"/>
            <p:cNvSpPr/>
            <p:nvPr/>
          </p:nvSpPr>
          <p:spPr>
            <a:xfrm>
              <a:off x="6165720" y="314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рямоугольник 28"/>
          <p:cNvSpPr/>
          <p:nvPr/>
        </p:nvSpPr>
        <p:spPr>
          <a:xfrm>
            <a:off x="6296040" y="4267080"/>
            <a:ext cx="234792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5"/>
          <p:cNvGrpSpPr/>
          <p:nvPr/>
        </p:nvGrpSpPr>
        <p:grpSpPr>
          <a:xfrm>
            <a:off x="4336920" y="4735440"/>
            <a:ext cx="2411640" cy="1567080"/>
            <a:chOff x="4336920" y="4735440"/>
            <a:chExt cx="2411640" cy="1567080"/>
          </a:xfrm>
        </p:grpSpPr>
        <p:sp>
          <p:nvSpPr>
            <p:cNvPr id="580" name="Полилиния 29"/>
            <p:cNvSpPr/>
            <p:nvPr/>
          </p:nvSpPr>
          <p:spPr>
            <a:xfrm>
              <a:off x="6280560" y="473544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31"/>
            <p:cNvSpPr/>
            <p:nvPr/>
          </p:nvSpPr>
          <p:spPr>
            <a:xfrm>
              <a:off x="6280560" y="572580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Группа 34"/>
            <p:cNvGrpSpPr/>
            <p:nvPr/>
          </p:nvGrpSpPr>
          <p:grpSpPr>
            <a:xfrm>
              <a:off x="4336920" y="5203440"/>
              <a:ext cx="2006280" cy="847800"/>
              <a:chOff x="4336920" y="5203440"/>
              <a:chExt cx="2006280" cy="847800"/>
            </a:xfrm>
          </p:grpSpPr>
          <p:sp>
            <p:nvSpPr>
              <p:cNvPr id="583" name="AutoShape 53"/>
              <p:cNvSpPr/>
              <p:nvPr/>
            </p:nvSpPr>
            <p:spPr>
              <a:xfrm>
                <a:off x="4336920" y="5203440"/>
                <a:ext cx="1671480" cy="668520"/>
              </a:xfrm>
              <a:prstGeom prst="wedgeRoundRectCallout">
                <a:avLst>
                  <a:gd name="adj1" fmla="val 74138"/>
                  <a:gd name="adj2" fmla="val -72481"/>
                  <a:gd name="adj3" fmla="val 16667"/>
                </a:avLst>
              </a:pr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тступ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Полилиния 33"/>
              <p:cNvSpPr/>
              <p:nvPr/>
            </p:nvSpPr>
            <p:spPr>
              <a:xfrm>
                <a:off x="6006960" y="5625720"/>
                <a:ext cx="336240" cy="425520"/>
              </a:xfrm>
              <a:custGeom>
                <a:avLst/>
                <a:gdLst/>
                <a:ahLst/>
                <a:rect l="l" t="t" r="r" b="b"/>
                <a:pathLst>
                  <a:path w="336550" h="425450">
                    <a:moveTo>
                      <a:pt x="0" y="142875"/>
                    </a:moveTo>
                    <a:lnTo>
                      <a:pt x="336550" y="425450"/>
                    </a:lnTo>
                    <a:lnTo>
                      <a:pt x="0" y="0"/>
                    </a:lnTo>
                    <a:cubicBezTo>
                      <a:pt x="1058" y="47625"/>
                      <a:pt x="2117" y="95250"/>
                      <a:pt x="0" y="142875"/>
                    </a:cubicBez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: неполная фор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4C1-85E6-4F55-8B73-F1DDCB613C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0"/>
          <p:cNvGrpSpPr/>
          <p:nvPr/>
        </p:nvGrpSpPr>
        <p:grpSpPr>
          <a:xfrm>
            <a:off x="534960" y="896760"/>
            <a:ext cx="4127400" cy="4500360"/>
            <a:chOff x="534960" y="896760"/>
            <a:chExt cx="4127400" cy="4500360"/>
          </a:xfrm>
        </p:grpSpPr>
        <p:sp>
          <p:nvSpPr>
            <p:cNvPr id="588" name="Rectangle 8"/>
            <p:cNvSpPr/>
            <p:nvPr/>
          </p:nvSpPr>
          <p:spPr>
            <a:xfrm>
              <a:off x="534960" y="309528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"/>
            <p:cNvSpPr/>
            <p:nvPr/>
          </p:nvSpPr>
          <p:spPr>
            <a:xfrm>
              <a:off x="2289240" y="211896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 &gt; a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"/>
            <p:cNvSpPr/>
            <p:nvPr/>
          </p:nvSpPr>
          <p:spPr>
            <a:xfrm>
              <a:off x="3181320" y="1803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162240" y="507672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4044960" y="2535120"/>
              <a:ext cx="390600" cy="1495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 flipH="1">
              <a:off x="1301040" y="253512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1311120" y="3681000"/>
              <a:ext cx="3124440" cy="54468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1309680" y="386064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3143160" y="42368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3116160" y="420192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1311120" y="209196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3978360" y="21110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2098800" y="454788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2389320" y="1212480"/>
              <a:ext cx="158400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>
              <a:off x="3181320" y="8967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1"/>
          <p:cNvSpPr/>
          <p:nvPr/>
        </p:nvSpPr>
        <p:spPr>
          <a:xfrm>
            <a:off x="404640" y="1978200"/>
            <a:ext cx="4616640" cy="2401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3"/>
          <p:cNvSpPr/>
          <p:nvPr/>
        </p:nvSpPr>
        <p:spPr>
          <a:xfrm>
            <a:off x="5519880" y="3384720"/>
            <a:ext cx="1935000" cy="135864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27"/>
          <p:cNvSpPr/>
          <p:nvPr/>
        </p:nvSpPr>
        <p:spPr>
          <a:xfrm>
            <a:off x="5424480" y="1038240"/>
            <a:ext cx="272088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&gt;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831960" y="591192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347040" y="535932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4197240" y="5911920"/>
            <a:ext cx="46292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B3C-674B-4850-8EB6-F2EC60015D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488880" y="971640"/>
            <a:ext cx="3368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lt;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5"/>
          <p:cNvGrpSpPr/>
          <p:nvPr/>
        </p:nvGrpSpPr>
        <p:grpSpPr>
          <a:xfrm>
            <a:off x="4159080" y="998640"/>
            <a:ext cx="2711520" cy="663480"/>
            <a:chOff x="4159080" y="998640"/>
            <a:chExt cx="2711520" cy="663480"/>
          </a:xfrm>
        </p:grpSpPr>
        <p:sp>
          <p:nvSpPr>
            <p:cNvPr id="613" name="Text Box 56"/>
            <p:cNvSpPr/>
            <p:nvPr/>
          </p:nvSpPr>
          <p:spPr>
            <a:xfrm>
              <a:off x="4626000" y="1104840"/>
              <a:ext cx="224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4159080" y="99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27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4518000" y="1949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6824520" y="191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9"/>
          <p:cNvSpPr/>
          <p:nvPr/>
        </p:nvSpPr>
        <p:spPr>
          <a:xfrm flipH="1" rot="7473600">
            <a:off x="6369480" y="323136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0"/>
          <p:cNvSpPr/>
          <p:nvPr/>
        </p:nvSpPr>
        <p:spPr>
          <a:xfrm rot="10800000">
            <a:off x="5500800" y="2444760"/>
            <a:ext cx="979200" cy="668160"/>
          </a:xfrm>
          <a:prstGeom prst="rightArrow">
            <a:avLst>
              <a:gd name="adj1" fmla="val 50000"/>
              <a:gd name="adj2" fmla="val 3663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1"/>
          <p:cNvSpPr/>
          <p:nvPr/>
        </p:nvSpPr>
        <p:spPr>
          <a:xfrm flipH="1" rot="13718400">
            <a:off x="4875480" y="331272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5"/>
          <p:cNvGrpSpPr/>
          <p:nvPr/>
        </p:nvGrpSpPr>
        <p:grpSpPr>
          <a:xfrm>
            <a:off x="501480" y="3349800"/>
            <a:ext cx="3765600" cy="964080"/>
            <a:chOff x="501480" y="3349800"/>
            <a:chExt cx="3765600" cy="964080"/>
          </a:xfrm>
        </p:grpSpPr>
        <p:sp>
          <p:nvSpPr>
            <p:cNvPr id="627" name="Text Box 43"/>
            <p:cNvSpPr/>
            <p:nvPr/>
          </p:nvSpPr>
          <p:spPr>
            <a:xfrm>
              <a:off x="968040" y="3427560"/>
              <a:ext cx="3299040" cy="8863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ез переменной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4"/>
            <p:cNvSpPr/>
            <p:nvPr/>
          </p:nvSpPr>
          <p:spPr>
            <a:xfrm>
              <a:off x="50148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4"/>
          <p:cNvSpPr/>
          <p:nvPr/>
        </p:nvSpPr>
        <p:spPr>
          <a:xfrm>
            <a:off x="5919840" y="4640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2"/>
          <p:cNvSpPr/>
          <p:nvPr/>
        </p:nvSpPr>
        <p:spPr>
          <a:xfrm>
            <a:off x="1073160" y="514980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3"/>
          <p:cNvSpPr/>
          <p:nvPr/>
        </p:nvSpPr>
        <p:spPr>
          <a:xfrm>
            <a:off x="588240" y="459756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ки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458-1DA4-41D2-9034-7054BC2499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97452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"/>
          <p:cNvSpPr/>
          <p:nvPr/>
        </p:nvSpPr>
        <p:spPr>
          <a:xfrm>
            <a:off x="148500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1270080" y="164448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1270080" y="238752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1270080" y="313056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8"/>
          <p:cNvSpPr/>
          <p:nvPr/>
        </p:nvSpPr>
        <p:spPr>
          <a:xfrm>
            <a:off x="1270440" y="38736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9"/>
          <p:cNvSpPr/>
          <p:nvPr/>
        </p:nvSpPr>
        <p:spPr>
          <a:xfrm>
            <a:off x="2083320" y="9525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,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0"/>
          <p:cNvSpPr/>
          <p:nvPr/>
        </p:nvSpPr>
        <p:spPr>
          <a:xfrm>
            <a:off x="2084040" y="168588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"/>
          <p:cNvSpPr/>
          <p:nvPr/>
        </p:nvSpPr>
        <p:spPr>
          <a:xfrm>
            <a:off x="2088000" y="24289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2"/>
          <p:cNvSpPr/>
          <p:nvPr/>
        </p:nvSpPr>
        <p:spPr>
          <a:xfrm>
            <a:off x="2080440" y="31719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3"/>
          <p:cNvSpPr/>
          <p:nvPr/>
        </p:nvSpPr>
        <p:spPr>
          <a:xfrm>
            <a:off x="208296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условные опер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931-DF3F-40F8-973E-0B27A8917B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485640" y="1733400"/>
            <a:ext cx="64994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838080" y="2800440"/>
            <a:ext cx="5765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3"/>
          <p:cNvSpPr/>
          <p:nvPr/>
        </p:nvSpPr>
        <p:spPr>
          <a:xfrm>
            <a:off x="5392800" y="4514760"/>
            <a:ext cx="3157560" cy="863640"/>
          </a:xfrm>
          <a:prstGeom prst="wedgeRoundRectCallout">
            <a:avLst>
              <a:gd name="adj1" fmla="val -45583"/>
              <a:gd name="adj2" fmla="val -93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й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51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нуж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переменных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ы Андрея и Бориса. Кто из них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55"/>
          <p:cNvGrpSpPr/>
          <p:nvPr/>
        </p:nvGrpSpPr>
        <p:grpSpPr>
          <a:xfrm>
            <a:off x="4924440" y="1244520"/>
            <a:ext cx="3841200" cy="663480"/>
            <a:chOff x="4924440" y="1244520"/>
            <a:chExt cx="3841200" cy="663480"/>
          </a:xfrm>
        </p:grpSpPr>
        <p:sp>
          <p:nvSpPr>
            <p:cNvPr id="655" name="Text Box 56"/>
            <p:cNvSpPr/>
            <p:nvPr/>
          </p:nvSpPr>
          <p:spPr>
            <a:xfrm>
              <a:off x="5391000" y="1350720"/>
              <a:ext cx="337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вариан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4924440" y="1244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0E3-C055-4DB1-941E-A3F06E9372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485640" y="971640"/>
            <a:ext cx="53438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5"/>
          <p:cNvGrpSpPr/>
          <p:nvPr/>
        </p:nvGrpSpPr>
        <p:grpSpPr>
          <a:xfrm>
            <a:off x="596880" y="3618000"/>
            <a:ext cx="3250800" cy="663480"/>
            <a:chOff x="596880" y="3618000"/>
            <a:chExt cx="3250800" cy="663480"/>
          </a:xfrm>
        </p:grpSpPr>
        <p:sp>
          <p:nvSpPr>
            <p:cNvPr id="661" name="Text Box 56"/>
            <p:cNvSpPr/>
            <p:nvPr/>
          </p:nvSpPr>
          <p:spPr>
            <a:xfrm>
              <a:off x="1063440" y="3724200"/>
              <a:ext cx="278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se 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7"/>
            <p:cNvSpPr/>
            <p:nvPr/>
          </p:nvSpPr>
          <p:spPr>
            <a:xfrm>
              <a:off x="596880" y="3618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0D5-2834-4AE2-8CB4-FD7A2AEB9E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3"/>
          <p:cNvSpPr/>
          <p:nvPr/>
        </p:nvSpPr>
        <p:spPr>
          <a:xfrm>
            <a:off x="485640" y="971640"/>
            <a:ext cx="53438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67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53"/>
          <p:cNvSpPr/>
          <p:nvPr/>
        </p:nvSpPr>
        <p:spPr>
          <a:xfrm>
            <a:off x="4986360" y="2063880"/>
            <a:ext cx="3510000" cy="844560"/>
          </a:xfrm>
          <a:prstGeom prst="wedgeRoundRectCallout">
            <a:avLst>
              <a:gd name="adj1" fmla="val -93046"/>
              <a:gd name="adj2" fmla="val -2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1"/>
          <p:cNvSpPr/>
          <p:nvPr/>
        </p:nvSpPr>
        <p:spPr>
          <a:xfrm>
            <a:off x="3770280" y="476244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4FB1-D426-42C6-BE67-C8C81822A7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(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B20-8182-4294-80CE-2A06B5ED58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целых числа, найти наибольшее и наимен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меньшее числ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369720" y="3525840"/>
            <a:ext cx="842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четыре целых числа, найти наибол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етыре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 4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7FE-8BAF-4E4B-BD7F-7712ADC76D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69720" y="942840"/>
            <a:ext cx="84204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'5'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ять чисел и найти наибольше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ведите пять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4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15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9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56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Наибольшее число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13E1-B1E2-49F0-85CA-5E752F3F05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последовательно возраст Антона, Бориса и Виктора. Определить, кто из них старш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Борис стар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Антон и Борис старше Ви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091-3A89-457D-BEFC-E8361B61F2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765360" y="383868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9"/>
          <p:cNvSpPr/>
          <p:nvPr/>
        </p:nvSpPr>
        <p:spPr>
          <a:xfrm>
            <a:off x="1287360" y="1895400"/>
            <a:ext cx="3843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1"/>
          <p:cNvSpPr/>
          <p:nvPr/>
        </p:nvSpPr>
        <p:spPr>
          <a:xfrm>
            <a:off x="1714320" y="387036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D49A-4E4C-428C-BA2F-8DE5A7D995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1287360" y="1895400"/>
            <a:ext cx="33354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4"/>
          <p:cNvSpPr/>
          <p:nvPr/>
        </p:nvSpPr>
        <p:spPr>
          <a:xfrm>
            <a:off x="763560" y="383868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5"/>
          <p:cNvSpPr/>
          <p:nvPr/>
        </p:nvSpPr>
        <p:spPr>
          <a:xfrm>
            <a:off x="1511280" y="387036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6D4-77D2-4730-ADC6-3389A82FFC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725400" y="95148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 &lt;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457920" y="190800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387360" y="38768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!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Н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Л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3"/>
          <p:cNvSpPr/>
          <p:nvPr/>
        </p:nvSpPr>
        <p:spPr>
          <a:xfrm>
            <a:off x="1299240" y="192708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: если выполняется обрат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725400" y="261540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&gt;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5"/>
          <p:cNvGrpSpPr/>
          <p:nvPr/>
        </p:nvGrpSpPr>
        <p:grpSpPr>
          <a:xfrm>
            <a:off x="5562720" y="1039680"/>
            <a:ext cx="2917800" cy="663480"/>
            <a:chOff x="5562720" y="1039680"/>
            <a:chExt cx="2917800" cy="663480"/>
          </a:xfrm>
        </p:grpSpPr>
        <p:sp>
          <p:nvSpPr>
            <p:cNvPr id="705" name="Text Box 56"/>
            <p:cNvSpPr/>
            <p:nvPr/>
          </p:nvSpPr>
          <p:spPr>
            <a:xfrm>
              <a:off x="6029640" y="114588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без «НЕ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57"/>
            <p:cNvSpPr/>
            <p:nvPr/>
          </p:nvSpPr>
          <p:spPr>
            <a:xfrm>
              <a:off x="5562720" y="103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F08-22C6-448C-98BC-FFACDB60B1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567-E221-461F-B7D5-C931752B6F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6D2D-EC87-4034-80AE-75992467E5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079640" y="4358880"/>
            <a:ext cx="6984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E89-9F26-447B-B7BD-CC2F6B04F0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4873-60B4-4AD3-A3A0-9B2B638E50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31640" y="958680"/>
            <a:ext cx="79930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5"/>
          <p:cNvGrpSpPr/>
          <p:nvPr/>
        </p:nvGrpSpPr>
        <p:grpSpPr>
          <a:xfrm>
            <a:off x="388800" y="1633680"/>
            <a:ext cx="4735800" cy="931680"/>
            <a:chOff x="388800" y="1633680"/>
            <a:chExt cx="4735800" cy="931680"/>
          </a:xfrm>
        </p:grpSpPr>
        <p:sp>
          <p:nvSpPr>
            <p:cNvPr id="201" name="Text Box 56"/>
            <p:cNvSpPr/>
            <p:nvPr/>
          </p:nvSpPr>
          <p:spPr>
            <a:xfrm>
              <a:off x="855720" y="1739880"/>
              <a:ext cx="42688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 эта программ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388800" y="1633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5348160" y="1514520"/>
            <a:ext cx="3564000" cy="752400"/>
          </a:xfrm>
          <a:prstGeom prst="wedgeRoundRectCallout">
            <a:avLst>
              <a:gd name="adj1" fmla="val -42222"/>
              <a:gd name="adj2" fmla="val -71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нтарии после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рабат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1640" y="3240000"/>
            <a:ext cx="7993080" cy="107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857760" y="2381400"/>
            <a:ext cx="2724120" cy="723600"/>
          </a:xfrm>
          <a:prstGeom prst="wedgeRoundRectCallout">
            <a:avLst>
              <a:gd name="adj1" fmla="val -37592"/>
              <a:gd name="adj2" fmla="val 754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31640" y="4608360"/>
            <a:ext cx="7993080" cy="146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Это тоже коммента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0817-7227-4519-A686-7AFAFF6940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4"/>
          <p:cNvSpPr/>
          <p:nvPr/>
        </p:nvSpPr>
        <p:spPr>
          <a:xfrm>
            <a:off x="380880" y="80172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ьное 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380880" y="2960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849240" y="130752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!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71"/>
          <p:cNvGrpSpPr/>
          <p:nvPr/>
        </p:nvGrpSpPr>
        <p:grpSpPr>
          <a:xfrm>
            <a:off x="4367160" y="1090440"/>
            <a:ext cx="4403520" cy="1452960"/>
            <a:chOff x="4367160" y="1090440"/>
            <a:chExt cx="4403520" cy="1452960"/>
          </a:xfrm>
        </p:grpSpPr>
        <p:sp>
          <p:nvSpPr>
            <p:cNvPr id="725" name="Text Box 69"/>
            <p:cNvSpPr/>
            <p:nvPr/>
          </p:nvSpPr>
          <p:spPr>
            <a:xfrm>
              <a:off x="4856040" y="1169640"/>
              <a:ext cx="391464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следова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имвол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70"/>
            <p:cNvSpPr/>
            <p:nvPr/>
          </p:nvSpPr>
          <p:spPr>
            <a:xfrm>
              <a:off x="4367160" y="1090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Прямоугольник 18"/>
          <p:cNvSpPr/>
          <p:nvPr/>
        </p:nvSpPr>
        <p:spPr>
          <a:xfrm>
            <a:off x="380880" y="18050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49240" y="2281320"/>
            <a:ext cx="311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1"/>
          <p:cNvSpPr/>
          <p:nvPr/>
        </p:nvSpPr>
        <p:spPr>
          <a:xfrm>
            <a:off x="380880" y="48531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"/>
          <p:cNvSpPr/>
          <p:nvPr/>
        </p:nvSpPr>
        <p:spPr>
          <a:xfrm>
            <a:off x="849240" y="535644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7"/>
          <p:cNvSpPr/>
          <p:nvPr/>
        </p:nvSpPr>
        <p:spPr>
          <a:xfrm>
            <a:off x="4952880" y="5773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1"/>
          <p:cNvGrpSpPr/>
          <p:nvPr/>
        </p:nvGrpSpPr>
        <p:grpSpPr>
          <a:xfrm>
            <a:off x="3795840" y="6018120"/>
            <a:ext cx="3315960" cy="663480"/>
            <a:chOff x="3795840" y="6018120"/>
            <a:chExt cx="3315960" cy="663480"/>
          </a:xfrm>
        </p:grpSpPr>
        <p:sp>
          <p:nvSpPr>
            <p:cNvPr id="733" name="Text Box 69"/>
            <p:cNvSpPr/>
            <p:nvPr/>
          </p:nvSpPr>
          <p:spPr>
            <a:xfrm>
              <a:off x="4284720" y="609732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0"/>
            <p:cNvSpPr/>
            <p:nvPr/>
          </p:nvSpPr>
          <p:spPr>
            <a:xfrm>
              <a:off x="3795840" y="6018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7"/>
          <p:cNvSpPr/>
          <p:nvPr/>
        </p:nvSpPr>
        <p:spPr>
          <a:xfrm>
            <a:off x="3166920" y="500364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849240" y="3427920"/>
            <a:ext cx="5711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ася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,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!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Скругленная прямоугольная выноска 36"/>
          <p:cNvSpPr/>
          <p:nvPr/>
        </p:nvSpPr>
        <p:spPr>
          <a:xfrm>
            <a:off x="4890960" y="3449520"/>
            <a:ext cx="3465720" cy="528840"/>
          </a:xfrm>
          <a:prstGeom prst="wedgeRoundRectCallout">
            <a:avLst>
              <a:gd name="adj1" fmla="val -47550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370-C972-4048-A3A6-34DCE99BEA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380880" y="826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символа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80880" y="3436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849240" y="3938400"/>
            <a:ext cx="2745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849240" y="13334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85960" y="2071800"/>
          <a:ext cx="5216400" cy="1285920"/>
        </p:xfrm>
        <a:graphic>
          <a:graphicData uri="http://schemas.openxmlformats.org/drawingml/2006/table">
            <a:tbl>
              <a:tblPr/>
              <a:tblGrid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Полилиния 24"/>
          <p:cNvSpPr/>
          <p:nvPr/>
        </p:nvSpPr>
        <p:spPr>
          <a:xfrm>
            <a:off x="3381480" y="17384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4995720" y="1333440"/>
            <a:ext cx="348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9"/>
          <p:cNvSpPr/>
          <p:nvPr/>
        </p:nvSpPr>
        <p:spPr>
          <a:xfrm>
            <a:off x="6179040" y="19033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 flipH="1">
            <a:off x="5156280" y="17701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C18-5EEC-4F4E-8EEB-29330AC11A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6"/>
          <p:cNvSpPr/>
          <p:nvPr/>
        </p:nvSpPr>
        <p:spPr>
          <a:xfrm>
            <a:off x="380880" y="8287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700200" y="1276200"/>
            <a:ext cx="601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ведите имя: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3"/>
          <p:cNvSpPr/>
          <p:nvPr/>
        </p:nvSpPr>
        <p:spPr>
          <a:xfrm>
            <a:off x="380880" y="187632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е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700200" y="2360160"/>
            <a:ext cx="2212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1"/>
          <p:cNvGrpSpPr/>
          <p:nvPr/>
        </p:nvGrpSpPr>
        <p:grpSpPr>
          <a:xfrm>
            <a:off x="1189080" y="3174840"/>
            <a:ext cx="7071840" cy="663480"/>
            <a:chOff x="1189080" y="3174840"/>
            <a:chExt cx="7071840" cy="663480"/>
          </a:xfrm>
        </p:grpSpPr>
        <p:sp>
          <p:nvSpPr>
            <p:cNvPr id="756" name="Text Box 69"/>
            <p:cNvSpPr/>
            <p:nvPr/>
          </p:nvSpPr>
          <p:spPr>
            <a:xfrm>
              <a:off x="1677960" y="3254040"/>
              <a:ext cx="65829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неизменяемый объек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0"/>
            <p:cNvSpPr/>
            <p:nvPr/>
          </p:nvSpPr>
          <p:spPr>
            <a:xfrm>
              <a:off x="1189080" y="317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Плюс 26"/>
          <p:cNvSpPr/>
          <p:nvPr/>
        </p:nvSpPr>
        <p:spPr>
          <a:xfrm rot="2700000">
            <a:off x="1423800" y="2200320"/>
            <a:ext cx="819000" cy="819000"/>
          </a:xfrm>
          <a:custGeom>
            <a:avLst/>
            <a:gdLst>
              <a:gd name="textAreaLeft" fmla="*/ 108360 w 819000"/>
              <a:gd name="textAreaRight" fmla="*/ 710640 w 819000"/>
              <a:gd name="textAreaTop" fmla="*/ 376920 h 819000"/>
              <a:gd name="textAreaBottom" fmla="*/ 442080 h 819000"/>
            </a:gdLst>
            <a:ahLst/>
            <a:rect l="textAreaLeft" t="textAreaTop" r="textAreaRight" b="textAreaBottom"/>
            <a:pathLst>
              <a:path w="819150" h="819150">
                <a:moveTo>
                  <a:pt x="108578" y="377071"/>
                </a:moveTo>
                <a:lnTo>
                  <a:pt x="377071" y="377071"/>
                </a:lnTo>
                <a:lnTo>
                  <a:pt x="377071" y="108578"/>
                </a:lnTo>
                <a:lnTo>
                  <a:pt x="442079" y="108578"/>
                </a:lnTo>
                <a:lnTo>
                  <a:pt x="442079" y="377071"/>
                </a:lnTo>
                <a:lnTo>
                  <a:pt x="710572" y="377071"/>
                </a:lnTo>
                <a:lnTo>
                  <a:pt x="710572" y="442079"/>
                </a:lnTo>
                <a:lnTo>
                  <a:pt x="442079" y="442079"/>
                </a:lnTo>
                <a:lnTo>
                  <a:pt x="442079" y="710572"/>
                </a:lnTo>
                <a:lnTo>
                  <a:pt x="377071" y="710572"/>
                </a:lnTo>
                <a:lnTo>
                  <a:pt x="377071" y="442079"/>
                </a:lnTo>
                <a:lnTo>
                  <a:pt x="108578" y="442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7"/>
          <p:cNvSpPr/>
          <p:nvPr/>
        </p:nvSpPr>
        <p:spPr>
          <a:xfrm>
            <a:off x="380880" y="4033800"/>
            <a:ext cx="59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можно составить новую стро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743040" y="4539600"/>
            <a:ext cx="3031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 +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15"/>
          <p:cNvSpPr/>
          <p:nvPr/>
        </p:nvSpPr>
        <p:spPr>
          <a:xfrm>
            <a:off x="380880" y="187632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менение строки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743040" y="524664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ая прямоугольная выноска 17"/>
          <p:cNvSpPr/>
          <p:nvPr/>
        </p:nvSpPr>
        <p:spPr>
          <a:xfrm>
            <a:off x="4857840" y="4724280"/>
            <a:ext cx="3133800" cy="62892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B94-3359-49B9-B6B4-026BBB1BA4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519120" y="1000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887480" y="2081160"/>
          <a:ext cx="6095880" cy="828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768" name="Овал 35"/>
          <p:cNvSpPr/>
          <p:nvPr/>
        </p:nvSpPr>
        <p:spPr>
          <a:xfrm>
            <a:off x="352440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9"/>
          <p:cNvSpPr/>
          <p:nvPr/>
        </p:nvSpPr>
        <p:spPr>
          <a:xfrm>
            <a:off x="274680" y="2600280"/>
            <a:ext cx="1409760" cy="439920"/>
          </a:xfrm>
          <a:prstGeom prst="wedgeRoundRectCallout">
            <a:avLst>
              <a:gd name="adj1" fmla="val 60662"/>
              <a:gd name="adj2" fmla="val 5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600200" y="294156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Овал 40"/>
          <p:cNvSpPr/>
          <p:nvPr/>
        </p:nvSpPr>
        <p:spPr>
          <a:xfrm>
            <a:off x="658656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0B67-091B-49FD-A855-45A23BAFE3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"/>
          <p:cNvSpPr/>
          <p:nvPr/>
        </p:nvSpPr>
        <p:spPr>
          <a:xfrm>
            <a:off x="519120" y="96228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9"/>
          <p:cNvSpPr/>
          <p:nvPr/>
        </p:nvSpPr>
        <p:spPr>
          <a:xfrm>
            <a:off x="2016000" y="2023920"/>
            <a:ext cx="2748240" cy="50976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519120" y="268452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9"/>
          <p:cNvSpPr/>
          <p:nvPr/>
        </p:nvSpPr>
        <p:spPr>
          <a:xfrm>
            <a:off x="2016000" y="37465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519120" y="4394160"/>
            <a:ext cx="731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9876543210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9"/>
          <p:cNvSpPr/>
          <p:nvPr/>
        </p:nvSpPr>
        <p:spPr>
          <a:xfrm>
            <a:off x="2016000" y="51181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E97B-E3EB-45CC-87BE-EBADAC86A6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C06B-9BB5-4064-B1C2-9EA56BCF25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3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2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13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14"/>
          <p:cNvSpPr/>
          <p:nvPr/>
        </p:nvSpPr>
        <p:spPr>
          <a:xfrm>
            <a:off x="1955880" y="420228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CFD4-D2FD-48D7-A308-5B5108AE44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,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, иначе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шком коротки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67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FEA-60FF-44DE-B541-52FC143D5D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69720" y="809640"/>
            <a:ext cx="842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. Если пароль начинается с букв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wert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вывести сообщение «Ненадёжный пароль!». Если ошибок не было,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qwerty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надёжны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sdUTY7sa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36C-802F-4726-BCC1-8565A3BD00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имя файла. Если расширение имени файла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h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ть сообщение «Это веб-страница!», иначе выдать сообщение «Что-то друго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DOC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йт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то веб-страниц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Документы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иказ.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-то друг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916-3C6B-4A25-A89C-7E97769699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8800" y="1225440"/>
            <a:ext cx="4784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=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4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2520" y="2332080"/>
            <a:ext cx="828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+2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6"/>
          <p:cNvSpPr/>
          <p:nvPr/>
        </p:nvSpPr>
        <p:spPr>
          <a:xfrm rot="5400000">
            <a:off x="282600" y="144468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7"/>
          <p:cNvSpPr/>
          <p:nvPr/>
        </p:nvSpPr>
        <p:spPr>
          <a:xfrm rot="5400000">
            <a:off x="282600" y="189252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497560" y="927000"/>
            <a:ext cx="2957400" cy="1063800"/>
          </a:xfrm>
          <a:prstGeom prst="wedgeRoundRectCallout">
            <a:avLst>
              <a:gd name="adj1" fmla="val -85606"/>
              <a:gd name="adj2" fmla="val 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переход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508200" y="2741760"/>
            <a:ext cx="47865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2+2=?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Ответ: 4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84280" y="4358880"/>
            <a:ext cx="79754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6DEE-5201-4EFD-B734-6BBF1B5786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B2C7-1003-4357-9A36-11CE900658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9"/>
          <p:cNvSpPr/>
          <p:nvPr/>
        </p:nvSpPr>
        <p:spPr>
          <a:xfrm>
            <a:off x="393840" y="836640"/>
            <a:ext cx="8442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ногократное выполнение одинак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393840" y="1785960"/>
            <a:ext cx="84423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1440" indent="-268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ида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10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 (делать, пока не надо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393840" y="3695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слово «Прив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7"/>
          <p:cNvGrpSpPr/>
          <p:nvPr/>
        </p:nvGrpSpPr>
        <p:grpSpPr>
          <a:xfrm>
            <a:off x="961920" y="4299120"/>
            <a:ext cx="6977160" cy="663480"/>
            <a:chOff x="961920" y="4299120"/>
            <a:chExt cx="6977160" cy="663480"/>
          </a:xfrm>
        </p:grpSpPr>
        <p:sp>
          <p:nvSpPr>
            <p:cNvPr id="815" name="Text Box 8"/>
            <p:cNvSpPr/>
            <p:nvPr/>
          </p:nvSpPr>
          <p:spPr>
            <a:xfrm>
              <a:off x="1428840" y="4405680"/>
              <a:ext cx="6510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961920" y="4299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я в програм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4B4-C433-4656-890E-D2F8212D65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77720" y="949320"/>
            <a:ext cx="4592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7"/>
          <p:cNvGrpSpPr/>
          <p:nvPr/>
        </p:nvGrpSpPr>
        <p:grpSpPr>
          <a:xfrm>
            <a:off x="2360520" y="3325680"/>
            <a:ext cx="2525760" cy="663480"/>
            <a:chOff x="2360520" y="3325680"/>
            <a:chExt cx="2525760" cy="663480"/>
          </a:xfrm>
        </p:grpSpPr>
        <p:sp>
          <p:nvSpPr>
            <p:cNvPr id="821" name="Text Box 8"/>
            <p:cNvSpPr/>
            <p:nvPr/>
          </p:nvSpPr>
          <p:spPr>
            <a:xfrm>
              <a:off x="2827440" y="3432240"/>
              <a:ext cx="205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9"/>
            <p:cNvSpPr/>
            <p:nvPr/>
          </p:nvSpPr>
          <p:spPr>
            <a:xfrm>
              <a:off x="2360520" y="3325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ок-схема ци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6A9-F80A-42FD-8EEC-4B0468392A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Блок-схема: процесс 3"/>
          <p:cNvSpPr/>
          <p:nvPr/>
        </p:nvSpPr>
        <p:spPr>
          <a:xfrm>
            <a:off x="2333520" y="3325680"/>
            <a:ext cx="3895920" cy="897120"/>
          </a:xfrm>
          <a:prstGeom prst="flowChartProcess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Блок-схема: знак завершения 17"/>
          <p:cNvSpPr/>
          <p:nvPr/>
        </p:nvSpPr>
        <p:spPr>
          <a:xfrm>
            <a:off x="3559320" y="1251000"/>
            <a:ext cx="139356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Блок-схема: знак завершения 18"/>
          <p:cNvSpPr/>
          <p:nvPr/>
        </p:nvSpPr>
        <p:spPr>
          <a:xfrm>
            <a:off x="6435720" y="2367000"/>
            <a:ext cx="139392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Прямая со стрелкой 28"/>
          <p:cNvCxnSpPr/>
          <p:nvPr/>
        </p:nvCxnSpPr>
        <p:spPr>
          <a:xfrm flipV="1" rot="16200000">
            <a:off x="2887920" y="2652840"/>
            <a:ext cx="1480320" cy="1297800"/>
          </a:xfrm>
          <a:prstGeom prst="bentConnector4">
            <a:avLst>
              <a:gd name="adj1" fmla="val -44393"/>
              <a:gd name="adj2" fmla="val 170366"/>
            </a:avLst>
          </a:prstGeom>
          <a:ln w="9360">
            <a:solidFill>
              <a:srgbClr val="000000"/>
            </a:solidFill>
            <a:round/>
            <a:tailEnd len="lg" type="triangle" w="med"/>
          </a:ln>
        </p:spPr>
      </p:cxnSp>
      <p:cxnSp>
        <p:nvCxnSpPr>
          <p:cNvPr id="829" name="Прямая со стрелкой 31"/>
          <p:cNvCxnSpPr>
            <a:stCxn id="826" idx="2"/>
          </p:cNvCxnSpPr>
          <p:nvPr/>
        </p:nvCxnSpPr>
        <p:spPr>
          <a:xfrm flipH="1">
            <a:off x="4255200" y="16412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Прямая со стрелкой 52"/>
          <p:cNvCxnSpPr>
            <a:endCxn id="827" idx="1"/>
          </p:cNvCxnSpPr>
          <p:nvPr/>
        </p:nvCxnSpPr>
        <p:spPr>
          <a:xfrm>
            <a:off x="5532120" y="2561760"/>
            <a:ext cx="90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1" name="Прямая со стрелкой 53"/>
          <p:cNvCxnSpPr/>
          <p:nvPr/>
        </p:nvCxnSpPr>
        <p:spPr>
          <a:xfrm flipH="1">
            <a:off x="4254120" y="3014280"/>
            <a:ext cx="216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2" name="Блок-схема: процесс 63"/>
          <p:cNvSpPr/>
          <p:nvPr/>
        </p:nvSpPr>
        <p:spPr>
          <a:xfrm>
            <a:off x="5667480" y="2160720"/>
            <a:ext cx="5014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Блок-схема: процесс 64"/>
          <p:cNvSpPr/>
          <p:nvPr/>
        </p:nvSpPr>
        <p:spPr>
          <a:xfrm>
            <a:off x="3614760" y="3019320"/>
            <a:ext cx="6238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ая прямоугольная выноска 13"/>
          <p:cNvSpPr/>
          <p:nvPr/>
        </p:nvSpPr>
        <p:spPr>
          <a:xfrm>
            <a:off x="6035760" y="4649760"/>
            <a:ext cx="1971720" cy="569880"/>
          </a:xfrm>
          <a:prstGeom prst="wedgeRoundRectCallout">
            <a:avLst>
              <a:gd name="adj1" fmla="val -60750"/>
              <a:gd name="adj2" fmla="val -135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Группа 29" descr=""/>
          <p:cNvPicPr/>
          <p:nvPr/>
        </p:nvPicPr>
        <p:blipFill>
          <a:blip r:embed="rId1"/>
          <a:stretch/>
        </p:blipFill>
        <p:spPr>
          <a:xfrm>
            <a:off x="2944800" y="2073240"/>
            <a:ext cx="2674800" cy="1023840"/>
          </a:xfrm>
          <a:prstGeom prst="rect">
            <a:avLst/>
          </a:prstGeom>
          <a:ln w="0">
            <a:noFill/>
          </a:ln>
        </p:spPr>
      </p:pic>
      <p:pic>
        <p:nvPicPr>
          <p:cNvPr id="836" name="Группа 39" descr=""/>
          <p:cNvPicPr/>
          <p:nvPr/>
        </p:nvPicPr>
        <p:blipFill>
          <a:blip r:embed="rId2"/>
          <a:stretch/>
        </p:blipFill>
        <p:spPr>
          <a:xfrm>
            <a:off x="2548080" y="3444840"/>
            <a:ext cx="35049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E270-2C69-495F-A776-FF621E290D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93680" y="911520"/>
            <a:ext cx="47592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"/>
          <p:cNvSpPr/>
          <p:nvPr/>
        </p:nvSpPr>
        <p:spPr>
          <a:xfrm>
            <a:off x="193680" y="3492720"/>
            <a:ext cx="4746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меньш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4970520" y="91440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4970520" y="349272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224160" y="2614680"/>
            <a:ext cx="3443400" cy="663480"/>
            <a:chOff x="3224160" y="2614680"/>
            <a:chExt cx="3443400" cy="663480"/>
          </a:xfrm>
        </p:grpSpPr>
        <p:sp>
          <p:nvSpPr>
            <p:cNvPr id="844" name="Text Box 8"/>
            <p:cNvSpPr/>
            <p:nvPr/>
          </p:nvSpPr>
          <p:spPr>
            <a:xfrm>
              <a:off x="3691080" y="2721240"/>
              <a:ext cx="2976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по-другом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9"/>
            <p:cNvSpPr/>
            <p:nvPr/>
          </p:nvSpPr>
          <p:spPr>
            <a:xfrm>
              <a:off x="3224160" y="2614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A669-5622-47BB-A59C-822AC6BC62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525600" y="97164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6672240" y="955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542880" y="200664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6689880" y="1990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42880" y="309708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689880" y="308124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52600" y="415116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3"/>
          <p:cNvSpPr/>
          <p:nvPr/>
        </p:nvSpPr>
        <p:spPr>
          <a:xfrm>
            <a:off x="6699240" y="413532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534960" y="524016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5"/>
          <p:cNvSpPr/>
          <p:nvPr/>
        </p:nvSpPr>
        <p:spPr>
          <a:xfrm>
            <a:off x="6305400" y="5214960"/>
            <a:ext cx="2657520" cy="644400"/>
          </a:xfrm>
          <a:prstGeom prst="wedgeRoundRectCallout">
            <a:avLst>
              <a:gd name="adj1" fmla="val -94203"/>
              <a:gd name="adj2" fmla="val 39291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D26-2712-486D-84C2-4737E7FD96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384120" y="8161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ой записи целого положительного числа, записанного в переменную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"/>
          <p:cNvSpPr/>
          <p:nvPr/>
        </p:nvSpPr>
        <p:spPr>
          <a:xfrm>
            <a:off x="506520" y="2052720"/>
            <a:ext cx="4970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тсечь последнюю цифру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965920" y="1986120"/>
          <a:ext cx="2789280" cy="2743200"/>
        </p:xfrm>
        <a:graphic>
          <a:graphicData uri="http://schemas.openxmlformats.org/drawingml/2006/table">
            <a:tbl>
              <a:tblPr/>
              <a:tblGrid>
                <a:gridCol w="1158840"/>
                <a:gridCol w="16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чёт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3" name="Group 7"/>
          <p:cNvGrpSpPr/>
          <p:nvPr/>
        </p:nvGrpSpPr>
        <p:grpSpPr>
          <a:xfrm>
            <a:off x="512640" y="3747960"/>
            <a:ext cx="5335560" cy="663480"/>
            <a:chOff x="512640" y="3747960"/>
            <a:chExt cx="5335560" cy="663480"/>
          </a:xfrm>
        </p:grpSpPr>
        <p:sp>
          <p:nvSpPr>
            <p:cNvPr id="864" name="Text Box 8"/>
            <p:cNvSpPr/>
            <p:nvPr/>
          </p:nvSpPr>
          <p:spPr>
            <a:xfrm>
              <a:off x="979560" y="3854520"/>
              <a:ext cx="4868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тсечь последнюю цифр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512640" y="3747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Прямоугольник 21"/>
          <p:cNvSpPr/>
          <p:nvPr/>
        </p:nvSpPr>
        <p:spPr>
          <a:xfrm>
            <a:off x="1195920" y="4525920"/>
            <a:ext cx="219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512640" y="5079960"/>
            <a:ext cx="4992840" cy="663480"/>
            <a:chOff x="512640" y="5079960"/>
            <a:chExt cx="4992840" cy="663480"/>
          </a:xfrm>
        </p:grpSpPr>
        <p:sp>
          <p:nvSpPr>
            <p:cNvPr id="868" name="Text Box 8"/>
            <p:cNvSpPr/>
            <p:nvPr/>
          </p:nvSpPr>
          <p:spPr>
            <a:xfrm>
              <a:off x="979560" y="5186520"/>
              <a:ext cx="45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величить счётчик н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512640" y="507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Прямоугольник 25"/>
          <p:cNvSpPr/>
          <p:nvPr/>
        </p:nvSpPr>
        <p:spPr>
          <a:xfrm>
            <a:off x="1185840" y="5797440"/>
            <a:ext cx="439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Блок-схема: процесс 26"/>
          <p:cNvSpPr/>
          <p:nvPr/>
        </p:nvSpPr>
        <p:spPr>
          <a:xfrm>
            <a:off x="6032520" y="3384720"/>
            <a:ext cx="2670120" cy="3776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Блок-схема: процесс 27"/>
          <p:cNvSpPr/>
          <p:nvPr/>
        </p:nvSpPr>
        <p:spPr>
          <a:xfrm>
            <a:off x="6032520" y="4308480"/>
            <a:ext cx="2670120" cy="3794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Блок-схема: процесс 28"/>
          <p:cNvSpPr/>
          <p:nvPr/>
        </p:nvSpPr>
        <p:spPr>
          <a:xfrm>
            <a:off x="6032520" y="3867120"/>
            <a:ext cx="2670120" cy="37944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Блок-схема: процесс 29"/>
          <p:cNvSpPr/>
          <p:nvPr/>
        </p:nvSpPr>
        <p:spPr>
          <a:xfrm>
            <a:off x="6032520" y="2922480"/>
            <a:ext cx="2670120" cy="37800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8"/>
          <p:cNvSpPr/>
          <p:nvPr/>
        </p:nvSpPr>
        <p:spPr>
          <a:xfrm>
            <a:off x="5951520" y="5797440"/>
            <a:ext cx="26211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051-A3B5-413F-92A1-587C76623D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2471760" y="1962720"/>
            <a:ext cx="4200480" cy="1678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Блок-схема: процесс 4"/>
          <p:cNvSpPr/>
          <p:nvPr/>
        </p:nvSpPr>
        <p:spPr>
          <a:xfrm>
            <a:off x="2822400" y="2768760"/>
            <a:ext cx="2330640" cy="7556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5"/>
          <p:cNvSpPr/>
          <p:nvPr/>
        </p:nvSpPr>
        <p:spPr>
          <a:xfrm>
            <a:off x="5684760" y="2924280"/>
            <a:ext cx="1971720" cy="569880"/>
          </a:xfrm>
          <a:prstGeom prst="wedgeRoundRectCallout">
            <a:avLst>
              <a:gd name="adj1" fmla="val -80629"/>
              <a:gd name="adj2" fmla="val -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6"/>
          <p:cNvSpPr/>
          <p:nvPr/>
        </p:nvSpPr>
        <p:spPr>
          <a:xfrm>
            <a:off x="649440" y="1055520"/>
            <a:ext cx="3171600" cy="709920"/>
          </a:xfrm>
          <a:prstGeom prst="wedgeRoundRectCallout">
            <a:avLst>
              <a:gd name="adj1" fmla="val 32875"/>
              <a:gd name="adj2" fmla="val 976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 счё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7"/>
          <p:cNvSpPr/>
          <p:nvPr/>
        </p:nvSpPr>
        <p:spPr>
          <a:xfrm>
            <a:off x="3594960" y="236232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кругленная прямоугольная выноска 8"/>
          <p:cNvSpPr/>
          <p:nvPr/>
        </p:nvSpPr>
        <p:spPr>
          <a:xfrm>
            <a:off x="4297320" y="1055520"/>
            <a:ext cx="2211480" cy="709920"/>
          </a:xfrm>
          <a:prstGeom prst="wedgeRoundRectCallout">
            <a:avLst>
              <a:gd name="adj1" fmla="val -44481"/>
              <a:gd name="adj2" fmla="val 12956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дол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9"/>
          <p:cNvSpPr/>
          <p:nvPr/>
        </p:nvSpPr>
        <p:spPr>
          <a:xfrm>
            <a:off x="449280" y="2114640"/>
            <a:ext cx="1724040" cy="765000"/>
          </a:xfrm>
          <a:prstGeom prst="wedgeRoundRectCallout">
            <a:avLst>
              <a:gd name="adj1" fmla="val 69023"/>
              <a:gd name="adj2" fmla="val 12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7"/>
          <p:cNvGrpSpPr/>
          <p:nvPr/>
        </p:nvGrpSpPr>
        <p:grpSpPr>
          <a:xfrm>
            <a:off x="512640" y="3876840"/>
            <a:ext cx="8051760" cy="663480"/>
            <a:chOff x="512640" y="3876840"/>
            <a:chExt cx="8051760" cy="663480"/>
          </a:xfrm>
        </p:grpSpPr>
        <p:sp>
          <p:nvSpPr>
            <p:cNvPr id="886" name="Text Box 8"/>
            <p:cNvSpPr/>
            <p:nvPr/>
          </p:nvSpPr>
          <p:spPr>
            <a:xfrm>
              <a:off x="979560" y="3983400"/>
              <a:ext cx="758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 с предусловием – проверка на входе в цик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512640" y="3876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E1C-2AC6-48B5-9EF6-2D7A2225BA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повторений и вывести столько же раз какое-нибудь сооб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колько р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3C6-CB5C-45B2-B6F8-FF827E0707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определить, сколько  раз в его записи встречается цифр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12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369720" y="291780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найти сумму значений его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умма цифр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EB2-2C16-481E-982D-4A947A35AE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9720" y="809640"/>
            <a:ext cx="8420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текст «лесенк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рисунок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H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ZZZ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9FC-E6EE-4C33-9346-AEB85EC1D2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369720" y="811080"/>
            <a:ext cx="864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атуральное число и определить, верно ли, что в его записи есть две одинаковые цифры, стоящие ряд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8C3-3323-47EB-930B-7BED2E5C50E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найти НОД двух натуральных чисел, нужно вычитать из большего числа меньшее до тех пор, пока они не станут равны. Это число и есть НОД исход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4"/>
          <p:cNvSpPr/>
          <p:nvPr/>
        </p:nvSpPr>
        <p:spPr>
          <a:xfrm>
            <a:off x="672840" y="2546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"/>
          <p:cNvSpPr/>
          <p:nvPr/>
        </p:nvSpPr>
        <p:spPr>
          <a:xfrm>
            <a:off x="506520" y="3146040"/>
            <a:ext cx="458604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b = b 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5396040" y="3146040"/>
            <a:ext cx="3214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8"/>
          <p:cNvSpPr/>
          <p:nvPr/>
        </p:nvSpPr>
        <p:spPr>
          <a:xfrm>
            <a:off x="662400" y="52243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0"/>
          <p:cNvSpPr/>
          <p:nvPr/>
        </p:nvSpPr>
        <p:spPr>
          <a:xfrm>
            <a:off x="2778480" y="522432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6,2) = … = НОД(2, 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D15-7F79-4F77-9293-50193D5E5A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ифицированный 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менять большее число на остаток от деления большего на меньшее до тех пор, пока меньшее не станет равно нулю. Другое (ненулевое) число и есть НОД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8"/>
          <p:cNvSpPr/>
          <p:nvPr/>
        </p:nvSpPr>
        <p:spPr>
          <a:xfrm>
            <a:off x="654480" y="24433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077840" y="2930400"/>
            <a:ext cx="393876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b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275440" y="2973240"/>
            <a:ext cx="3245760" cy="663480"/>
            <a:chOff x="5275440" y="2973240"/>
            <a:chExt cx="3245760" cy="663480"/>
          </a:xfrm>
        </p:grpSpPr>
        <p:sp>
          <p:nvSpPr>
            <p:cNvPr id="912" name="Text Box 8"/>
            <p:cNvSpPr/>
            <p:nvPr/>
          </p:nvSpPr>
          <p:spPr>
            <a:xfrm>
              <a:off x="5742000" y="3079800"/>
              <a:ext cx="277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е услов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5275440" y="297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Прямоугольник 18"/>
          <p:cNvSpPr/>
          <p:nvPr/>
        </p:nvSpPr>
        <p:spPr>
          <a:xfrm>
            <a:off x="1986840" y="2908440"/>
            <a:ext cx="274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7"/>
          <p:cNvGrpSpPr/>
          <p:nvPr/>
        </p:nvGrpSpPr>
        <p:grpSpPr>
          <a:xfrm>
            <a:off x="5554800" y="4255920"/>
            <a:ext cx="2662200" cy="932040"/>
            <a:chOff x="5554800" y="4255920"/>
            <a:chExt cx="2662200" cy="932040"/>
          </a:xfrm>
        </p:grpSpPr>
        <p:sp>
          <p:nvSpPr>
            <p:cNvPr id="916" name="Text Box 8"/>
            <p:cNvSpPr/>
            <p:nvPr/>
          </p:nvSpPr>
          <p:spPr>
            <a:xfrm>
              <a:off x="6021720" y="4362480"/>
              <a:ext cx="2195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с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9"/>
            <p:cNvSpPr/>
            <p:nvPr/>
          </p:nvSpPr>
          <p:spPr>
            <a:xfrm>
              <a:off x="5554800" y="4255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"/>
          <p:cNvSpPr/>
          <p:nvPr/>
        </p:nvSpPr>
        <p:spPr>
          <a:xfrm>
            <a:off x="1077840" y="4961160"/>
            <a:ext cx="39387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3F2-83FA-4A7B-A297-AD3D3B4CE0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алгоритма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1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21,14)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369720" y="3083040"/>
            <a:ext cx="84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ифицирован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а Евклида. Заполните таблиц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5360" y="4479840"/>
          <a:ext cx="8315280" cy="11145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  <a:gridCol w="13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5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05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868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4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294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ОД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738-E4D7-4278-934A-27561096C6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сравнить количество шагов цикла для вычисления их НОД с помощью обычного и модифицированного алгоритмов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998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1998,2)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ычный алгоритм: 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дифицирован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 в цик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09C-5BC4-45A2-A592-C7F35729FB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определить, сколько в ней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619200" y="1328760"/>
            <a:ext cx="54514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ля каждого символа ст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символ – циф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619200" y="3298680"/>
            <a:ext cx="5451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c in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668880" y="40258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22"/>
          <p:cNvSpPr/>
          <p:nvPr/>
        </p:nvSpPr>
        <p:spPr>
          <a:xfrm>
            <a:off x="3294000" y="3227400"/>
            <a:ext cx="3487680" cy="785880"/>
          </a:xfrm>
          <a:prstGeom prst="wedgeRoundRectCallout">
            <a:avLst>
              <a:gd name="adj1" fmla="val -72046"/>
              <a:gd name="adj2" fmla="val 70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мволов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23"/>
          <p:cNvSpPr/>
          <p:nvPr/>
        </p:nvSpPr>
        <p:spPr>
          <a:xfrm>
            <a:off x="4030560" y="4789440"/>
            <a:ext cx="3487680" cy="468360"/>
          </a:xfrm>
          <a:prstGeom prst="wedgeRoundRectCallout">
            <a:avLst>
              <a:gd name="adj1" fmla="val -69134"/>
              <a:gd name="adj2" fmla="val -56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FC2-7BAA-4B40-BADB-71CEAA2553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519120" y="201636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alph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"/>
          <p:cNvSpPr/>
          <p:nvPr/>
        </p:nvSpPr>
        <p:spPr>
          <a:xfrm>
            <a:off x="519120" y="307368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троч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"/>
          <p:cNvSpPr/>
          <p:nvPr/>
        </p:nvSpPr>
        <p:spPr>
          <a:xfrm>
            <a:off x="519120" y="41324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Заглав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519120" y="9572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Цифр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519120" y="52880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Это а или 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158-FA0E-4356-BBDD-9F78EC7BCD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число в двоичной системе счисления. Определить, сколько в его записи единиц и сколько ну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улей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: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369720" y="36162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. Если это правильная запись двоичного числа, вывести сообщение «Да», иначе вывести сообщение «Нет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Введите число: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bcd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F6E2-34B7-40DF-882D-ABC5A4D225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 и составить новую строку, удалив из исходной все пробе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Вася пошел 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сяпошел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6F7A-84C9-44A9-84DC-2AA561FAAF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10 раз слово «Привет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7"/>
          <p:cNvGrpSpPr/>
          <p:nvPr/>
        </p:nvGrpSpPr>
        <p:grpSpPr>
          <a:xfrm>
            <a:off x="1471680" y="1359000"/>
            <a:ext cx="6200280" cy="663480"/>
            <a:chOff x="1471680" y="1359000"/>
            <a:chExt cx="6200280" cy="663480"/>
          </a:xfrm>
        </p:grpSpPr>
        <p:sp>
          <p:nvSpPr>
            <p:cNvPr id="953" name="Text Box 8"/>
            <p:cNvSpPr/>
            <p:nvPr/>
          </p:nvSpPr>
          <p:spPr>
            <a:xfrm>
              <a:off x="1938240" y="1465560"/>
              <a:ext cx="5733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12"/>
          <p:cNvSpPr/>
          <p:nvPr/>
        </p:nvSpPr>
        <p:spPr>
          <a:xfrm>
            <a:off x="3728880" y="247176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6"/>
          <p:cNvSpPr/>
          <p:nvPr/>
        </p:nvSpPr>
        <p:spPr>
          <a:xfrm>
            <a:off x="1569600" y="4438800"/>
            <a:ext cx="2741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Скругленная прямоугольная выноска 16"/>
          <p:cNvSpPr/>
          <p:nvPr/>
        </p:nvSpPr>
        <p:spPr>
          <a:xfrm>
            <a:off x="4857840" y="3948120"/>
            <a:ext cx="2442960" cy="781200"/>
          </a:xfrm>
          <a:prstGeom prst="wedgeRoundRectCallout">
            <a:avLst>
              <a:gd name="adj1" fmla="val -77300"/>
              <a:gd name="adj2" fmla="val 2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64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Прямоугольник 20"/>
          <p:cNvSpPr/>
          <p:nvPr/>
        </p:nvSpPr>
        <p:spPr>
          <a:xfrm>
            <a:off x="608760" y="573552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333-4D15-4C64-9DFE-60C1FC45CC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68280" y="13762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74199"/>
              <a:gd name="adj2" fmla="val 45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62040" y="2460600"/>
            <a:ext cx="251316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226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EB2-DA19-42E7-97B7-24553714BC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все степени двойки от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7"/>
          <p:cNvGrpSpPr/>
          <p:nvPr/>
        </p:nvGrpSpPr>
        <p:grpSpPr>
          <a:xfrm>
            <a:off x="1471680" y="1359000"/>
            <a:ext cx="5309640" cy="663480"/>
            <a:chOff x="1471680" y="1359000"/>
            <a:chExt cx="5309640" cy="663480"/>
          </a:xfrm>
        </p:grpSpPr>
        <p:sp>
          <p:nvSpPr>
            <p:cNvPr id="971" name="Text Box 8"/>
            <p:cNvSpPr/>
            <p:nvPr/>
          </p:nvSpPr>
          <p:spPr>
            <a:xfrm>
              <a:off x="1938240" y="1465560"/>
              <a:ext cx="4843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Прямоугольник 12"/>
          <p:cNvSpPr/>
          <p:nvPr/>
        </p:nvSpPr>
        <p:spPr>
          <a:xfrm>
            <a:off x="3729600" y="2462040"/>
            <a:ext cx="12657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16"/>
          <p:cNvSpPr/>
          <p:nvPr/>
        </p:nvSpPr>
        <p:spPr>
          <a:xfrm>
            <a:off x="1570680" y="4438800"/>
            <a:ext cx="3106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Скругленная прямоугольная выноска 22"/>
          <p:cNvSpPr/>
          <p:nvPr/>
        </p:nvSpPr>
        <p:spPr>
          <a:xfrm>
            <a:off x="5086440" y="3816360"/>
            <a:ext cx="244296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82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Прямоугольник 27"/>
          <p:cNvSpPr/>
          <p:nvPr/>
        </p:nvSpPr>
        <p:spPr>
          <a:xfrm>
            <a:off x="660600" y="57355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ая прямоугольная выноска 24"/>
          <p:cNvSpPr/>
          <p:nvPr/>
        </p:nvSpPr>
        <p:spPr>
          <a:xfrm>
            <a:off x="5518080" y="2139840"/>
            <a:ext cx="212724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е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: другой ша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277-C473-4281-9390-9C57306031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6736320" y="1039680"/>
            <a:ext cx="7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7"/>
          <p:cNvGrpSpPr/>
          <p:nvPr/>
        </p:nvGrpSpPr>
        <p:grpSpPr>
          <a:xfrm>
            <a:off x="1344600" y="2681280"/>
            <a:ext cx="3247920" cy="663480"/>
            <a:chOff x="1344600" y="2681280"/>
            <a:chExt cx="3247920" cy="663480"/>
          </a:xfrm>
        </p:grpSpPr>
        <p:sp>
          <p:nvSpPr>
            <p:cNvPr id="990" name="Text Box 8"/>
            <p:cNvSpPr/>
            <p:nvPr/>
          </p:nvSpPr>
          <p:spPr>
            <a:xfrm>
              <a:off x="1811520" y="2787840"/>
              <a:ext cx="2781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9"/>
            <p:cNvSpPr/>
            <p:nvPr/>
          </p:nvSpPr>
          <p:spPr>
            <a:xfrm>
              <a:off x="1344600" y="268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Прямоугольник 14"/>
          <p:cNvSpPr/>
          <p:nvPr/>
        </p:nvSpPr>
        <p:spPr>
          <a:xfrm>
            <a:off x="5589360" y="3801960"/>
            <a:ext cx="54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468360" y="4099680"/>
            <a:ext cx="493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Прямоугольник 16"/>
          <p:cNvSpPr/>
          <p:nvPr/>
        </p:nvSpPr>
        <p:spPr>
          <a:xfrm>
            <a:off x="1332360" y="4102200"/>
            <a:ext cx="34725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"/>
          <p:cNvSpPr/>
          <p:nvPr/>
        </p:nvSpPr>
        <p:spPr>
          <a:xfrm>
            <a:off x="468360" y="1519920"/>
            <a:ext cx="523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16"/>
          <p:cNvSpPr/>
          <p:nvPr/>
        </p:nvSpPr>
        <p:spPr>
          <a:xfrm>
            <a:off x="1332720" y="1512720"/>
            <a:ext cx="36554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ая прямоугольная выноска 17"/>
          <p:cNvSpPr/>
          <p:nvPr/>
        </p:nvSpPr>
        <p:spPr>
          <a:xfrm>
            <a:off x="4584600" y="942840"/>
            <a:ext cx="1163880" cy="406440"/>
          </a:xfrm>
          <a:prstGeom prst="wedgeRoundRectCallout">
            <a:avLst>
              <a:gd name="adj1" fmla="val -57953"/>
              <a:gd name="adj2" fmla="val 11084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18"/>
          <p:cNvSpPr/>
          <p:nvPr/>
        </p:nvSpPr>
        <p:spPr>
          <a:xfrm>
            <a:off x="491400" y="93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8,7,6,5,4,3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19"/>
          <p:cNvSpPr/>
          <p:nvPr/>
        </p:nvSpPr>
        <p:spPr>
          <a:xfrm>
            <a:off x="310608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3,5,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0F9-D5FE-4185-AD31-ED8849ED5D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509760" y="950760"/>
            <a:ext cx="771984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6"/>
          <p:cNvSpPr/>
          <p:nvPr/>
        </p:nvSpPr>
        <p:spPr>
          <a:xfrm>
            <a:off x="7526160" y="1117440"/>
            <a:ext cx="1310040" cy="53676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09760" y="2341440"/>
            <a:ext cx="774540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8"/>
          <p:cNvSpPr/>
          <p:nvPr/>
        </p:nvSpPr>
        <p:spPr>
          <a:xfrm>
            <a:off x="7526160" y="2533680"/>
            <a:ext cx="1310040" cy="53640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509760" y="3732120"/>
            <a:ext cx="81057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0"/>
          <p:cNvSpPr/>
          <p:nvPr/>
        </p:nvSpPr>
        <p:spPr>
          <a:xfrm>
            <a:off x="7526160" y="3621240"/>
            <a:ext cx="1310040" cy="536400"/>
          </a:xfrm>
          <a:prstGeom prst="wedgeRoundRectCallout">
            <a:avLst>
              <a:gd name="adj1" fmla="val -84740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1"/>
          <p:cNvSpPr/>
          <p:nvPr/>
        </p:nvSpPr>
        <p:spPr>
          <a:xfrm>
            <a:off x="509760" y="5122800"/>
            <a:ext cx="81165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2"/>
          <p:cNvSpPr/>
          <p:nvPr/>
        </p:nvSpPr>
        <p:spPr>
          <a:xfrm>
            <a:off x="7526160" y="5014800"/>
            <a:ext cx="1310040" cy="536760"/>
          </a:xfrm>
          <a:prstGeom prst="wedgeRoundRectCallout">
            <a:avLst>
              <a:gd name="adj1" fmla="val -80537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FAD-DBBA-4D3C-B03B-B3927D8790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олит задумал трёхзначное число, которое при делении на 15 даёт в остатке 11, а при делении на 11 даёт в остатке 9. Найдите все таки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ится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должна най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и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изведение всех натуральных чисел 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! = 1 · 2 · 3 · 4 · 5 =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!=1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C10-C953-499E-B2F6-C6D6D76467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N-ную степень (где N – количество цифр в числе) равна самому числу. Наприме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53 = 1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3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ивы (спи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E803-E6B5-405A-B1B4-A375293B08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362-3607-4765-A2A9-560AC324B8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7"/>
          <p:cNvSpPr/>
          <p:nvPr/>
        </p:nvSpPr>
        <p:spPr>
          <a:xfrm>
            <a:off x="384120" y="1778040"/>
            <a:ext cx="8423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переменных одного типа, расположенных в памяти рядом (в соседних ячейках) и имеющих общее имя. Каждая ячейка в массиве имеет уникальный 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"/>
          <p:cNvSpPr/>
          <p:nvPr/>
        </p:nvSpPr>
        <p:spPr>
          <a:xfrm>
            <a:off x="441360" y="335592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55"/>
          <p:cNvGrpSpPr/>
          <p:nvPr/>
        </p:nvGrpSpPr>
        <p:grpSpPr>
          <a:xfrm>
            <a:off x="1836720" y="900000"/>
            <a:ext cx="5470200" cy="663480"/>
            <a:chOff x="1836720" y="900000"/>
            <a:chExt cx="5470200" cy="663480"/>
          </a:xfrm>
        </p:grpSpPr>
        <p:sp>
          <p:nvSpPr>
            <p:cNvPr id="1024" name="Text Box 56"/>
            <p:cNvSpPr/>
            <p:nvPr/>
          </p:nvSpPr>
          <p:spPr>
            <a:xfrm>
              <a:off x="2303640" y="1006200"/>
              <a:ext cx="5003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10000 переменны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367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9"/>
          <p:cNvSpPr/>
          <p:nvPr/>
        </p:nvSpPr>
        <p:spPr>
          <a:xfrm>
            <a:off x="647640" y="3778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ть данные в нужную яч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данные из яч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3C10-DB04-4B51-B4F4-E2460B4291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118200" y="14000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228680" y="2567160"/>
          <a:ext cx="6095880" cy="5205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249200" y="2160720"/>
          <a:ext cx="6096240" cy="506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Oval 53"/>
          <p:cNvSpPr/>
          <p:nvPr/>
        </p:nvSpPr>
        <p:spPr>
          <a:xfrm>
            <a:off x="825480" y="2028960"/>
            <a:ext cx="6880320" cy="156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693720" y="1701720"/>
            <a:ext cx="522360" cy="48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1418040" y="1705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8"/>
          <p:cNvSpPr/>
          <p:nvPr/>
        </p:nvSpPr>
        <p:spPr>
          <a:xfrm>
            <a:off x="3774960" y="1982880"/>
            <a:ext cx="892440" cy="533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3557520" y="2441520"/>
            <a:ext cx="1405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9"/>
          <p:cNvSpPr/>
          <p:nvPr/>
        </p:nvSpPr>
        <p:spPr>
          <a:xfrm>
            <a:off x="6426360" y="1047600"/>
            <a:ext cx="2458800" cy="998640"/>
          </a:xfrm>
          <a:prstGeom prst="wedgeRoundRectCallout">
            <a:avLst>
              <a:gd name="adj1" fmla="val -121402"/>
              <a:gd name="adj2" fmla="val 45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0"/>
          <p:cNvSpPr/>
          <p:nvPr/>
        </p:nvSpPr>
        <p:spPr>
          <a:xfrm>
            <a:off x="1279440" y="3714840"/>
            <a:ext cx="1036800" cy="476280"/>
          </a:xfrm>
          <a:prstGeom prst="wedgeRoundRectCallout">
            <a:avLst>
              <a:gd name="adj1" fmla="val 4212"/>
              <a:gd name="adj2" fmla="val -17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61"/>
          <p:cNvSpPr/>
          <p:nvPr/>
        </p:nvSpPr>
        <p:spPr>
          <a:xfrm>
            <a:off x="2495520" y="3714840"/>
            <a:ext cx="1036800" cy="476280"/>
          </a:xfrm>
          <a:prstGeom prst="wedgeRoundRectCallout">
            <a:avLst>
              <a:gd name="adj1" fmla="val 3597"/>
              <a:gd name="adj2" fmla="val -185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62"/>
          <p:cNvSpPr/>
          <p:nvPr/>
        </p:nvSpPr>
        <p:spPr>
          <a:xfrm>
            <a:off x="3711600" y="3714840"/>
            <a:ext cx="1036440" cy="476280"/>
          </a:xfrm>
          <a:prstGeom prst="wedgeRoundRectCallout">
            <a:avLst>
              <a:gd name="adj1" fmla="val 7731"/>
              <a:gd name="adj2" fmla="val -178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63"/>
          <p:cNvSpPr/>
          <p:nvPr/>
        </p:nvSpPr>
        <p:spPr>
          <a:xfrm>
            <a:off x="4927680" y="3714840"/>
            <a:ext cx="1036440" cy="476280"/>
          </a:xfrm>
          <a:prstGeom prst="wedgeRoundRectCallout">
            <a:avLst>
              <a:gd name="adj1" fmla="val 1453"/>
              <a:gd name="adj2" fmla="val -1826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4"/>
          <p:cNvSpPr/>
          <p:nvPr/>
        </p:nvSpPr>
        <p:spPr>
          <a:xfrm>
            <a:off x="6145200" y="3714840"/>
            <a:ext cx="1036800" cy="476280"/>
          </a:xfrm>
          <a:prstGeom prst="wedgeRoundRectCallout">
            <a:avLst>
              <a:gd name="adj1" fmla="val 1453"/>
              <a:gd name="adj2" fmla="val -185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7"/>
          <p:cNvSpPr/>
          <p:nvPr/>
        </p:nvSpPr>
        <p:spPr>
          <a:xfrm>
            <a:off x="3335400" y="3629160"/>
            <a:ext cx="2352600" cy="714240"/>
          </a:xfrm>
          <a:prstGeom prst="wedgeRoundRectCallout">
            <a:avLst>
              <a:gd name="adj1" fmla="val -18217"/>
              <a:gd name="adj2" fmla="val -12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6"/>
          <p:cNvSpPr/>
          <p:nvPr/>
        </p:nvSpPr>
        <p:spPr>
          <a:xfrm>
            <a:off x="1822320" y="5197320"/>
            <a:ext cx="16876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7"/>
          <p:cNvSpPr/>
          <p:nvPr/>
        </p:nvSpPr>
        <p:spPr>
          <a:xfrm>
            <a:off x="4765680" y="4579920"/>
            <a:ext cx="2840040" cy="801720"/>
          </a:xfrm>
          <a:prstGeom prst="wedgeRoundRectCallout">
            <a:avLst>
              <a:gd name="adj1" fmla="val -116351"/>
              <a:gd name="adj2" fmla="val 89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(ИНДЕКС)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68"/>
          <p:cNvSpPr/>
          <p:nvPr/>
        </p:nvSpPr>
        <p:spPr>
          <a:xfrm>
            <a:off x="4781520" y="5656320"/>
            <a:ext cx="2941560" cy="714240"/>
          </a:xfrm>
          <a:prstGeom prst="wedgeRoundRectCallout">
            <a:avLst>
              <a:gd name="adj1" fmla="val -95768"/>
              <a:gd name="adj2" fmla="val -128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1838160" y="5186520"/>
            <a:ext cx="1654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2546280" y="5459400"/>
            <a:ext cx="511200" cy="61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55"/>
          <p:cNvGrpSpPr/>
          <p:nvPr/>
        </p:nvGrpSpPr>
        <p:grpSpPr>
          <a:xfrm>
            <a:off x="358920" y="900000"/>
            <a:ext cx="3676680" cy="663480"/>
            <a:chOff x="358920" y="900000"/>
            <a:chExt cx="3676680" cy="663480"/>
          </a:xfrm>
        </p:grpSpPr>
        <p:sp>
          <p:nvSpPr>
            <p:cNvPr id="1050" name="Text Box 56"/>
            <p:cNvSpPr/>
            <p:nvPr/>
          </p:nvSpPr>
          <p:spPr>
            <a:xfrm>
              <a:off x="825840" y="1006200"/>
              <a:ext cx="3209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блиц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57"/>
            <p:cNvSpPr/>
            <p:nvPr/>
          </p:nvSpPr>
          <p:spPr>
            <a:xfrm>
              <a:off x="3589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пи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A88E-20BB-4FF2-885E-7AABD9BBE7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"/>
          <p:cNvSpPr/>
          <p:nvPr/>
        </p:nvSpPr>
        <p:spPr>
          <a:xfrm>
            <a:off x="471600" y="96912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5"/>
          <p:cNvGrpSpPr/>
          <p:nvPr/>
        </p:nvGrpSpPr>
        <p:grpSpPr>
          <a:xfrm>
            <a:off x="5575320" y="2674800"/>
            <a:ext cx="2577600" cy="663480"/>
            <a:chOff x="5575320" y="2674800"/>
            <a:chExt cx="2577600" cy="663480"/>
          </a:xfrm>
        </p:grpSpPr>
        <p:sp>
          <p:nvSpPr>
            <p:cNvPr id="1056" name="Text Box 56"/>
            <p:cNvSpPr/>
            <p:nvPr/>
          </p:nvSpPr>
          <p:spPr>
            <a:xfrm>
              <a:off x="6041880" y="2781000"/>
              <a:ext cx="2111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бу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57"/>
            <p:cNvSpPr/>
            <p:nvPr/>
          </p:nvSpPr>
          <p:spPr>
            <a:xfrm>
              <a:off x="5575320" y="2674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"/>
          <p:cNvSpPr/>
          <p:nvPr/>
        </p:nvSpPr>
        <p:spPr>
          <a:xfrm>
            <a:off x="471600" y="164700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9"/>
          <p:cNvSpPr/>
          <p:nvPr/>
        </p:nvSpPr>
        <p:spPr>
          <a:xfrm>
            <a:off x="1117440" y="2201760"/>
            <a:ext cx="32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"/>
          <p:cNvSpPr/>
          <p:nvPr/>
        </p:nvSpPr>
        <p:spPr>
          <a:xfrm>
            <a:off x="471600" y="2765520"/>
            <a:ext cx="4949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1"/>
          <p:cNvSpPr/>
          <p:nvPr/>
        </p:nvSpPr>
        <p:spPr>
          <a:xfrm>
            <a:off x="1117440" y="333072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345960" y="3932280"/>
            <a:ext cx="733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 из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47800" y="446076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2" dur="indefinite" restart="never" nodeType="tmRoot">
          <p:childTnLst>
            <p:seq>
              <p:cTn id="2823" dur="indefinite" nodeType="mainSeq">
                <p:childTnLst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69C-66DB-4570-8CC5-F9822D6E3C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"/>
          <p:cNvSpPr/>
          <p:nvPr/>
        </p:nvSpPr>
        <p:spPr>
          <a:xfrm>
            <a:off x="471600" y="131760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6"/>
          <p:cNvSpPr/>
          <p:nvPr/>
        </p:nvSpPr>
        <p:spPr>
          <a:xfrm>
            <a:off x="398520" y="32227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471600" y="3764160"/>
            <a:ext cx="6994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6"/>
          <p:cNvSpPr/>
          <p:nvPr/>
        </p:nvSpPr>
        <p:spPr>
          <a:xfrm>
            <a:off x="399240" y="8222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ыми числами (начиная с 0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7"/>
          <p:cNvSpPr/>
          <p:nvPr/>
        </p:nvSpPr>
        <p:spPr>
          <a:xfrm>
            <a:off x="2457000" y="25970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"/>
          <p:cNvSpPr/>
          <p:nvPr/>
        </p:nvSpPr>
        <p:spPr>
          <a:xfrm>
            <a:off x="1822320" y="4184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9"/>
          <p:cNvSpPr/>
          <p:nvPr/>
        </p:nvSpPr>
        <p:spPr>
          <a:xfrm>
            <a:off x="2222640" y="2857680"/>
            <a:ext cx="1436400" cy="14349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434960"/>
              <a:gd name="textAreaBottom" fmla="*/ 1434960 h 1434960"/>
            </a:gdLst>
            <a:ahLst/>
            <a:rect l="textAreaLeft" t="textAreaTop" r="textAreaRight" b="textAreaBottom"/>
            <a:pathLst>
              <a:path w="1437217" h="1866900">
                <a:moveTo>
                  <a:pt x="622300" y="0"/>
                </a:moveTo>
                <a:cubicBezTo>
                  <a:pt x="1029758" y="17991"/>
                  <a:pt x="1437217" y="247650"/>
                  <a:pt x="1333500" y="558800"/>
                </a:cubicBezTo>
                <a:cubicBezTo>
                  <a:pt x="1229783" y="869950"/>
                  <a:pt x="614891" y="1347258"/>
                  <a:pt x="0" y="18669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5"/>
          <p:cNvGrpSpPr/>
          <p:nvPr/>
        </p:nvGrpSpPr>
        <p:grpSpPr>
          <a:xfrm>
            <a:off x="495360" y="4834080"/>
            <a:ext cx="4952520" cy="663480"/>
            <a:chOff x="495360" y="4834080"/>
            <a:chExt cx="4952520" cy="663480"/>
          </a:xfrm>
        </p:grpSpPr>
        <p:sp>
          <p:nvSpPr>
            <p:cNvPr id="1074" name="Text Box 56"/>
            <p:cNvSpPr/>
            <p:nvPr/>
          </p:nvSpPr>
          <p:spPr>
            <a:xfrm>
              <a:off x="961920" y="4940280"/>
              <a:ext cx="44859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, начиная с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57"/>
            <p:cNvSpPr/>
            <p:nvPr/>
          </p:nvSpPr>
          <p:spPr>
            <a:xfrm>
              <a:off x="495360" y="4834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55"/>
          <p:cNvGrpSpPr/>
          <p:nvPr/>
        </p:nvGrpSpPr>
        <p:grpSpPr>
          <a:xfrm>
            <a:off x="2362320" y="5608800"/>
            <a:ext cx="5778000" cy="663480"/>
            <a:chOff x="2362320" y="5608800"/>
            <a:chExt cx="5778000" cy="663480"/>
          </a:xfrm>
        </p:grpSpPr>
        <p:sp>
          <p:nvSpPr>
            <p:cNvPr id="1077" name="Text Box 56"/>
            <p:cNvSpPr/>
            <p:nvPr/>
          </p:nvSpPr>
          <p:spPr>
            <a:xfrm>
              <a:off x="2828880" y="5715000"/>
              <a:ext cx="531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 квадратами чисе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2362320" y="5608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500"/>
                            </p:stCondLst>
                            <p:childTnLst>
                              <p:par>
                                <p:cTn id="2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9-04-01T10:54:25Z</dcterms:modified>
  <cp:revision>1998</cp:revision>
  <dc:subject/>
  <dc:title>Программное обеспечение (ПО)</dc:title>
</cp:coreProperties>
</file>