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4817-54DA-46F8-820F-F30A8DDD9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BCE2-0025-4CCC-98BC-31EAE47B6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8CC-741B-48DC-9036-3E494D4E2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0A66-55C4-4FAC-B4FF-86475E513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2AEA-C8DC-4BAA-A330-ED63C2DB3E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4BF8-C852-4A4E-839D-9B5626325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D30-EC57-4CE7-9777-334E12AC3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16D-2303-4D3A-9FFB-54C578097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DD97-5467-4BA2-BA0E-BA70A9D02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4C27-773B-4B86-AFA9-4222B707C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B112-92F8-4488-9EEA-7DA1DE0E8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A80B-D59C-4BCA-9718-F28359DC5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4220-DC3A-4426-B22D-BCEB4D2A1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2FC1-76FA-4573-9123-A4B9681CF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1C9-7CE3-46B3-89FB-E18B52DE0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62D-EA4C-45A9-A2B7-B00B60D2D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627-507B-4ACA-9B10-7176D8640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F55F-4C06-4B67-AC47-1DB05E892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67F0-E8F5-4BBE-ADAA-47B4AD720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7728-49AE-4F0C-ACF3-23C79CFB8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E2D-D25C-4688-9BA1-79391DE90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ACAA-C2C8-4ED5-B73A-A0FE31027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49DB-8679-4BD7-9E4D-E6236142C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AB0D-C7FC-4EB6-BC46-9D8EDB2BE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DBC-3C7D-46C6-9EF5-BA2F7980D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9A00-9975-4D7B-B21F-CDABAAB14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540-8687-454A-A3DF-F08CE262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3A1-3557-4826-9EB1-361A85F0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952-0D1D-4D5B-BC62-872F8EE5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05C-CDA2-4C12-8360-737B816B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076-4495-4AA4-944E-9D213B9C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8FB-76A4-4E80-8EA6-1358781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2B9-3E33-4D66-B2E6-EF51101C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692-1AB8-4B0C-89D8-3FD14662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A2C-DDA1-4DC4-9A26-34DC8665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DFA-9BDF-48A2-BF4A-69AF6CC4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819-5B2D-43D3-9990-EB1B3F7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91E-2BCF-43BF-BB0D-6763487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66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C591-2B28-4E99-8EF7-ADCD1345A66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880" y="148248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20840" y="3973680"/>
            <a:ext cx="7137360" cy="16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Базы данных (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Реляционные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4AF-4BB8-4736-BBAF-E7477D2AF37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830240" y="3178080"/>
          <a:ext cx="7023240" cy="1479600"/>
        </p:xfrm>
        <a:graphic>
          <a:graphicData uri="http://schemas.openxmlformats.org/drawingml/2006/table">
            <a:tbl>
              <a:tblPr/>
              <a:tblGrid>
                <a:gridCol w="1319400"/>
                <a:gridCol w="868320"/>
                <a:gridCol w="3524400"/>
                <a:gridCol w="131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 пр., д. 32, кв. 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-75-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 ул., д.25, кв.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-76-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183"/>
          <p:cNvSpPr/>
          <p:nvPr/>
        </p:nvSpPr>
        <p:spPr>
          <a:xfrm>
            <a:off x="369720" y="844560"/>
            <a:ext cx="361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артот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ная книж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в библиоте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61"/>
          <p:cNvGrpSpPr/>
          <p:nvPr/>
        </p:nvGrpSpPr>
        <p:grpSpPr>
          <a:xfrm>
            <a:off x="4214880" y="960480"/>
            <a:ext cx="4024080" cy="1243080"/>
            <a:chOff x="4214880" y="960480"/>
            <a:chExt cx="4024080" cy="1243080"/>
          </a:xfrm>
        </p:grpSpPr>
        <p:sp>
          <p:nvSpPr>
            <p:cNvPr id="535" name="AutoShape 182"/>
            <p:cNvSpPr/>
            <p:nvPr/>
          </p:nvSpPr>
          <p:spPr>
            <a:xfrm>
              <a:off x="4214880" y="960480"/>
              <a:ext cx="4024080" cy="1243080"/>
            </a:xfrm>
            <a:prstGeom prst="flowChartMultidocumen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84"/>
            <p:cNvSpPr/>
            <p:nvPr/>
          </p:nvSpPr>
          <p:spPr>
            <a:xfrm>
              <a:off x="4340160" y="1255680"/>
              <a:ext cx="330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ов Вася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воровский пр., д. 32, кв. 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75-75-7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3"/>
          <p:cNvGrpSpPr/>
          <p:nvPr/>
        </p:nvGrpSpPr>
        <p:grpSpPr>
          <a:xfrm>
            <a:off x="301680" y="2903400"/>
            <a:ext cx="1519200" cy="1187640"/>
            <a:chOff x="301680" y="2903400"/>
            <a:chExt cx="1519200" cy="1187640"/>
          </a:xfrm>
        </p:grpSpPr>
        <p:sp>
          <p:nvSpPr>
            <p:cNvPr id="538" name="AutoShape 186"/>
            <p:cNvSpPr/>
            <p:nvPr/>
          </p:nvSpPr>
          <p:spPr>
            <a:xfrm>
              <a:off x="301680" y="2903400"/>
              <a:ext cx="133812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пис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91"/>
            <p:cNvSpPr/>
            <p:nvPr/>
          </p:nvSpPr>
          <p:spPr>
            <a:xfrm>
              <a:off x="952560" y="3365640"/>
              <a:ext cx="8683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92"/>
            <p:cNvSpPr/>
            <p:nvPr/>
          </p:nvSpPr>
          <p:spPr>
            <a:xfrm>
              <a:off x="971640" y="3365640"/>
              <a:ext cx="84924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93"/>
          <p:cNvGrpSpPr/>
          <p:nvPr/>
        </p:nvGrpSpPr>
        <p:grpSpPr>
          <a:xfrm>
            <a:off x="655560" y="4821120"/>
            <a:ext cx="385920" cy="385920"/>
            <a:chOff x="655560" y="4821120"/>
            <a:chExt cx="385920" cy="385920"/>
          </a:xfrm>
        </p:grpSpPr>
        <p:sp>
          <p:nvSpPr>
            <p:cNvPr id="542" name="Oval 194"/>
            <p:cNvSpPr/>
            <p:nvPr/>
          </p:nvSpPr>
          <p:spPr>
            <a:xfrm>
              <a:off x="655560" y="482112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95"/>
            <p:cNvGrpSpPr/>
            <p:nvPr/>
          </p:nvGrpSpPr>
          <p:grpSpPr>
            <a:xfrm>
              <a:off x="707760" y="4867560"/>
              <a:ext cx="290160" cy="290160"/>
              <a:chOff x="707760" y="4867560"/>
              <a:chExt cx="290160" cy="290160"/>
            </a:xfrm>
          </p:grpSpPr>
          <p:sp>
            <p:nvSpPr>
              <p:cNvPr id="544" name="Rectangle 196"/>
              <p:cNvSpPr/>
              <p:nvPr/>
            </p:nvSpPr>
            <p:spPr>
              <a:xfrm>
                <a:off x="70776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97"/>
              <p:cNvSpPr/>
              <p:nvPr/>
            </p:nvSpPr>
            <p:spPr>
              <a:xfrm rot="16200000">
                <a:off x="70884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198"/>
            <p:cNvSpPr/>
            <p:nvPr/>
          </p:nvSpPr>
          <p:spPr>
            <a:xfrm>
              <a:off x="707400" y="486684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99"/>
          <p:cNvGrpSpPr/>
          <p:nvPr/>
        </p:nvGrpSpPr>
        <p:grpSpPr>
          <a:xfrm>
            <a:off x="646200" y="5459400"/>
            <a:ext cx="395280" cy="395280"/>
            <a:chOff x="646200" y="5459400"/>
            <a:chExt cx="395280" cy="395280"/>
          </a:xfrm>
        </p:grpSpPr>
        <p:sp>
          <p:nvSpPr>
            <p:cNvPr id="548" name="Oval 200"/>
            <p:cNvSpPr/>
            <p:nvPr/>
          </p:nvSpPr>
          <p:spPr>
            <a:xfrm>
              <a:off x="646200" y="5459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1"/>
            <p:cNvSpPr/>
            <p:nvPr/>
          </p:nvSpPr>
          <p:spPr>
            <a:xfrm>
              <a:off x="696960" y="5610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202"/>
          <p:cNvSpPr/>
          <p:nvPr/>
        </p:nvSpPr>
        <p:spPr>
          <a:xfrm>
            <a:off x="1189080" y="483552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ростая 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гие типы БД используют табл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3"/>
          <p:cNvSpPr/>
          <p:nvPr/>
        </p:nvSpPr>
        <p:spPr>
          <a:xfrm>
            <a:off x="1206360" y="5446800"/>
            <a:ext cx="7185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– дублирование данны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62"/>
          <p:cNvGrpSpPr/>
          <p:nvPr/>
        </p:nvGrpSpPr>
        <p:grpSpPr>
          <a:xfrm>
            <a:off x="2725200" y="2384280"/>
            <a:ext cx="5240880" cy="773280"/>
            <a:chOff x="2725200" y="2384280"/>
            <a:chExt cx="5240880" cy="773280"/>
          </a:xfrm>
        </p:grpSpPr>
        <p:sp>
          <p:nvSpPr>
            <p:cNvPr id="553" name="Line 187"/>
            <p:cNvSpPr/>
            <p:nvPr/>
          </p:nvSpPr>
          <p:spPr>
            <a:xfrm flipH="1">
              <a:off x="2725200" y="2668680"/>
              <a:ext cx="267660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88"/>
            <p:cNvSpPr/>
            <p:nvPr/>
          </p:nvSpPr>
          <p:spPr>
            <a:xfrm>
              <a:off x="5638680" y="2695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89"/>
            <p:cNvSpPr/>
            <p:nvPr/>
          </p:nvSpPr>
          <p:spPr>
            <a:xfrm flipH="1">
              <a:off x="3666600" y="2790720"/>
              <a:ext cx="179100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90"/>
            <p:cNvSpPr/>
            <p:nvPr/>
          </p:nvSpPr>
          <p:spPr>
            <a:xfrm>
              <a:off x="5864400" y="2733840"/>
              <a:ext cx="21016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85"/>
            <p:cNvSpPr/>
            <p:nvPr/>
          </p:nvSpPr>
          <p:spPr>
            <a:xfrm>
              <a:off x="4506840" y="2384280"/>
              <a:ext cx="194148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л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1627200" y="5878440"/>
          <a:ext cx="6603840" cy="717480"/>
        </p:xfrm>
        <a:graphic>
          <a:graphicData uri="http://schemas.openxmlformats.org/drawingml/2006/table">
            <a:tbl>
              <a:tblPr/>
              <a:tblGrid>
                <a:gridCol w="1520640"/>
                <a:gridCol w="3867480"/>
                <a:gridCol w="1215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царе Салт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золотом петушк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A41D-E04F-4481-B550-58470B1EF45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98520" y="895320"/>
            <a:ext cx="8308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полей определяется разработч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е может изменяться пользова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поле должно иметь уникальное и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иметь различный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символов (длиной до 255 символов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енное число (с дробной часть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ая сумм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, время, дата и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ое поле (истина или ложь, да или нет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строчный текст (МЕМ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звук или другой объект (объ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быть обязательными для заполнения или н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может содержать сколько угодно запи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это количество ограничено только объемом диска); записи можно добавлять, удалять, редактировать, сортировать, иска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CD34-8D82-4B44-AEAA-334F3B58720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ючевое поле (ключ таблицы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398520" y="895320"/>
            <a:ext cx="83088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ючевое поле (ключ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ле (или комбинация полей), которое однозначно определяет запис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не может быть двух записей с одинаковым значением ключ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1920" y="2624040"/>
            <a:ext cx="852948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гут ли эти данные быть ключо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паспор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до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онный номер автомоби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прожи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выполнения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а стиральной маш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793800" y="3327480"/>
            <a:ext cx="151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816120" y="374652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849240" y="4638600"/>
            <a:ext cx="1827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826920" y="5519880"/>
            <a:ext cx="270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>
            <a:off x="804960" y="5969160"/>
            <a:ext cx="373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4846680" y="6191280"/>
            <a:ext cx="385560" cy="385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956-E8A8-4BF8-B1F2-60B50704E6D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84120" y="88092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ев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узлов, в которых каждый может быть связан с каждым (схема дорог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5268960" y="1892160"/>
            <a:ext cx="2938320" cy="1424160"/>
            <a:chOff x="5268960" y="1892160"/>
            <a:chExt cx="2938320" cy="1424160"/>
          </a:xfrm>
        </p:grpSpPr>
        <p:grpSp>
          <p:nvGrpSpPr>
            <p:cNvPr id="579" name="Group 11"/>
            <p:cNvGrpSpPr/>
            <p:nvPr/>
          </p:nvGrpSpPr>
          <p:grpSpPr>
            <a:xfrm>
              <a:off x="5268960" y="2388600"/>
              <a:ext cx="2938320" cy="431280"/>
              <a:chOff x="5268960" y="2388600"/>
              <a:chExt cx="2938320" cy="431280"/>
            </a:xfrm>
          </p:grpSpPr>
          <p:sp>
            <p:nvSpPr>
              <p:cNvPr id="580" name="Oval 7"/>
              <p:cNvSpPr/>
              <p:nvPr/>
            </p:nvSpPr>
            <p:spPr>
              <a:xfrm>
                <a:off x="777600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8"/>
              <p:cNvSpPr/>
              <p:nvPr/>
            </p:nvSpPr>
            <p:spPr>
              <a:xfrm>
                <a:off x="526896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0"/>
            <p:cNvGrpSpPr/>
            <p:nvPr/>
          </p:nvGrpSpPr>
          <p:grpSpPr>
            <a:xfrm>
              <a:off x="6521400" y="1892160"/>
              <a:ext cx="432000" cy="1424160"/>
              <a:chOff x="6521400" y="1892160"/>
              <a:chExt cx="432000" cy="1424160"/>
            </a:xfrm>
          </p:grpSpPr>
          <p:sp>
            <p:nvSpPr>
              <p:cNvPr id="583" name="Oval 6"/>
              <p:cNvSpPr/>
              <p:nvPr/>
            </p:nvSpPr>
            <p:spPr>
              <a:xfrm>
                <a:off x="6521400" y="18921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9"/>
              <p:cNvSpPr/>
              <p:nvPr/>
            </p:nvSpPr>
            <p:spPr>
              <a:xfrm>
                <a:off x="6523200" y="28839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Line 12"/>
            <p:cNvSpPr/>
            <p:nvPr/>
          </p:nvSpPr>
          <p:spPr>
            <a:xfrm flipV="1">
              <a:off x="5673600" y="2186280"/>
              <a:ext cx="84960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5677560" y="2690280"/>
              <a:ext cx="857520" cy="38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5705280" y="2611440"/>
              <a:ext cx="20656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 flipH="1" flipV="1">
              <a:off x="6736680" y="2323800"/>
              <a:ext cx="288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 flipV="1">
              <a:off x="6948720" y="2746440"/>
              <a:ext cx="885240" cy="31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 flipH="1" flipV="1">
              <a:off x="6933600" y="2197440"/>
              <a:ext cx="851400" cy="31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0"/>
          <p:cNvGrpSpPr/>
          <p:nvPr/>
        </p:nvGrpSpPr>
        <p:grpSpPr>
          <a:xfrm>
            <a:off x="911160" y="3728880"/>
            <a:ext cx="385920" cy="385920"/>
            <a:chOff x="911160" y="3728880"/>
            <a:chExt cx="385920" cy="385920"/>
          </a:xfrm>
        </p:grpSpPr>
        <p:sp>
          <p:nvSpPr>
            <p:cNvPr id="592" name="Oval 21"/>
            <p:cNvSpPr/>
            <p:nvPr/>
          </p:nvSpPr>
          <p:spPr>
            <a:xfrm>
              <a:off x="911160" y="372888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22"/>
            <p:cNvGrpSpPr/>
            <p:nvPr/>
          </p:nvGrpSpPr>
          <p:grpSpPr>
            <a:xfrm>
              <a:off x="963360" y="3775320"/>
              <a:ext cx="290160" cy="290160"/>
              <a:chOff x="963360" y="3775320"/>
              <a:chExt cx="290160" cy="290160"/>
            </a:xfrm>
          </p:grpSpPr>
          <p:sp>
            <p:nvSpPr>
              <p:cNvPr id="594" name="Rectangle 23"/>
              <p:cNvSpPr/>
              <p:nvPr/>
            </p:nvSpPr>
            <p:spPr>
              <a:xfrm>
                <a:off x="96336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4"/>
              <p:cNvSpPr/>
              <p:nvPr/>
            </p:nvSpPr>
            <p:spPr>
              <a:xfrm rot="16200000">
                <a:off x="96444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5"/>
            <p:cNvSpPr/>
            <p:nvPr/>
          </p:nvSpPr>
          <p:spPr>
            <a:xfrm>
              <a:off x="963000" y="377460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6"/>
          <p:cNvGrpSpPr/>
          <p:nvPr/>
        </p:nvGrpSpPr>
        <p:grpSpPr>
          <a:xfrm>
            <a:off x="901800" y="4645080"/>
            <a:ext cx="395280" cy="395280"/>
            <a:chOff x="901800" y="4645080"/>
            <a:chExt cx="395280" cy="395280"/>
          </a:xfrm>
        </p:grpSpPr>
        <p:sp>
          <p:nvSpPr>
            <p:cNvPr id="598" name="Oval 27"/>
            <p:cNvSpPr/>
            <p:nvPr/>
          </p:nvSpPr>
          <p:spPr>
            <a:xfrm>
              <a:off x="901800" y="46450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8"/>
            <p:cNvSpPr/>
            <p:nvPr/>
          </p:nvSpPr>
          <p:spPr>
            <a:xfrm>
              <a:off x="952560" y="47959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1366920" y="370368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отражает структуру некоторых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е планирование в экономик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365120" y="4640400"/>
            <a:ext cx="71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хранить информацию о всех связ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танность структу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1"/>
          <p:cNvGrpSpPr/>
          <p:nvPr/>
        </p:nvGrpSpPr>
        <p:grpSpPr>
          <a:xfrm>
            <a:off x="730080" y="5619600"/>
            <a:ext cx="7792920" cy="931680"/>
            <a:chOff x="730080" y="5619600"/>
            <a:chExt cx="7792920" cy="931680"/>
          </a:xfrm>
        </p:grpSpPr>
        <p:sp>
          <p:nvSpPr>
            <p:cNvPr id="603" name="Text Box 32"/>
            <p:cNvSpPr/>
            <p:nvPr/>
          </p:nvSpPr>
          <p:spPr>
            <a:xfrm>
              <a:off x="1196640" y="5725800"/>
              <a:ext cx="7326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ожно хранить в виде таблицы, но с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дублированием данных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3"/>
            <p:cNvSpPr/>
            <p:nvPr/>
          </p:nvSpPr>
          <p:spPr>
            <a:xfrm>
              <a:off x="730080" y="5619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Группа 45"/>
          <p:cNvGrpSpPr/>
          <p:nvPr/>
        </p:nvGrpSpPr>
        <p:grpSpPr>
          <a:xfrm>
            <a:off x="657000" y="1762200"/>
            <a:ext cx="4325040" cy="1790640"/>
            <a:chOff x="657000" y="1762200"/>
            <a:chExt cx="4325040" cy="1790640"/>
          </a:xfrm>
        </p:grpSpPr>
        <p:sp>
          <p:nvSpPr>
            <p:cNvPr id="606" name="Прямоугольник 36"/>
            <p:cNvSpPr/>
            <p:nvPr/>
          </p:nvSpPr>
          <p:spPr>
            <a:xfrm>
              <a:off x="657000" y="1762200"/>
              <a:ext cx="177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ар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37"/>
            <p:cNvSpPr/>
            <p:nvPr/>
          </p:nvSpPr>
          <p:spPr>
            <a:xfrm>
              <a:off x="3291120" y="321552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38"/>
            <p:cNvSpPr/>
            <p:nvPr/>
          </p:nvSpPr>
          <p:spPr>
            <a:xfrm>
              <a:off x="3019320" y="178524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ни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39"/>
            <p:cNvSpPr/>
            <p:nvPr/>
          </p:nvSpPr>
          <p:spPr>
            <a:xfrm>
              <a:off x="976680" y="300168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олилиния 40"/>
            <p:cNvSpPr/>
            <p:nvPr/>
          </p:nvSpPr>
          <p:spPr>
            <a:xfrm>
              <a:off x="2129400" y="2256840"/>
              <a:ext cx="129636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Полилиния 41"/>
            <p:cNvSpPr/>
            <p:nvPr/>
          </p:nvSpPr>
          <p:spPr>
            <a:xfrm>
              <a:off x="1631880" y="2090160"/>
              <a:ext cx="1766880" cy="195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Полилиния 42"/>
            <p:cNvSpPr/>
            <p:nvPr/>
          </p:nvSpPr>
          <p:spPr>
            <a:xfrm>
              <a:off x="2077200" y="3117960"/>
              <a:ext cx="156348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Полилиния 43"/>
            <p:cNvSpPr/>
            <p:nvPr/>
          </p:nvSpPr>
          <p:spPr>
            <a:xfrm>
              <a:off x="3366000" y="2236680"/>
              <a:ext cx="531360" cy="816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олилиния 44"/>
            <p:cNvSpPr/>
            <p:nvPr/>
          </p:nvSpPr>
          <p:spPr>
            <a:xfrm>
              <a:off x="1467000" y="2270160"/>
              <a:ext cx="55224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32"/>
            <p:cNvSpPr/>
            <p:nvPr/>
          </p:nvSpPr>
          <p:spPr>
            <a:xfrm>
              <a:off x="1503000" y="22273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Овал 34"/>
            <p:cNvSpPr/>
            <p:nvPr/>
          </p:nvSpPr>
          <p:spPr>
            <a:xfrm>
              <a:off x="1976760" y="31932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Овал 33"/>
            <p:cNvSpPr/>
            <p:nvPr/>
          </p:nvSpPr>
          <p:spPr>
            <a:xfrm>
              <a:off x="3409200" y="21499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Овал 35"/>
            <p:cNvSpPr/>
            <p:nvPr/>
          </p:nvSpPr>
          <p:spPr>
            <a:xfrm>
              <a:off x="3629160" y="30186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3B28-4F68-49E6-B8F8-085B6F01719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84120" y="82548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ерархическ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данных в виде многоуровневой структуры (дерева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490680" y="3389400"/>
            <a:ext cx="1931400" cy="642600"/>
            <a:chOff x="490680" y="3389400"/>
            <a:chExt cx="1931400" cy="642600"/>
          </a:xfrm>
        </p:grpSpPr>
        <p:pic>
          <p:nvPicPr>
            <p:cNvPr id="624" name="Picture 5" descr=""/>
            <p:cNvPicPr/>
            <p:nvPr/>
          </p:nvPicPr>
          <p:blipFill>
            <a:blip r:embed="rId1"/>
            <a:stretch/>
          </p:blipFill>
          <p:spPr>
            <a:xfrm>
              <a:off x="490680" y="3438360"/>
              <a:ext cx="4284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9"/>
            <p:cNvSpPr/>
            <p:nvPr/>
          </p:nvSpPr>
          <p:spPr>
            <a:xfrm>
              <a:off x="950760" y="3389400"/>
              <a:ext cx="147132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55"/>
          <p:cNvGrpSpPr/>
          <p:nvPr/>
        </p:nvGrpSpPr>
        <p:grpSpPr>
          <a:xfrm>
            <a:off x="3236760" y="3389400"/>
            <a:ext cx="2154240" cy="642600"/>
            <a:chOff x="3236760" y="3389400"/>
            <a:chExt cx="2154240" cy="642600"/>
          </a:xfrm>
        </p:grpSpPr>
        <p:pic>
          <p:nvPicPr>
            <p:cNvPr id="627" name="Picture 6" descr=""/>
            <p:cNvPicPr/>
            <p:nvPr/>
          </p:nvPicPr>
          <p:blipFill>
            <a:blip r:embed="rId2"/>
            <a:stretch/>
          </p:blipFill>
          <p:spPr>
            <a:xfrm>
              <a:off x="3236760" y="341460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11"/>
            <p:cNvSpPr/>
            <p:nvPr/>
          </p:nvSpPr>
          <p:spPr>
            <a:xfrm>
              <a:off x="3792240" y="3389400"/>
              <a:ext cx="159876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6039000" y="3365640"/>
            <a:ext cx="1971000" cy="666000"/>
            <a:chOff x="6039000" y="3365640"/>
            <a:chExt cx="1971000" cy="666000"/>
          </a:xfrm>
        </p:grpSpPr>
        <p:pic>
          <p:nvPicPr>
            <p:cNvPr id="630" name="Picture 8" descr=""/>
            <p:cNvPicPr/>
            <p:nvPr/>
          </p:nvPicPr>
          <p:blipFill>
            <a:blip r:embed="rId3"/>
            <a:stretch/>
          </p:blipFill>
          <p:spPr>
            <a:xfrm>
              <a:off x="6039000" y="3365640"/>
              <a:ext cx="504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3"/>
            <p:cNvSpPr/>
            <p:nvPr/>
          </p:nvSpPr>
          <p:spPr>
            <a:xfrm>
              <a:off x="6561000" y="3389040"/>
              <a:ext cx="144900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0"/>
          <p:cNvGrpSpPr/>
          <p:nvPr/>
        </p:nvGrpSpPr>
        <p:grpSpPr>
          <a:xfrm>
            <a:off x="1182600" y="5248440"/>
            <a:ext cx="949320" cy="1036080"/>
            <a:chOff x="1182600" y="5248440"/>
            <a:chExt cx="949320" cy="1036080"/>
          </a:xfrm>
        </p:grpSpPr>
        <p:sp>
          <p:nvSpPr>
            <p:cNvPr id="633" name="Rectangle 12"/>
            <p:cNvSpPr/>
            <p:nvPr/>
          </p:nvSpPr>
          <p:spPr>
            <a:xfrm>
              <a:off x="1182600" y="570384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23" descr=""/>
            <p:cNvPicPr/>
            <p:nvPr/>
          </p:nvPicPr>
          <p:blipFill>
            <a:blip r:embed="rId4"/>
            <a:stretch/>
          </p:blipFill>
          <p:spPr>
            <a:xfrm>
              <a:off x="1474560" y="5248440"/>
              <a:ext cx="41904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39"/>
          <p:cNvGrpSpPr/>
          <p:nvPr/>
        </p:nvGrpSpPr>
        <p:grpSpPr>
          <a:xfrm>
            <a:off x="187200" y="5245200"/>
            <a:ext cx="930240" cy="1039320"/>
            <a:chOff x="187200" y="5245200"/>
            <a:chExt cx="930240" cy="1039320"/>
          </a:xfrm>
        </p:grpSpPr>
        <p:pic>
          <p:nvPicPr>
            <p:cNvPr id="636" name="Picture 22" descr=""/>
            <p:cNvPicPr/>
            <p:nvPr/>
          </p:nvPicPr>
          <p:blipFill>
            <a:blip r:embed="rId5"/>
            <a:stretch/>
          </p:blipFill>
          <p:spPr>
            <a:xfrm>
              <a:off x="522720" y="5245200"/>
              <a:ext cx="3286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36"/>
            <p:cNvSpPr/>
            <p:nvPr/>
          </p:nvSpPr>
          <p:spPr>
            <a:xfrm>
              <a:off x="187200" y="5703840"/>
              <a:ext cx="9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54"/>
          <p:cNvGrpSpPr/>
          <p:nvPr/>
        </p:nvGrpSpPr>
        <p:grpSpPr>
          <a:xfrm>
            <a:off x="2195640" y="5270400"/>
            <a:ext cx="1522440" cy="1014120"/>
            <a:chOff x="2195640" y="5270400"/>
            <a:chExt cx="1522440" cy="1014120"/>
          </a:xfrm>
        </p:grpSpPr>
        <p:pic>
          <p:nvPicPr>
            <p:cNvPr id="639" name="Picture 24" descr=""/>
            <p:cNvPicPr/>
            <p:nvPr/>
          </p:nvPicPr>
          <p:blipFill>
            <a:blip r:embed="rId6"/>
            <a:stretch/>
          </p:blipFill>
          <p:spPr>
            <a:xfrm>
              <a:off x="2743200" y="5270400"/>
              <a:ext cx="4478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7"/>
            <p:cNvSpPr/>
            <p:nvPr/>
          </p:nvSpPr>
          <p:spPr>
            <a:xfrm>
              <a:off x="2195640" y="5703840"/>
              <a:ext cx="152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4327560" y="5361120"/>
            <a:ext cx="466560" cy="633960"/>
            <a:chOff x="4327560" y="5361120"/>
            <a:chExt cx="466560" cy="633960"/>
          </a:xfrm>
        </p:grpSpPr>
        <p:pic>
          <p:nvPicPr>
            <p:cNvPr id="642" name="Picture 25" descr=""/>
            <p:cNvPicPr/>
            <p:nvPr/>
          </p:nvPicPr>
          <p:blipFill>
            <a:blip r:embed="rId7"/>
            <a:stretch/>
          </p:blipFill>
          <p:spPr>
            <a:xfrm>
              <a:off x="4327560" y="536112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41"/>
            <p:cNvSpPr/>
            <p:nvPr/>
          </p:nvSpPr>
          <p:spPr>
            <a:xfrm>
              <a:off x="437688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3782880" y="5195880"/>
            <a:ext cx="477360" cy="799200"/>
            <a:chOff x="3782880" y="5195880"/>
            <a:chExt cx="477360" cy="799200"/>
          </a:xfrm>
        </p:grpSpPr>
        <p:pic>
          <p:nvPicPr>
            <p:cNvPr id="645" name="Picture 26" descr=""/>
            <p:cNvPicPr/>
            <p:nvPr/>
          </p:nvPicPr>
          <p:blipFill>
            <a:blip r:embed="rId8"/>
            <a:stretch/>
          </p:blipFill>
          <p:spPr>
            <a:xfrm>
              <a:off x="3782880" y="519588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44"/>
            <p:cNvSpPr/>
            <p:nvPr/>
          </p:nvSpPr>
          <p:spPr>
            <a:xfrm>
              <a:off x="3887640" y="56577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51"/>
          <p:cNvGrpSpPr/>
          <p:nvPr/>
        </p:nvGrpSpPr>
        <p:grpSpPr>
          <a:xfrm>
            <a:off x="4859280" y="5164200"/>
            <a:ext cx="466920" cy="830880"/>
            <a:chOff x="4859280" y="5164200"/>
            <a:chExt cx="466920" cy="830880"/>
          </a:xfrm>
        </p:grpSpPr>
        <p:pic>
          <p:nvPicPr>
            <p:cNvPr id="648" name="Picture 29" descr=""/>
            <p:cNvPicPr/>
            <p:nvPr/>
          </p:nvPicPr>
          <p:blipFill>
            <a:blip r:embed="rId9"/>
            <a:stretch/>
          </p:blipFill>
          <p:spPr>
            <a:xfrm>
              <a:off x="4859280" y="516420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45"/>
            <p:cNvSpPr/>
            <p:nvPr/>
          </p:nvSpPr>
          <p:spPr>
            <a:xfrm>
              <a:off x="490104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58"/>
          <p:cNvGrpSpPr/>
          <p:nvPr/>
        </p:nvGrpSpPr>
        <p:grpSpPr>
          <a:xfrm>
            <a:off x="5738760" y="5240160"/>
            <a:ext cx="1067760" cy="754920"/>
            <a:chOff x="5738760" y="5240160"/>
            <a:chExt cx="1067760" cy="754920"/>
          </a:xfrm>
        </p:grpSpPr>
        <p:pic>
          <p:nvPicPr>
            <p:cNvPr id="651" name="Picture 33" descr=""/>
            <p:cNvPicPr/>
            <p:nvPr/>
          </p:nvPicPr>
          <p:blipFill>
            <a:blip r:embed="rId10"/>
            <a:stretch/>
          </p:blipFill>
          <p:spPr>
            <a:xfrm>
              <a:off x="6053040" y="524016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6"/>
            <p:cNvSpPr/>
            <p:nvPr/>
          </p:nvSpPr>
          <p:spPr>
            <a:xfrm>
              <a:off x="5738760" y="56577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59"/>
          <p:cNvGrpSpPr/>
          <p:nvPr/>
        </p:nvGrpSpPr>
        <p:grpSpPr>
          <a:xfrm>
            <a:off x="6885720" y="5216400"/>
            <a:ext cx="981000" cy="778680"/>
            <a:chOff x="6885720" y="5216400"/>
            <a:chExt cx="981000" cy="778680"/>
          </a:xfrm>
        </p:grpSpPr>
        <p:pic>
          <p:nvPicPr>
            <p:cNvPr id="654" name="Picture 34" descr=""/>
            <p:cNvPicPr/>
            <p:nvPr/>
          </p:nvPicPr>
          <p:blipFill>
            <a:blip r:embed="rId11"/>
            <a:stretch/>
          </p:blipFill>
          <p:spPr>
            <a:xfrm>
              <a:off x="718992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57"/>
            <p:cNvSpPr/>
            <p:nvPr/>
          </p:nvSpPr>
          <p:spPr>
            <a:xfrm>
              <a:off x="6885720" y="5657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62"/>
          <p:cNvSpPr/>
          <p:nvPr/>
        </p:nvSpPr>
        <p:spPr>
          <a:xfrm flipH="1">
            <a:off x="2417760" y="2674800"/>
            <a:ext cx="2387520" cy="70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3"/>
          <p:cNvSpPr/>
          <p:nvPr/>
        </p:nvSpPr>
        <p:spPr>
          <a:xfrm>
            <a:off x="4811760" y="2637000"/>
            <a:ext cx="468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4"/>
          <p:cNvSpPr/>
          <p:nvPr/>
        </p:nvSpPr>
        <p:spPr>
          <a:xfrm>
            <a:off x="4834080" y="2665440"/>
            <a:ext cx="2276280" cy="7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5"/>
          <p:cNvGrpSpPr/>
          <p:nvPr/>
        </p:nvGrpSpPr>
        <p:grpSpPr>
          <a:xfrm>
            <a:off x="3576600" y="1925640"/>
            <a:ext cx="1871640" cy="642600"/>
            <a:chOff x="3576600" y="1925640"/>
            <a:chExt cx="1871640" cy="642600"/>
          </a:xfrm>
        </p:grpSpPr>
        <p:sp>
          <p:nvSpPr>
            <p:cNvPr id="660" name="Rectangle 14"/>
            <p:cNvSpPr/>
            <p:nvPr/>
          </p:nvSpPr>
          <p:spPr>
            <a:xfrm>
              <a:off x="4181760" y="1925640"/>
              <a:ext cx="126648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Picture 4" descr=""/>
            <p:cNvPicPr/>
            <p:nvPr/>
          </p:nvPicPr>
          <p:blipFill>
            <a:blip r:embed="rId12"/>
            <a:stretch/>
          </p:blipFill>
          <p:spPr>
            <a:xfrm>
              <a:off x="3576600" y="1985760"/>
              <a:ext cx="58104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Group 59"/>
          <p:cNvGrpSpPr/>
          <p:nvPr/>
        </p:nvGrpSpPr>
        <p:grpSpPr>
          <a:xfrm>
            <a:off x="7946280" y="5216400"/>
            <a:ext cx="945720" cy="778680"/>
            <a:chOff x="7946280" y="5216400"/>
            <a:chExt cx="945720" cy="778680"/>
          </a:xfrm>
        </p:grpSpPr>
        <p:pic>
          <p:nvPicPr>
            <p:cNvPr id="663" name="Picture 34" descr=""/>
            <p:cNvPicPr/>
            <p:nvPr/>
          </p:nvPicPr>
          <p:blipFill>
            <a:blip r:embed="rId13"/>
            <a:stretch/>
          </p:blipFill>
          <p:spPr>
            <a:xfrm>
              <a:off x="825048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57"/>
            <p:cNvSpPr/>
            <p:nvPr/>
          </p:nvSpPr>
          <p:spPr>
            <a:xfrm>
              <a:off x="7946280" y="56577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116"/>
          <p:cNvGrpSpPr/>
          <p:nvPr/>
        </p:nvGrpSpPr>
        <p:grpSpPr>
          <a:xfrm>
            <a:off x="4027320" y="4044960"/>
            <a:ext cx="1035360" cy="1189080"/>
            <a:chOff x="4027320" y="4044960"/>
            <a:chExt cx="1035360" cy="1189080"/>
          </a:xfrm>
        </p:grpSpPr>
        <p:sp>
          <p:nvSpPr>
            <p:cNvPr id="666" name="Line 63"/>
            <p:cNvSpPr/>
            <p:nvPr/>
          </p:nvSpPr>
          <p:spPr>
            <a:xfrm flipH="1">
              <a:off x="402732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3"/>
            <p:cNvSpPr/>
            <p:nvPr/>
          </p:nvSpPr>
          <p:spPr>
            <a:xfrm flipH="1">
              <a:off x="454284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3"/>
            <p:cNvSpPr/>
            <p:nvPr/>
          </p:nvSpPr>
          <p:spPr>
            <a:xfrm>
              <a:off x="454284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117"/>
          <p:cNvGrpSpPr/>
          <p:nvPr/>
        </p:nvGrpSpPr>
        <p:grpSpPr>
          <a:xfrm>
            <a:off x="6229440" y="4044960"/>
            <a:ext cx="2136600" cy="1189080"/>
            <a:chOff x="6229440" y="4044960"/>
            <a:chExt cx="2136600" cy="1189080"/>
          </a:xfrm>
        </p:grpSpPr>
        <p:sp>
          <p:nvSpPr>
            <p:cNvPr id="670" name="Line 63"/>
            <p:cNvSpPr/>
            <p:nvPr/>
          </p:nvSpPr>
          <p:spPr>
            <a:xfrm flipH="1">
              <a:off x="729576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Группа 110"/>
            <p:cNvGrpSpPr/>
            <p:nvPr/>
          </p:nvGrpSpPr>
          <p:grpSpPr>
            <a:xfrm>
              <a:off x="6229440" y="4044960"/>
              <a:ext cx="2136600" cy="1082160"/>
              <a:chOff x="6229440" y="4044960"/>
              <a:chExt cx="2136600" cy="1082160"/>
            </a:xfrm>
          </p:grpSpPr>
          <p:sp>
            <p:nvSpPr>
              <p:cNvPr id="672" name="Line 63"/>
              <p:cNvSpPr/>
              <p:nvPr/>
            </p:nvSpPr>
            <p:spPr>
              <a:xfrm flipH="1">
                <a:off x="62294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63"/>
              <p:cNvSpPr/>
              <p:nvPr/>
            </p:nvSpPr>
            <p:spPr>
              <a:xfrm>
                <a:off x="72932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Группа 115"/>
          <p:cNvGrpSpPr/>
          <p:nvPr/>
        </p:nvGrpSpPr>
        <p:grpSpPr>
          <a:xfrm>
            <a:off x="694800" y="4044960"/>
            <a:ext cx="1980000" cy="1189080"/>
            <a:chOff x="694800" y="4044960"/>
            <a:chExt cx="1980000" cy="1189080"/>
          </a:xfrm>
        </p:grpSpPr>
        <p:sp>
          <p:nvSpPr>
            <p:cNvPr id="675" name="Line 63"/>
            <p:cNvSpPr/>
            <p:nvPr/>
          </p:nvSpPr>
          <p:spPr>
            <a:xfrm flipH="1">
              <a:off x="1682640" y="4047120"/>
              <a:ext cx="324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Группа 114"/>
            <p:cNvGrpSpPr/>
            <p:nvPr/>
          </p:nvGrpSpPr>
          <p:grpSpPr>
            <a:xfrm>
              <a:off x="694800" y="4044960"/>
              <a:ext cx="1980000" cy="1140480"/>
              <a:chOff x="694800" y="4044960"/>
              <a:chExt cx="1980000" cy="1140480"/>
            </a:xfrm>
          </p:grpSpPr>
          <p:sp>
            <p:nvSpPr>
              <p:cNvPr id="677" name="Line 63"/>
              <p:cNvSpPr/>
              <p:nvPr/>
            </p:nvSpPr>
            <p:spPr>
              <a:xfrm flipH="1">
                <a:off x="69480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63"/>
              <p:cNvSpPr/>
              <p:nvPr/>
            </p:nvSpPr>
            <p:spPr>
              <a:xfrm>
                <a:off x="168084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8FC8-3D6E-4E61-AE14-F5FA5ECA619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" y="901800"/>
            <a:ext cx="844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йс-лис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696240" y="1430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695160" y="234648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ова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695160" y="417996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695160" y="509760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694800" y="326376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ов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71944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392580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271944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9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392580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93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3332160" y="3243240"/>
            <a:ext cx="76356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768920" y="3243240"/>
            <a:ext cx="11872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ill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6515280" y="3243240"/>
            <a:ext cx="14158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4429080" y="235584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6343560" y="235728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5433840" y="1433520"/>
            <a:ext cx="1319400" cy="347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3"/>
          <p:cNvSpPr/>
          <p:nvPr/>
        </p:nvSpPr>
        <p:spPr>
          <a:xfrm flipH="1">
            <a:off x="5281560" y="1779480"/>
            <a:ext cx="83520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6121440" y="1782720"/>
            <a:ext cx="9525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 flipH="1">
            <a:off x="3720960" y="2706840"/>
            <a:ext cx="143856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5164200" y="2706840"/>
            <a:ext cx="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5164200" y="2711520"/>
            <a:ext cx="1828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8"/>
          <p:cNvSpPr/>
          <p:nvPr/>
        </p:nvSpPr>
        <p:spPr>
          <a:xfrm flipH="1">
            <a:off x="3087720" y="3635280"/>
            <a:ext cx="60480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9"/>
          <p:cNvSpPr/>
          <p:nvPr/>
        </p:nvSpPr>
        <p:spPr>
          <a:xfrm>
            <a:off x="3706920" y="3639960"/>
            <a:ext cx="60012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4307040" y="4583160"/>
            <a:ext cx="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>
            <a:off x="3073320" y="458316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 flipH="1">
            <a:off x="5014800" y="3635280"/>
            <a:ext cx="31608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5345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>
            <a:off x="5335560" y="363528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8"/>
          <p:cNvSpPr/>
          <p:nvPr/>
        </p:nvSpPr>
        <p:spPr>
          <a:xfrm flipH="1">
            <a:off x="6981480" y="3639960"/>
            <a:ext cx="31572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9"/>
          <p:cNvSpPr/>
          <p:nvPr/>
        </p:nvSpPr>
        <p:spPr>
          <a:xfrm>
            <a:off x="7307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0"/>
          <p:cNvSpPr/>
          <p:nvPr/>
        </p:nvSpPr>
        <p:spPr>
          <a:xfrm>
            <a:off x="7302600" y="363996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7164360" y="2716200"/>
            <a:ext cx="34308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5"/>
          <p:cNvSpPr/>
          <p:nvPr/>
        </p:nvSpPr>
        <p:spPr>
          <a:xfrm>
            <a:off x="7188120" y="2720880"/>
            <a:ext cx="727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6"/>
          <p:cNvSpPr/>
          <p:nvPr/>
        </p:nvSpPr>
        <p:spPr>
          <a:xfrm>
            <a:off x="7221600" y="2720880"/>
            <a:ext cx="70956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0"/>
          <p:cNvSpPr/>
          <p:nvPr/>
        </p:nvSpPr>
        <p:spPr>
          <a:xfrm flipV="1">
            <a:off x="533520" y="1809360"/>
            <a:ext cx="4933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"/>
          <p:cNvSpPr/>
          <p:nvPr/>
        </p:nvSpPr>
        <p:spPr>
          <a:xfrm flipV="1">
            <a:off x="523800" y="2742840"/>
            <a:ext cx="4057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"/>
          <p:cNvSpPr/>
          <p:nvPr/>
        </p:nvSpPr>
        <p:spPr>
          <a:xfrm>
            <a:off x="523800" y="3651120"/>
            <a:ext cx="324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3"/>
          <p:cNvSpPr/>
          <p:nvPr/>
        </p:nvSpPr>
        <p:spPr>
          <a:xfrm flipV="1">
            <a:off x="495360" y="4591080"/>
            <a:ext cx="37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4"/>
          <p:cNvSpPr/>
          <p:nvPr/>
        </p:nvSpPr>
        <p:spPr>
          <a:xfrm flipV="1">
            <a:off x="495360" y="5495400"/>
            <a:ext cx="3779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A5F6-2166-4CF8-95EE-934077CDD3E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384120" y="957240"/>
            <a:ext cx="8442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дение к таблич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33240" y="1670040"/>
          <a:ext cx="817416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1484640"/>
                <a:gridCol w="2022480"/>
                <a:gridCol w="2187360"/>
                <a:gridCol w="87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е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93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li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B5 C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Master 193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6" name="Group 101"/>
          <p:cNvGrpSpPr/>
          <p:nvPr/>
        </p:nvGrpSpPr>
        <p:grpSpPr>
          <a:xfrm>
            <a:off x="426960" y="4505400"/>
            <a:ext cx="395280" cy="395280"/>
            <a:chOff x="426960" y="4505400"/>
            <a:chExt cx="395280" cy="395280"/>
          </a:xfrm>
        </p:grpSpPr>
        <p:sp>
          <p:nvSpPr>
            <p:cNvPr id="727" name="Oval 102"/>
            <p:cNvSpPr/>
            <p:nvPr/>
          </p:nvSpPr>
          <p:spPr>
            <a:xfrm>
              <a:off x="426960" y="4505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3"/>
            <p:cNvSpPr/>
            <p:nvPr/>
          </p:nvSpPr>
          <p:spPr>
            <a:xfrm>
              <a:off x="477720" y="4656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104"/>
          <p:cNvSpPr/>
          <p:nvPr/>
        </p:nvSpPr>
        <p:spPr>
          <a:xfrm>
            <a:off x="949320" y="4484520"/>
            <a:ext cx="7711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надо менять его во всех стро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защиты от ошибок ввода операто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ыло бы выбирать из сп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3. Реляционные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1FC-8F65-47AB-BC5F-31A53481CA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7"/>
          <p:cNvSpPr/>
          <p:nvPr/>
        </p:nvSpPr>
        <p:spPr>
          <a:xfrm>
            <a:off x="6408720" y="2890800"/>
            <a:ext cx="2454120" cy="3490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306360" y="803160"/>
            <a:ext cx="84805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970-е гг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. Кодд, 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яционная ба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бор простых таблиц, между которыми установлены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числовых код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tretch/>
        </p:blipFill>
        <p:spPr>
          <a:xfrm>
            <a:off x="466560" y="3051000"/>
            <a:ext cx="220680" cy="3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8" name=""/>
          <p:cNvGraphicFramePr/>
          <p:nvPr/>
        </p:nvGraphicFramePr>
        <p:xfrm>
          <a:off x="738360" y="2651040"/>
          <a:ext cx="1626840" cy="2378160"/>
        </p:xfrm>
        <a:graphic>
          <a:graphicData uri="http://schemas.openxmlformats.org/drawingml/2006/table">
            <a:tbl>
              <a:tblPr/>
              <a:tblGrid>
                <a:gridCol w="162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829560" y="2295360"/>
          <a:ext cx="2009520" cy="1986120"/>
        </p:xfrm>
        <a:graphic>
          <a:graphicData uri="http://schemas.openxmlformats.org/drawingml/2006/table">
            <a:tbl>
              <a:tblPr/>
              <a:tblGrid>
                <a:gridCol w="200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6394320" y="5005440"/>
          <a:ext cx="2235240" cy="1584360"/>
        </p:xfrm>
        <a:graphic>
          <a:graphicData uri="http://schemas.openxmlformats.org/drawingml/2006/table">
            <a:tbl>
              <a:tblPr/>
              <a:tblGrid>
                <a:gridCol w="2235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922320" y="5280120"/>
          <a:ext cx="1506600" cy="1189080"/>
        </p:xfrm>
        <a:graphic>
          <a:graphicData uri="http://schemas.openxmlformats.org/drawingml/2006/table">
            <a:tbl>
              <a:tblPr/>
              <a:tblGrid>
                <a:gridCol w="150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481560" y="2638440"/>
          <a:ext cx="2347920" cy="2773440"/>
        </p:xfrm>
        <a:graphic>
          <a:graphicData uri="http://schemas.openxmlformats.org/drawingml/2006/table">
            <a:tbl>
              <a:tblPr/>
              <a:tblGrid>
                <a:gridCol w="23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йс-лис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запис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одавц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3" name="Picture 107" descr=""/>
          <p:cNvPicPr/>
          <p:nvPr/>
        </p:nvPicPr>
        <p:blipFill>
          <a:blip r:embed="rId2"/>
          <a:stretch/>
        </p:blipFill>
        <p:spPr>
          <a:xfrm>
            <a:off x="662040" y="568152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08" descr=""/>
          <p:cNvPicPr/>
          <p:nvPr/>
        </p:nvPicPr>
        <p:blipFill>
          <a:blip r:embed="rId3"/>
          <a:stretch/>
        </p:blipFill>
        <p:spPr>
          <a:xfrm>
            <a:off x="3230640" y="3078000"/>
            <a:ext cx="220680" cy="358920"/>
          </a:xfrm>
          <a:prstGeom prst="rect">
            <a:avLst/>
          </a:prstGeom>
          <a:ln w="0">
            <a:noFill/>
          </a:ln>
        </p:spPr>
      </p:pic>
      <p:sp>
        <p:nvSpPr>
          <p:cNvPr id="745" name="Freeform 113"/>
          <p:cNvSpPr/>
          <p:nvPr/>
        </p:nvSpPr>
        <p:spPr>
          <a:xfrm>
            <a:off x="2357280" y="3083040"/>
            <a:ext cx="1128960" cy="583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14"/>
          <p:cNvSpPr/>
          <p:nvPr/>
        </p:nvSpPr>
        <p:spPr>
          <a:xfrm>
            <a:off x="2421000" y="4272120"/>
            <a:ext cx="1065240" cy="1670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15"/>
          <p:cNvSpPr/>
          <p:nvPr/>
        </p:nvSpPr>
        <p:spPr>
          <a:xfrm>
            <a:off x="5826240" y="2828880"/>
            <a:ext cx="1003320" cy="1241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6"/>
          <p:cNvSpPr/>
          <p:nvPr/>
        </p:nvSpPr>
        <p:spPr>
          <a:xfrm>
            <a:off x="5800680" y="4821120"/>
            <a:ext cx="571680" cy="9032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9" descr=""/>
          <p:cNvPicPr/>
          <p:nvPr/>
        </p:nvPicPr>
        <p:blipFill>
          <a:blip r:embed="rId4"/>
          <a:stretch/>
        </p:blipFill>
        <p:spPr>
          <a:xfrm>
            <a:off x="6605640" y="273528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10" descr=""/>
          <p:cNvPicPr/>
          <p:nvPr/>
        </p:nvPicPr>
        <p:blipFill>
          <a:blip r:embed="rId5"/>
          <a:stretch/>
        </p:blipFill>
        <p:spPr>
          <a:xfrm>
            <a:off x="6108840" y="5195880"/>
            <a:ext cx="220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A04-612B-498C-9EFF-AE606DAA58A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974880" y="844560"/>
            <a:ext cx="8003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информаци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достаточно изменить его только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т неправильного ввода: можно выбрать только фирму, которая есть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за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ые изменения вносятся в базу только тогда, когда они полностью заверше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5"/>
          <p:cNvGrpSpPr/>
          <p:nvPr/>
        </p:nvGrpSpPr>
        <p:grpSpPr>
          <a:xfrm>
            <a:off x="426960" y="876240"/>
            <a:ext cx="385920" cy="385920"/>
            <a:chOff x="426960" y="876240"/>
            <a:chExt cx="385920" cy="385920"/>
          </a:xfrm>
        </p:grpSpPr>
        <p:sp>
          <p:nvSpPr>
            <p:cNvPr id="756" name="Oval 6"/>
            <p:cNvSpPr/>
            <p:nvPr/>
          </p:nvSpPr>
          <p:spPr>
            <a:xfrm>
              <a:off x="426960" y="87624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7"/>
            <p:cNvGrpSpPr/>
            <p:nvPr/>
          </p:nvGrpSpPr>
          <p:grpSpPr>
            <a:xfrm>
              <a:off x="479160" y="922680"/>
              <a:ext cx="290160" cy="290160"/>
              <a:chOff x="479160" y="922680"/>
              <a:chExt cx="290160" cy="29016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47916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 rot="16200000">
                <a:off x="48024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Freeform 10"/>
            <p:cNvSpPr/>
            <p:nvPr/>
          </p:nvSpPr>
          <p:spPr>
            <a:xfrm>
              <a:off x="478800" y="92196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39640" y="4175280"/>
            <a:ext cx="395280" cy="395280"/>
            <a:chOff x="539640" y="4175280"/>
            <a:chExt cx="395280" cy="395280"/>
          </a:xfrm>
        </p:grpSpPr>
        <p:sp>
          <p:nvSpPr>
            <p:cNvPr id="762" name="Oval 12"/>
            <p:cNvSpPr/>
            <p:nvPr/>
          </p:nvSpPr>
          <p:spPr>
            <a:xfrm>
              <a:off x="539640" y="41752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590400" y="43261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Rectangle 14"/>
          <p:cNvSpPr/>
          <p:nvPr/>
        </p:nvSpPr>
        <p:spPr>
          <a:xfrm>
            <a:off x="1011240" y="4179960"/>
            <a:ext cx="8069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структуры (не более 40-50 таблиц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иске надо обращаться к нескольким таблиц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держ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и удалении фи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ца надо удалять все связанные записи (автоматичес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кадное 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1. 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738-DDC8-4287-9F2E-091E6087AEC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7920" y="784080"/>
            <a:ext cx="84801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 одному («1-1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ровно одна запись во втор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: выделение часто используемых данны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20760" y="2249640"/>
          <a:ext cx="3395520" cy="1463400"/>
        </p:xfrm>
        <a:graphic>
          <a:graphicData uri="http://schemas.openxmlformats.org/drawingml/2006/table">
            <a:tbl>
              <a:tblPr/>
              <a:tblGrid>
                <a:gridCol w="749160"/>
                <a:gridCol w="136224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ь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827520" y="2247840"/>
          <a:ext cx="5011560" cy="1463760"/>
        </p:xfrm>
        <a:graphic>
          <a:graphicData uri="http://schemas.openxmlformats.org/drawingml/2006/table">
            <a:tbl>
              <a:tblPr/>
              <a:tblGrid>
                <a:gridCol w="657000"/>
                <a:gridCol w="1332000"/>
                <a:gridCol w="30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рож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, д.20, кв.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, д. 30, кв 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Freeform 163"/>
          <p:cNvSpPr/>
          <p:nvPr/>
        </p:nvSpPr>
        <p:spPr>
          <a:xfrm>
            <a:off x="701640" y="2013120"/>
            <a:ext cx="3543480" cy="231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4"/>
          <p:cNvSpPr/>
          <p:nvPr/>
        </p:nvSpPr>
        <p:spPr>
          <a:xfrm>
            <a:off x="488880" y="191772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095720" y="192420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277920" y="3760920"/>
            <a:ext cx="8797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о многим («1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722600" y="5054760"/>
          <a:ext cx="2178000" cy="1584000"/>
        </p:xfrm>
        <a:graphic>
          <a:graphicData uri="http://schemas.openxmlformats.org/drawingml/2006/table">
            <a:tbl>
              <a:tblPr/>
              <a:tblGrid>
                <a:gridCol w="726840"/>
                <a:gridCol w="14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513320" y="5054760"/>
          <a:ext cx="3862440" cy="1584000"/>
        </p:xfrm>
        <a:graphic>
          <a:graphicData uri="http://schemas.openxmlformats.org/drawingml/2006/table">
            <a:tbl>
              <a:tblPr/>
              <a:tblGrid>
                <a:gridCol w="887400"/>
                <a:gridCol w="1631880"/>
                <a:gridCol w="1343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Freeform 229"/>
          <p:cNvSpPr/>
          <p:nvPr/>
        </p:nvSpPr>
        <p:spPr>
          <a:xfrm>
            <a:off x="2295360" y="4764240"/>
            <a:ext cx="3957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30"/>
          <p:cNvSpPr/>
          <p:nvPr/>
        </p:nvSpPr>
        <p:spPr>
          <a:xfrm>
            <a:off x="1938240" y="475308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31"/>
          <p:cNvSpPr/>
          <p:nvPr/>
        </p:nvSpPr>
        <p:spPr>
          <a:xfrm>
            <a:off x="6294600" y="47149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6"/>
          <p:cNvSpPr/>
          <p:nvPr/>
        </p:nvSpPr>
        <p:spPr>
          <a:xfrm>
            <a:off x="433440" y="4694400"/>
            <a:ext cx="1198440" cy="415800"/>
          </a:xfrm>
          <a:prstGeom prst="wedgeRoundRectCallout">
            <a:avLst>
              <a:gd name="adj1" fmla="val 62319"/>
              <a:gd name="adj2" fmla="val 80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37"/>
          <p:cNvSpPr/>
          <p:nvPr/>
        </p:nvSpPr>
        <p:spPr>
          <a:xfrm>
            <a:off x="7364520" y="4572000"/>
            <a:ext cx="1571400" cy="438120"/>
          </a:xfrm>
          <a:prstGeom prst="wedgeRoundRectCallout">
            <a:avLst>
              <a:gd name="adj1" fmla="val -28282"/>
              <a:gd name="adj2" fmla="val 837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E45F-3AFE-4FA7-AB6B-6B778A2E246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345960" y="765000"/>
            <a:ext cx="8480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ие ко многим («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498680" y="2136600"/>
          <a:ext cx="2168280" cy="1494000"/>
        </p:xfrm>
        <a:graphic>
          <a:graphicData uri="http://schemas.openxmlformats.org/drawingml/2006/table">
            <a:tbl>
              <a:tblPr/>
              <a:tblGrid>
                <a:gridCol w="723960"/>
                <a:gridCol w="144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5268960" y="1905120"/>
          <a:ext cx="2989080" cy="1888920"/>
        </p:xfrm>
        <a:graphic>
          <a:graphicData uri="http://schemas.openxmlformats.org/drawingml/2006/table">
            <a:tbl>
              <a:tblPr/>
              <a:tblGrid>
                <a:gridCol w="996840"/>
                <a:gridCol w="1992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Line 51"/>
          <p:cNvSpPr/>
          <p:nvPr/>
        </p:nvSpPr>
        <p:spPr>
          <a:xfrm flipV="1">
            <a:off x="3462480" y="24904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3467160" y="27226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5"/>
          <p:cNvSpPr/>
          <p:nvPr/>
        </p:nvSpPr>
        <p:spPr>
          <a:xfrm>
            <a:off x="345960" y="3686040"/>
            <a:ext cx="844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ерез третью таблицу и две связи «1-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82600" y="4610160"/>
          <a:ext cx="1952640" cy="1371600"/>
        </p:xfrm>
        <a:graphic>
          <a:graphicData uri="http://schemas.openxmlformats.org/drawingml/2006/table">
            <a:tbl>
              <a:tblPr/>
              <a:tblGrid>
                <a:gridCol w="650880"/>
                <a:gridCol w="130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6585120" y="4624560"/>
          <a:ext cx="2236680" cy="1888920"/>
        </p:xfrm>
        <a:graphic>
          <a:graphicData uri="http://schemas.openxmlformats.org/drawingml/2006/table">
            <a:tbl>
              <a:tblPr/>
              <a:tblGrid>
                <a:gridCol w="745920"/>
                <a:gridCol w="14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335320" y="4619520"/>
          <a:ext cx="4116240" cy="2073240"/>
        </p:xfrm>
        <a:graphic>
          <a:graphicData uri="http://schemas.openxmlformats.org/drawingml/2006/table">
            <a:tbl>
              <a:tblPr/>
              <a:tblGrid>
                <a:gridCol w="699840"/>
                <a:gridCol w="1070280"/>
                <a:gridCol w="1185840"/>
                <a:gridCol w="1160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учител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едме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Freeform 185"/>
          <p:cNvSpPr/>
          <p:nvPr/>
        </p:nvSpPr>
        <p:spPr>
          <a:xfrm>
            <a:off x="993600" y="4309920"/>
            <a:ext cx="25657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86"/>
          <p:cNvSpPr/>
          <p:nvPr/>
        </p:nvSpPr>
        <p:spPr>
          <a:xfrm>
            <a:off x="4649760" y="4329000"/>
            <a:ext cx="26989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88"/>
          <p:cNvSpPr/>
          <p:nvPr/>
        </p:nvSpPr>
        <p:spPr>
          <a:xfrm>
            <a:off x="415800" y="6210360"/>
            <a:ext cx="1941480" cy="520560"/>
          </a:xfrm>
          <a:prstGeom prst="wedgeRoundRectCallout">
            <a:avLst>
              <a:gd name="adj1" fmla="val 65708"/>
              <a:gd name="adj2" fmla="val -47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89"/>
          <p:cNvSpPr/>
          <p:nvPr/>
        </p:nvSpPr>
        <p:spPr>
          <a:xfrm>
            <a:off x="49320" y="2046240"/>
            <a:ext cx="1384200" cy="444600"/>
          </a:xfrm>
          <a:prstGeom prst="wedgeRoundRectCallout">
            <a:avLst>
              <a:gd name="adj1" fmla="val 62592"/>
              <a:gd name="adj2" fmla="val 10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90"/>
          <p:cNvSpPr/>
          <p:nvPr/>
        </p:nvSpPr>
        <p:spPr>
          <a:xfrm>
            <a:off x="7510320" y="1576440"/>
            <a:ext cx="1497240" cy="436680"/>
          </a:xfrm>
          <a:prstGeom prst="wedgeRoundRectCallout">
            <a:avLst>
              <a:gd name="adj1" fmla="val -43472"/>
              <a:gd name="adj2" fmla="val 1171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00"/>
          <p:cNvSpPr/>
          <p:nvPr/>
        </p:nvSpPr>
        <p:spPr>
          <a:xfrm>
            <a:off x="4249800" y="42894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02"/>
          <p:cNvSpPr/>
          <p:nvPr/>
        </p:nvSpPr>
        <p:spPr>
          <a:xfrm>
            <a:off x="3602160" y="429732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03"/>
          <p:cNvSpPr/>
          <p:nvPr/>
        </p:nvSpPr>
        <p:spPr>
          <a:xfrm>
            <a:off x="3743280" y="223056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04"/>
          <p:cNvSpPr/>
          <p:nvPr/>
        </p:nvSpPr>
        <p:spPr>
          <a:xfrm>
            <a:off x="4869000" y="21906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6"/>
          <p:cNvSpPr/>
          <p:nvPr/>
        </p:nvSpPr>
        <p:spPr>
          <a:xfrm>
            <a:off x="658800" y="42991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07"/>
          <p:cNvSpPr/>
          <p:nvPr/>
        </p:nvSpPr>
        <p:spPr>
          <a:xfrm>
            <a:off x="7380360" y="431784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1"/>
          <p:cNvSpPr/>
          <p:nvPr/>
        </p:nvSpPr>
        <p:spPr>
          <a:xfrm flipV="1">
            <a:off x="3481560" y="29476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2"/>
          <p:cNvSpPr/>
          <p:nvPr/>
        </p:nvSpPr>
        <p:spPr>
          <a:xfrm>
            <a:off x="3486240" y="31798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B851-DA46-4CD5-AFBF-C2CF8D32A8E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5680" y="808200"/>
            <a:ext cx="8432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Нормализа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азработка такой структуры БД, в которой нет избыточных данных и связ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600" y="1590840"/>
            <a:ext cx="8078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им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168560" y="2205000"/>
          <a:ext cx="2199960" cy="1494000"/>
        </p:xfrm>
        <a:graphic>
          <a:graphicData uri="http://schemas.openxmlformats.org/drawingml/2006/table">
            <a:tbl>
              <a:tblPr/>
              <a:tblGrid>
                <a:gridCol w="219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и 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4908600" y="2195640"/>
          <a:ext cx="2879640" cy="1523880"/>
        </p:xfrm>
        <a:graphic>
          <a:graphicData uri="http://schemas.openxmlformats.org/drawingml/2006/table">
            <a:tbl>
              <a:tblPr/>
              <a:tblGrid>
                <a:gridCol w="1500120"/>
                <a:gridCol w="137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AutoShape 62"/>
          <p:cNvSpPr/>
          <p:nvPr/>
        </p:nvSpPr>
        <p:spPr>
          <a:xfrm>
            <a:off x="3683160" y="2724120"/>
            <a:ext cx="895320" cy="461880"/>
          </a:xfrm>
          <a:prstGeom prst="rightArrow">
            <a:avLst>
              <a:gd name="adj1" fmla="val 50000"/>
              <a:gd name="adj2" fmla="val 4846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63"/>
          <p:cNvSpPr/>
          <p:nvPr/>
        </p:nvSpPr>
        <p:spPr>
          <a:xfrm rot="2700000">
            <a:off x="1613160" y="246996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4"/>
          <p:cNvSpPr/>
          <p:nvPr/>
        </p:nvSpPr>
        <p:spPr>
          <a:xfrm>
            <a:off x="581040" y="3844800"/>
            <a:ext cx="85629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обозначают  различные виды одного и того же, например, това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64960" y="4853160"/>
          <a:ext cx="3040200" cy="1584000"/>
        </p:xfrm>
        <a:graphic>
          <a:graphicData uri="http://schemas.openxmlformats.org/drawingml/2006/table">
            <a:tbl>
              <a:tblPr/>
              <a:tblGrid>
                <a:gridCol w="863640"/>
                <a:gridCol w="123048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AutoShape 99"/>
          <p:cNvSpPr/>
          <p:nvPr/>
        </p:nvSpPr>
        <p:spPr>
          <a:xfrm rot="2700000">
            <a:off x="1584360" y="5117760"/>
            <a:ext cx="112248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0"/>
          <p:cNvSpPr/>
          <p:nvPr/>
        </p:nvSpPr>
        <p:spPr>
          <a:xfrm>
            <a:off x="3371760" y="5429160"/>
            <a:ext cx="495360" cy="461880"/>
          </a:xfrm>
          <a:prstGeom prst="rightArrow">
            <a:avLst>
              <a:gd name="adj1" fmla="val 50000"/>
              <a:gd name="adj2" fmla="val 48425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3900600" y="4849920"/>
          <a:ext cx="2963880" cy="1768320"/>
        </p:xfrm>
        <a:graphic>
          <a:graphicData uri="http://schemas.openxmlformats.org/drawingml/2006/table">
            <a:tbl>
              <a:tblPr/>
              <a:tblGrid>
                <a:gridCol w="771480"/>
                <a:gridCol w="1123920"/>
                <a:gridCol w="10684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7061040" y="4851360"/>
          <a:ext cx="1938600" cy="1584360"/>
        </p:xfrm>
        <a:graphic>
          <a:graphicData uri="http://schemas.openxmlformats.org/drawingml/2006/table">
            <a:tbl>
              <a:tblPr/>
              <a:tblGrid>
                <a:gridCol w="712800"/>
                <a:gridCol w="122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Freeform 158"/>
          <p:cNvSpPr/>
          <p:nvPr/>
        </p:nvSpPr>
        <p:spPr>
          <a:xfrm>
            <a:off x="5226120" y="4570560"/>
            <a:ext cx="2274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59"/>
          <p:cNvSpPr/>
          <p:nvPr/>
        </p:nvSpPr>
        <p:spPr>
          <a:xfrm>
            <a:off x="4873680" y="454824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60"/>
          <p:cNvSpPr/>
          <p:nvPr/>
        </p:nvSpPr>
        <p:spPr>
          <a:xfrm>
            <a:off x="7502400" y="4576680"/>
            <a:ext cx="311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80D-2073-49F4-BB5E-DD3B691877A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60360" y="844560"/>
            <a:ext cx="8356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зависеть только от ключ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поле или комбинация полей, однозначно определяющая запись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95320" y="2211480"/>
          <a:ext cx="3587760" cy="1584360"/>
        </p:xfrm>
        <a:graphic>
          <a:graphicData uri="http://schemas.openxmlformats.org/drawingml/2006/table">
            <a:tbl>
              <a:tblPr/>
              <a:tblGrid>
                <a:gridCol w="871560"/>
                <a:gridCol w="1443240"/>
                <a:gridCol w="1272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AutoShape 36"/>
          <p:cNvSpPr/>
          <p:nvPr/>
        </p:nvSpPr>
        <p:spPr>
          <a:xfrm rot="2700000">
            <a:off x="4147920" y="2532240"/>
            <a:ext cx="1122120" cy="112212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7"/>
          <p:cNvSpPr/>
          <p:nvPr/>
        </p:nvSpPr>
        <p:spPr>
          <a:xfrm>
            <a:off x="360360" y="3954600"/>
            <a:ext cx="8207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могут быть найдены с помощью оста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49440" y="4917960"/>
          <a:ext cx="8184960" cy="1494000"/>
        </p:xfrm>
        <a:graphic>
          <a:graphicData uri="http://schemas.openxmlformats.org/drawingml/2006/table">
            <a:tbl>
              <a:tblPr/>
              <a:tblGrid>
                <a:gridCol w="760320"/>
                <a:gridCol w="1398600"/>
                <a:gridCol w="1993680"/>
                <a:gridCol w="2165400"/>
                <a:gridCol w="1866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тонн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, тон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AutoShape 60"/>
          <p:cNvSpPr/>
          <p:nvPr/>
        </p:nvSpPr>
        <p:spPr>
          <a:xfrm rot="2700000">
            <a:off x="7358400" y="514332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4"/>
          <p:cNvSpPr/>
          <p:nvPr/>
        </p:nvSpPr>
        <p:spPr>
          <a:xfrm>
            <a:off x="460440" y="2117880"/>
            <a:ext cx="1263600" cy="415800"/>
          </a:xfrm>
          <a:prstGeom prst="wedgeRoundRectCallout">
            <a:avLst>
              <a:gd name="adj1" fmla="val 83416"/>
              <a:gd name="adj2" fmla="val 128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40"/>
          <p:cNvSpPr/>
          <p:nvPr/>
        </p:nvSpPr>
        <p:spPr>
          <a:xfrm>
            <a:off x="6037200" y="1711440"/>
            <a:ext cx="2765520" cy="1633320"/>
          </a:xfrm>
          <a:prstGeom prst="wedgeRoundRectCallout">
            <a:avLst>
              <a:gd name="adj1" fmla="val -78837"/>
              <a:gd name="adj2" fmla="val -56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не только от названия товар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0"/>
          <p:cNvSpPr/>
          <p:nvPr/>
        </p:nvSpPr>
        <p:spPr>
          <a:xfrm>
            <a:off x="6389640" y="2646360"/>
            <a:ext cx="397080" cy="369720"/>
          </a:xfrm>
          <a:prstGeom prst="rightArrow">
            <a:avLst>
              <a:gd name="adj1" fmla="val 50000"/>
              <a:gd name="adj2" fmla="val 48494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16"/>
          <p:cNvSpPr/>
          <p:nvPr/>
        </p:nvSpPr>
        <p:spPr>
          <a:xfrm>
            <a:off x="6874920" y="2616120"/>
            <a:ext cx="1750320" cy="459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A7E-CCA0-43F5-B1D0-2EA89BC14B5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36600" y="82692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Линейный поис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бор всех записей до тех пор, пока не будет найдена нужн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300400" y="1881360"/>
          <a:ext cx="3263760" cy="2286000"/>
        </p:xfrm>
        <a:graphic>
          <a:graphicData uri="http://schemas.openxmlformats.org/drawingml/2006/table">
            <a:tbl>
              <a:tblPr/>
              <a:tblGrid>
                <a:gridCol w="1089000"/>
                <a:gridCol w="21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о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ранце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AutoShape 28"/>
          <p:cNvSpPr/>
          <p:nvPr/>
        </p:nvSpPr>
        <p:spPr>
          <a:xfrm>
            <a:off x="5711760" y="2367000"/>
            <a:ext cx="1724040" cy="507960"/>
          </a:xfrm>
          <a:prstGeom prst="wedgeRoundRectCallout">
            <a:avLst>
              <a:gd name="adj1" fmla="val -65574"/>
              <a:gd name="adj2" fmla="val 1460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9"/>
          <p:cNvSpPr/>
          <p:nvPr/>
        </p:nvSpPr>
        <p:spPr>
          <a:xfrm rot="5400000">
            <a:off x="1271160" y="2830320"/>
            <a:ext cx="1424160" cy="376560"/>
          </a:xfrm>
          <a:prstGeom prst="rightArrow">
            <a:avLst>
              <a:gd name="adj1" fmla="val 50000"/>
              <a:gd name="adj2" fmla="val 9455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0"/>
          <p:cNvSpPr/>
          <p:nvPr/>
        </p:nvSpPr>
        <p:spPr>
          <a:xfrm>
            <a:off x="5721480" y="3355920"/>
            <a:ext cx="26622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24 сравнен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"/>
          <p:cNvSpPr/>
          <p:nvPr/>
        </p:nvSpPr>
        <p:spPr>
          <a:xfrm>
            <a:off x="1316160" y="464652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не надо предварительно готови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2"/>
          <p:cNvGrpSpPr/>
          <p:nvPr/>
        </p:nvGrpSpPr>
        <p:grpSpPr>
          <a:xfrm>
            <a:off x="843120" y="4687920"/>
            <a:ext cx="385560" cy="385560"/>
            <a:chOff x="843120" y="4687920"/>
            <a:chExt cx="385560" cy="385560"/>
          </a:xfrm>
        </p:grpSpPr>
        <p:sp>
          <p:nvSpPr>
            <p:cNvPr id="848" name="Oval 33"/>
            <p:cNvSpPr/>
            <p:nvPr/>
          </p:nvSpPr>
          <p:spPr>
            <a:xfrm>
              <a:off x="843120" y="4687920"/>
              <a:ext cx="38556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34"/>
            <p:cNvGrpSpPr/>
            <p:nvPr/>
          </p:nvGrpSpPr>
          <p:grpSpPr>
            <a:xfrm>
              <a:off x="895320" y="4734000"/>
              <a:ext cx="289800" cy="289800"/>
              <a:chOff x="895320" y="4734000"/>
              <a:chExt cx="289800" cy="289800"/>
            </a:xfrm>
          </p:grpSpPr>
          <p:sp>
            <p:nvSpPr>
              <p:cNvPr id="850" name="Rectangle 35"/>
              <p:cNvSpPr/>
              <p:nvPr/>
            </p:nvSpPr>
            <p:spPr>
              <a:xfrm>
                <a:off x="895320" y="48319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"/>
              <p:cNvSpPr/>
              <p:nvPr/>
            </p:nvSpPr>
            <p:spPr>
              <a:xfrm rot="16200000">
                <a:off x="896400" y="48315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37"/>
            <p:cNvSpPr/>
            <p:nvPr/>
          </p:nvSpPr>
          <p:spPr>
            <a:xfrm>
              <a:off x="894600" y="4733640"/>
              <a:ext cx="29052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"/>
          <p:cNvGrpSpPr/>
          <p:nvPr/>
        </p:nvGrpSpPr>
        <p:grpSpPr>
          <a:xfrm>
            <a:off x="843120" y="5243400"/>
            <a:ext cx="395280" cy="395280"/>
            <a:chOff x="843120" y="5243400"/>
            <a:chExt cx="395280" cy="395280"/>
          </a:xfrm>
        </p:grpSpPr>
        <p:sp>
          <p:nvSpPr>
            <p:cNvPr id="854" name="Oval 39"/>
            <p:cNvSpPr/>
            <p:nvPr/>
          </p:nvSpPr>
          <p:spPr>
            <a:xfrm>
              <a:off x="843120" y="5243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0"/>
            <p:cNvSpPr/>
            <p:nvPr/>
          </p:nvSpPr>
          <p:spPr>
            <a:xfrm>
              <a:off x="893880" y="5394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41"/>
          <p:cNvSpPr/>
          <p:nvPr/>
        </p:nvSpPr>
        <p:spPr>
          <a:xfrm>
            <a:off x="1316160" y="524988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корость по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6BE-5644-4EBB-B889-B94D2F7080F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"/>
          <p:cNvSpPr/>
          <p:nvPr/>
        </p:nvSpPr>
        <p:spPr>
          <a:xfrm>
            <a:off x="317520" y="1281240"/>
            <a:ext cx="4064040" cy="4524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оичный поис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Лев"/>
          <p:cNvPicPr/>
          <p:nvPr/>
        </p:nvPicPr>
        <p:blipFill>
          <a:blip r:embed="rId1"/>
          <a:stretch/>
        </p:blipFill>
        <p:spPr>
          <a:xfrm>
            <a:off x="747720" y="2303640"/>
            <a:ext cx="954000" cy="661680"/>
          </a:xfrm>
          <a:prstGeom prst="rect">
            <a:avLst/>
          </a:prstGeom>
          <a:ln w="0">
            <a:noFill/>
          </a:ln>
        </p:spPr>
      </p:pic>
      <p:sp>
        <p:nvSpPr>
          <p:cNvPr id="862" name="Freeform 6"/>
          <p:cNvSpPr/>
          <p:nvPr/>
        </p:nvSpPr>
        <p:spPr>
          <a:xfrm>
            <a:off x="1568520" y="2619360"/>
            <a:ext cx="3049560" cy="34527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7"/>
          <p:cNvSpPr/>
          <p:nvPr/>
        </p:nvSpPr>
        <p:spPr>
          <a:xfrm>
            <a:off x="793800" y="985680"/>
            <a:ext cx="3367080" cy="22053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842760" y="1348200"/>
            <a:ext cx="2143440" cy="1717200"/>
            <a:chOff x="842760" y="1348200"/>
            <a:chExt cx="2143440" cy="1717200"/>
          </a:xfrm>
        </p:grpSpPr>
        <p:sp>
          <p:nvSpPr>
            <p:cNvPr id="865" name="Rectangle 9"/>
            <p:cNvSpPr/>
            <p:nvPr/>
          </p:nvSpPr>
          <p:spPr>
            <a:xfrm flipH="1">
              <a:off x="2079360" y="1998360"/>
              <a:ext cx="65160" cy="69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0"/>
            <p:cNvSpPr/>
            <p:nvPr/>
          </p:nvSpPr>
          <p:spPr>
            <a:xfrm flipH="1">
              <a:off x="1415880" y="1606320"/>
              <a:ext cx="65160" cy="69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1"/>
            <p:cNvSpPr/>
            <p:nvPr/>
          </p:nvSpPr>
          <p:spPr>
            <a:xfrm flipH="1">
              <a:off x="1582560" y="1703160"/>
              <a:ext cx="65160" cy="69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"/>
            <p:cNvSpPr/>
            <p:nvPr/>
          </p:nvSpPr>
          <p:spPr>
            <a:xfrm flipH="1">
              <a:off x="1081080" y="1414440"/>
              <a:ext cx="66600" cy="69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 flipH="1">
              <a:off x="1749240" y="1796760"/>
              <a:ext cx="65160" cy="69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4"/>
            <p:cNvSpPr/>
            <p:nvPr/>
          </p:nvSpPr>
          <p:spPr>
            <a:xfrm flipH="1">
              <a:off x="1249200" y="1506240"/>
              <a:ext cx="65160" cy="69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5"/>
            <p:cNvSpPr/>
            <p:nvPr/>
          </p:nvSpPr>
          <p:spPr>
            <a:xfrm flipH="1">
              <a:off x="2414520" y="2197080"/>
              <a:ext cx="6516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6"/>
            <p:cNvSpPr/>
            <p:nvPr/>
          </p:nvSpPr>
          <p:spPr>
            <a:xfrm flipH="1">
              <a:off x="1912680" y="1898640"/>
              <a:ext cx="65160" cy="691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7"/>
            <p:cNvSpPr/>
            <p:nvPr/>
          </p:nvSpPr>
          <p:spPr>
            <a:xfrm flipH="1">
              <a:off x="2581200" y="2286000"/>
              <a:ext cx="65160" cy="693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8"/>
            <p:cNvSpPr/>
            <p:nvPr/>
          </p:nvSpPr>
          <p:spPr>
            <a:xfrm flipH="1">
              <a:off x="2247840" y="2097000"/>
              <a:ext cx="65160" cy="693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9"/>
            <p:cNvSpPr/>
            <p:nvPr/>
          </p:nvSpPr>
          <p:spPr>
            <a:xfrm flipH="1">
              <a:off x="2743560" y="2371680"/>
              <a:ext cx="64800" cy="693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0"/>
            <p:cNvSpPr/>
            <p:nvPr/>
          </p:nvSpPr>
          <p:spPr>
            <a:xfrm flipH="1" rot="1921200">
              <a:off x="668160" y="2004480"/>
              <a:ext cx="2492280" cy="57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1"/>
            <p:cNvSpPr/>
            <p:nvPr/>
          </p:nvSpPr>
          <p:spPr>
            <a:xfrm flipH="1" rot="1921200">
              <a:off x="672840" y="2353680"/>
              <a:ext cx="2432160" cy="54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22"/>
          <p:cNvGrpSpPr/>
          <p:nvPr/>
        </p:nvGrpSpPr>
        <p:grpSpPr>
          <a:xfrm>
            <a:off x="1562040" y="2084760"/>
            <a:ext cx="2143440" cy="1717200"/>
            <a:chOff x="1562040" y="2084760"/>
            <a:chExt cx="2143440" cy="1717200"/>
          </a:xfrm>
        </p:grpSpPr>
        <p:sp>
          <p:nvSpPr>
            <p:cNvPr id="879" name="Rectangle 23"/>
            <p:cNvSpPr/>
            <p:nvPr/>
          </p:nvSpPr>
          <p:spPr>
            <a:xfrm>
              <a:off x="2403360" y="2734920"/>
              <a:ext cx="65160" cy="693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4"/>
            <p:cNvSpPr/>
            <p:nvPr/>
          </p:nvSpPr>
          <p:spPr>
            <a:xfrm>
              <a:off x="3066840" y="2342880"/>
              <a:ext cx="65160" cy="693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25"/>
            <p:cNvSpPr/>
            <p:nvPr/>
          </p:nvSpPr>
          <p:spPr>
            <a:xfrm>
              <a:off x="2900160" y="2439720"/>
              <a:ext cx="65160" cy="693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26"/>
            <p:cNvSpPr/>
            <p:nvPr/>
          </p:nvSpPr>
          <p:spPr>
            <a:xfrm>
              <a:off x="3400200" y="2151000"/>
              <a:ext cx="66600" cy="693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27"/>
            <p:cNvSpPr/>
            <p:nvPr/>
          </p:nvSpPr>
          <p:spPr>
            <a:xfrm>
              <a:off x="2733480" y="2533320"/>
              <a:ext cx="65160" cy="693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8"/>
            <p:cNvSpPr/>
            <p:nvPr/>
          </p:nvSpPr>
          <p:spPr>
            <a:xfrm>
              <a:off x="3233520" y="2242800"/>
              <a:ext cx="6516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9"/>
            <p:cNvSpPr/>
            <p:nvPr/>
          </p:nvSpPr>
          <p:spPr>
            <a:xfrm>
              <a:off x="2068200" y="2933640"/>
              <a:ext cx="65160" cy="6919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0"/>
            <p:cNvSpPr/>
            <p:nvPr/>
          </p:nvSpPr>
          <p:spPr>
            <a:xfrm>
              <a:off x="2570040" y="2635200"/>
              <a:ext cx="65160" cy="691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1"/>
            <p:cNvSpPr/>
            <p:nvPr/>
          </p:nvSpPr>
          <p:spPr>
            <a:xfrm>
              <a:off x="1901520" y="3022560"/>
              <a:ext cx="65160" cy="6937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2"/>
            <p:cNvSpPr/>
            <p:nvPr/>
          </p:nvSpPr>
          <p:spPr>
            <a:xfrm>
              <a:off x="2234880" y="2833560"/>
              <a:ext cx="65160" cy="6937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"/>
            <p:cNvSpPr/>
            <p:nvPr/>
          </p:nvSpPr>
          <p:spPr>
            <a:xfrm>
              <a:off x="1739880" y="3108240"/>
              <a:ext cx="64800" cy="6937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"/>
            <p:cNvSpPr/>
            <p:nvPr/>
          </p:nvSpPr>
          <p:spPr>
            <a:xfrm rot="19678800">
              <a:off x="1387440" y="2741040"/>
              <a:ext cx="2492280" cy="57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5"/>
            <p:cNvSpPr/>
            <p:nvPr/>
          </p:nvSpPr>
          <p:spPr>
            <a:xfrm rot="19678800">
              <a:off x="1442520" y="3090240"/>
              <a:ext cx="2432160" cy="54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54"/>
          <p:cNvSpPr/>
          <p:nvPr/>
        </p:nvSpPr>
        <p:spPr>
          <a:xfrm>
            <a:off x="4592520" y="1933560"/>
            <a:ext cx="4165560" cy="2819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ь область поиска на две равные ч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оловине находится нужный объек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йти к шагу 1 для этой полови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ть шаги 1-3 пока объект не будет «пойман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2E69-8036-4008-96F0-CEE6175B468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71400" y="1776240"/>
          <a:ext cx="2324160" cy="2773440"/>
        </p:xfrm>
        <a:graphic>
          <a:graphicData uri="http://schemas.openxmlformats.org/drawingml/2006/table">
            <a:tbl>
              <a:tblPr/>
              <a:tblGrid>
                <a:gridCol w="852480"/>
                <a:gridCol w="14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Rectangle 24"/>
          <p:cNvSpPr/>
          <p:nvPr/>
        </p:nvSpPr>
        <p:spPr>
          <a:xfrm>
            <a:off x="355680" y="85248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Двоичный поиск в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ребует предварительной сортиров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62"/>
          <p:cNvSpPr/>
          <p:nvPr/>
        </p:nvSpPr>
        <p:spPr>
          <a:xfrm>
            <a:off x="2633760" y="1285920"/>
            <a:ext cx="1263600" cy="465120"/>
          </a:xfrm>
          <a:prstGeom prst="wedgeRoundRectCallout">
            <a:avLst>
              <a:gd name="adj1" fmla="val -32884"/>
              <a:gd name="adj2" fmla="val 1013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3602160" y="1774800"/>
          <a:ext cx="2136600" cy="2773440"/>
        </p:xfrm>
        <a:graphic>
          <a:graphicData uri="http://schemas.openxmlformats.org/drawingml/2006/table">
            <a:tbl>
              <a:tblPr/>
              <a:tblGrid>
                <a:gridCol w="784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0" name="AutoShape 226"/>
          <p:cNvSpPr/>
          <p:nvPr/>
        </p:nvSpPr>
        <p:spPr>
          <a:xfrm flipV="1" rot="16200000">
            <a:off x="2887920" y="2321640"/>
            <a:ext cx="641520" cy="24588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227"/>
          <p:cNvSpPr/>
          <p:nvPr/>
        </p:nvSpPr>
        <p:spPr>
          <a:xfrm rot="5400000">
            <a:off x="5654160" y="295272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6319800" y="1771560"/>
          <a:ext cx="2241720" cy="2773440"/>
        </p:xfrm>
        <a:graphic>
          <a:graphicData uri="http://schemas.openxmlformats.org/drawingml/2006/table">
            <a:tbl>
              <a:tblPr/>
              <a:tblGrid>
                <a:gridCol w="822240"/>
                <a:gridCol w="141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нат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3" name="AutoShape 300"/>
          <p:cNvSpPr/>
          <p:nvPr/>
        </p:nvSpPr>
        <p:spPr>
          <a:xfrm flipV="1" rot="16200000">
            <a:off x="8494200" y="269064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309"/>
          <p:cNvGrpSpPr/>
          <p:nvPr/>
        </p:nvGrpSpPr>
        <p:grpSpPr>
          <a:xfrm>
            <a:off x="272880" y="4684680"/>
            <a:ext cx="4248000" cy="663480"/>
            <a:chOff x="272880" y="4684680"/>
            <a:chExt cx="4248000" cy="663480"/>
          </a:xfrm>
        </p:grpSpPr>
        <p:sp>
          <p:nvSpPr>
            <p:cNvPr id="905" name="Text Box 307"/>
            <p:cNvSpPr/>
            <p:nvPr/>
          </p:nvSpPr>
          <p:spPr>
            <a:xfrm>
              <a:off x="739440" y="4790880"/>
              <a:ext cx="378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сравн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08"/>
            <p:cNvSpPr/>
            <p:nvPr/>
          </p:nvSpPr>
          <p:spPr>
            <a:xfrm>
              <a:off x="272880" y="4684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0"/>
          <p:cNvSpPr/>
          <p:nvPr/>
        </p:nvSpPr>
        <p:spPr>
          <a:xfrm>
            <a:off x="1303200" y="5883120"/>
            <a:ext cx="7475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надо отсортировать по нужному пол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только для одного по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311"/>
          <p:cNvGrpSpPr/>
          <p:nvPr/>
        </p:nvGrpSpPr>
        <p:grpSpPr>
          <a:xfrm>
            <a:off x="871560" y="5438880"/>
            <a:ext cx="385920" cy="385560"/>
            <a:chOff x="871560" y="5438880"/>
            <a:chExt cx="385920" cy="385560"/>
          </a:xfrm>
        </p:grpSpPr>
        <p:sp>
          <p:nvSpPr>
            <p:cNvPr id="909" name="Oval 312"/>
            <p:cNvSpPr/>
            <p:nvPr/>
          </p:nvSpPr>
          <p:spPr>
            <a:xfrm>
              <a:off x="871560" y="5438880"/>
              <a:ext cx="38592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313"/>
            <p:cNvGrpSpPr/>
            <p:nvPr/>
          </p:nvGrpSpPr>
          <p:grpSpPr>
            <a:xfrm>
              <a:off x="923760" y="5484960"/>
              <a:ext cx="290160" cy="289800"/>
              <a:chOff x="923760" y="5484960"/>
              <a:chExt cx="290160" cy="289800"/>
            </a:xfrm>
          </p:grpSpPr>
          <p:sp>
            <p:nvSpPr>
              <p:cNvPr id="911" name="Rectangle 314"/>
              <p:cNvSpPr/>
              <p:nvPr/>
            </p:nvSpPr>
            <p:spPr>
              <a:xfrm>
                <a:off x="923760" y="55828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315"/>
              <p:cNvSpPr/>
              <p:nvPr/>
            </p:nvSpPr>
            <p:spPr>
              <a:xfrm rot="16200000">
                <a:off x="924840" y="55825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16"/>
            <p:cNvSpPr/>
            <p:nvPr/>
          </p:nvSpPr>
          <p:spPr>
            <a:xfrm>
              <a:off x="923400" y="5484600"/>
              <a:ext cx="29088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317"/>
          <p:cNvGrpSpPr/>
          <p:nvPr/>
        </p:nvGrpSpPr>
        <p:grpSpPr>
          <a:xfrm>
            <a:off x="863640" y="5900760"/>
            <a:ext cx="395280" cy="395280"/>
            <a:chOff x="863640" y="5900760"/>
            <a:chExt cx="395280" cy="395280"/>
          </a:xfrm>
        </p:grpSpPr>
        <p:sp>
          <p:nvSpPr>
            <p:cNvPr id="915" name="Oval 318"/>
            <p:cNvSpPr/>
            <p:nvPr/>
          </p:nvSpPr>
          <p:spPr>
            <a:xfrm>
              <a:off x="863640" y="59007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19"/>
            <p:cNvSpPr/>
            <p:nvPr/>
          </p:nvSpPr>
          <p:spPr>
            <a:xfrm>
              <a:off x="914400" y="60516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Rectangle 320"/>
          <p:cNvSpPr/>
          <p:nvPr/>
        </p:nvSpPr>
        <p:spPr>
          <a:xfrm>
            <a:off x="1332000" y="5413320"/>
            <a:ext cx="5761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пои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21"/>
          <p:cNvSpPr/>
          <p:nvPr/>
        </p:nvSpPr>
        <p:spPr>
          <a:xfrm>
            <a:off x="4727520" y="4834080"/>
            <a:ext cx="26100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равнений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22"/>
          <p:cNvSpPr/>
          <p:nvPr/>
        </p:nvSpPr>
        <p:spPr>
          <a:xfrm>
            <a:off x="671400" y="3348000"/>
            <a:ext cx="2325960" cy="120168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23"/>
          <p:cNvSpPr/>
          <p:nvPr/>
        </p:nvSpPr>
        <p:spPr>
          <a:xfrm>
            <a:off x="3602160" y="1774800"/>
            <a:ext cx="2127240" cy="79236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24"/>
          <p:cNvSpPr/>
          <p:nvPr/>
        </p:nvSpPr>
        <p:spPr>
          <a:xfrm>
            <a:off x="6332400" y="3371760"/>
            <a:ext cx="2238480" cy="41760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A5E-DC21-4D74-BD71-8006B020F16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355680" y="852480"/>
            <a:ext cx="85550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ая таблица, которая предназначена для быстрого поиска в основной таблице по выбранному столбц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459360" y="20131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Табл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289240" y="2222640"/>
          <a:ext cx="5973840" cy="1584360"/>
        </p:xfrm>
        <a:graphic>
          <a:graphicData uri="http://schemas.openxmlformats.org/drawingml/2006/table">
            <a:tbl>
              <a:tblPr/>
              <a:tblGrid>
                <a:gridCol w="1020600"/>
                <a:gridCol w="1522440"/>
                <a:gridCol w="1603440"/>
                <a:gridCol w="182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Rectangle 62"/>
          <p:cNvSpPr/>
          <p:nvPr/>
        </p:nvSpPr>
        <p:spPr>
          <a:xfrm>
            <a:off x="486720" y="3773520"/>
            <a:ext cx="17168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98360" y="4784760"/>
          <a:ext cx="2689200" cy="1584360"/>
        </p:xfrm>
        <a:graphic>
          <a:graphicData uri="http://schemas.openxmlformats.org/drawingml/2006/table">
            <a:tbl>
              <a:tblPr/>
              <a:tblGrid>
                <a:gridCol w="1079640"/>
                <a:gridCol w="16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Rectangle 121"/>
          <p:cNvSpPr/>
          <p:nvPr/>
        </p:nvSpPr>
        <p:spPr>
          <a:xfrm>
            <a:off x="3492000" y="42307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ова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2"/>
          <p:cNvSpPr/>
          <p:nvPr/>
        </p:nvSpPr>
        <p:spPr>
          <a:xfrm>
            <a:off x="6219720" y="4230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оличест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3075120" y="4784760"/>
          <a:ext cx="2654280" cy="1584360"/>
        </p:xfrm>
        <a:graphic>
          <a:graphicData uri="http://schemas.openxmlformats.org/drawingml/2006/table">
            <a:tbl>
              <a:tblPr/>
              <a:tblGrid>
                <a:gridCol w="1031760"/>
                <a:gridCol w="162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916600" y="4784760"/>
          <a:ext cx="2986200" cy="1584360"/>
        </p:xfrm>
        <a:graphic>
          <a:graphicData uri="http://schemas.openxmlformats.org/drawingml/2006/table">
            <a:tbl>
              <a:tblPr/>
              <a:tblGrid>
                <a:gridCol w="1069920"/>
                <a:gridCol w="191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58BE-E1F8-491D-BAC2-F8738B67B92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384120" y="828720"/>
            <a:ext cx="8470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Arial"/>
              </a:rPr>
              <a:t>Алгорит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й поиск по индекс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йт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мера нужных запис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эти записи  по номерам из основной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1033560" y="4417920"/>
            <a:ext cx="780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ексы занимаю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сто на дис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зменении таблицы надо перестраивать все индексы (в СУБД – автоматически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6"/>
          <p:cNvGrpSpPr/>
          <p:nvPr/>
        </p:nvGrpSpPr>
        <p:grpSpPr>
          <a:xfrm>
            <a:off x="611280" y="3367080"/>
            <a:ext cx="385560" cy="385920"/>
            <a:chOff x="611280" y="3367080"/>
            <a:chExt cx="385560" cy="385920"/>
          </a:xfrm>
        </p:grpSpPr>
        <p:sp>
          <p:nvSpPr>
            <p:cNvPr id="940" name="Oval 7"/>
            <p:cNvSpPr/>
            <p:nvPr/>
          </p:nvSpPr>
          <p:spPr>
            <a:xfrm>
              <a:off x="611280" y="33670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8"/>
            <p:cNvGrpSpPr/>
            <p:nvPr/>
          </p:nvGrpSpPr>
          <p:grpSpPr>
            <a:xfrm>
              <a:off x="663480" y="3413520"/>
              <a:ext cx="289800" cy="290160"/>
              <a:chOff x="663480" y="3413520"/>
              <a:chExt cx="289800" cy="290160"/>
            </a:xfrm>
          </p:grpSpPr>
          <p:sp>
            <p:nvSpPr>
              <p:cNvPr id="942" name="Rectangle 9"/>
              <p:cNvSpPr/>
              <p:nvPr/>
            </p:nvSpPr>
            <p:spPr>
              <a:xfrm>
                <a:off x="663480" y="35114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0"/>
              <p:cNvSpPr/>
              <p:nvPr/>
            </p:nvSpPr>
            <p:spPr>
              <a:xfrm rot="16200000">
                <a:off x="664560" y="35114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Freeform 11"/>
            <p:cNvSpPr/>
            <p:nvPr/>
          </p:nvSpPr>
          <p:spPr>
            <a:xfrm>
              <a:off x="662760" y="34128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2"/>
          <p:cNvGrpSpPr/>
          <p:nvPr/>
        </p:nvGrpSpPr>
        <p:grpSpPr>
          <a:xfrm>
            <a:off x="611280" y="4443480"/>
            <a:ext cx="395280" cy="395280"/>
            <a:chOff x="611280" y="4443480"/>
            <a:chExt cx="395280" cy="395280"/>
          </a:xfrm>
        </p:grpSpPr>
        <p:sp>
          <p:nvSpPr>
            <p:cNvPr id="946" name="Oval 13"/>
            <p:cNvSpPr/>
            <p:nvPr/>
          </p:nvSpPr>
          <p:spPr>
            <a:xfrm>
              <a:off x="611280" y="4443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>
              <a:off x="662040" y="4594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15"/>
          <p:cNvSpPr/>
          <p:nvPr/>
        </p:nvSpPr>
        <p:spPr>
          <a:xfrm>
            <a:off x="1025640" y="3306600"/>
            <a:ext cx="76262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оичный поиск по всем столбцам, для которых построены индекс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767C-ADA4-48D9-8698-F779FC4E13C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3E0E-150F-4707-A8A6-27AEE393AE2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14360" y="892080"/>
            <a:ext cx="8140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База данных (БД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это хранилище данных о некоторой предметной области, организованное в виде специальной структуры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нные о некоторой области (не обо всем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рядоченны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истема управления базой данных (СУБ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программное обеспечение для работы с БД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иск информации в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олнение несложных расчет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вод отчетов на печа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актирование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711360" y="5881680"/>
            <a:ext cx="7100640" cy="931680"/>
            <a:chOff x="711360" y="5881680"/>
            <a:chExt cx="7100640" cy="931680"/>
          </a:xfrm>
        </p:grpSpPr>
        <p:sp>
          <p:nvSpPr>
            <p:cNvPr id="57" name="Text Box 32"/>
            <p:cNvSpPr/>
            <p:nvPr/>
          </p:nvSpPr>
          <p:spPr>
            <a:xfrm>
              <a:off x="1177920" y="5987880"/>
              <a:ext cx="6634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 система = БД + СУБД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3"/>
            <p:cNvSpPr/>
            <p:nvPr/>
          </p:nvSpPr>
          <p:spPr>
            <a:xfrm>
              <a:off x="711360" y="588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5B8F-168F-4019-B80C-4D586D5ADE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информационных систе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кальные 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БД и СУБД находятся на одном компьютер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айл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находится на сервере сети (файлово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ервере), а СУБД на компьютер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пользовател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ент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и основная СУБД находятся на сервер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УБД на рабочей станции посылает запро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и выводит на экран результа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101E-3A3A-467D-AFB3-81B89D7871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окаль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2"/>
          <p:cNvGrpSpPr/>
          <p:nvPr/>
        </p:nvGrpSpPr>
        <p:grpSpPr>
          <a:xfrm>
            <a:off x="1874160" y="984240"/>
            <a:ext cx="4019760" cy="1484280"/>
            <a:chOff x="1874160" y="984240"/>
            <a:chExt cx="4019760" cy="1484280"/>
          </a:xfrm>
        </p:grpSpPr>
        <p:sp>
          <p:nvSpPr>
            <p:cNvPr id="67" name="Freeform 148"/>
            <p:cNvSpPr/>
            <p:nvPr/>
          </p:nvSpPr>
          <p:spPr>
            <a:xfrm>
              <a:off x="3362400" y="2185920"/>
              <a:ext cx="776160" cy="73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6"/>
            <p:cNvGrpSpPr/>
            <p:nvPr/>
          </p:nvGrpSpPr>
          <p:grpSpPr>
            <a:xfrm>
              <a:off x="3746520" y="984240"/>
              <a:ext cx="2147400" cy="1433520"/>
              <a:chOff x="3746520" y="984240"/>
              <a:chExt cx="2147400" cy="1433520"/>
            </a:xfrm>
          </p:grpSpPr>
          <p:sp>
            <p:nvSpPr>
              <p:cNvPr id="69" name="AutoShape 7"/>
              <p:cNvSpPr/>
              <p:nvPr/>
            </p:nvSpPr>
            <p:spPr>
              <a:xfrm>
                <a:off x="3746520" y="984240"/>
                <a:ext cx="2147400" cy="14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4008240" y="2237400"/>
                <a:ext cx="31320" cy="4860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4079520" y="2237400"/>
                <a:ext cx="118440" cy="514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>
                <a:off x="4161600" y="2350080"/>
                <a:ext cx="57600" cy="2268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>
                <a:off x="4233960" y="2141640"/>
                <a:ext cx="882000" cy="231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4214160" y="2241720"/>
                <a:ext cx="62640" cy="644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>
                <a:off x="4806360" y="2045880"/>
                <a:ext cx="230400" cy="644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>
                <a:off x="5668200" y="2064600"/>
                <a:ext cx="62280" cy="3085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5246280" y="985320"/>
                <a:ext cx="639360" cy="677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>
                <a:off x="5383080" y="1189800"/>
                <a:ext cx="75600" cy="72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>
                <a:off x="5503320" y="1239840"/>
                <a:ext cx="39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5238000" y="1076760"/>
                <a:ext cx="172800" cy="20016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>
                <a:off x="5226480" y="1253880"/>
                <a:ext cx="18000" cy="18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>
                <a:off x="5196960" y="1263960"/>
                <a:ext cx="34200" cy="313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>
                <a:off x="5233320" y="1271160"/>
                <a:ext cx="45720" cy="385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>
                <a:off x="5195160" y="1265400"/>
                <a:ext cx="433440" cy="25020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3"/>
              <p:cNvSpPr/>
              <p:nvPr/>
            </p:nvSpPr>
            <p:spPr>
              <a:xfrm>
                <a:off x="5223240" y="1325520"/>
                <a:ext cx="31320" cy="126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"/>
              <p:cNvSpPr/>
              <p:nvPr/>
            </p:nvSpPr>
            <p:spPr>
              <a:xfrm>
                <a:off x="5368320" y="1465560"/>
                <a:ext cx="49680" cy="414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"/>
              <p:cNvSpPr/>
              <p:nvPr/>
            </p:nvSpPr>
            <p:spPr>
              <a:xfrm>
                <a:off x="5130720" y="1410120"/>
                <a:ext cx="532440" cy="394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114520" y="1445760"/>
                <a:ext cx="565200" cy="56556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7"/>
              <p:cNvSpPr/>
              <p:nvPr/>
            </p:nvSpPr>
            <p:spPr>
              <a:xfrm>
                <a:off x="5045400" y="1967400"/>
                <a:ext cx="83880" cy="18684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8"/>
              <p:cNvSpPr/>
              <p:nvPr/>
            </p:nvSpPr>
            <p:spPr>
              <a:xfrm>
                <a:off x="4995720" y="1962720"/>
                <a:ext cx="67320" cy="20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4987800" y="1519920"/>
                <a:ext cx="770760" cy="85320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0"/>
              <p:cNvSpPr/>
              <p:nvPr/>
            </p:nvSpPr>
            <p:spPr>
              <a:xfrm>
                <a:off x="5452200" y="1842840"/>
                <a:ext cx="295200" cy="52992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1"/>
              <p:cNvSpPr/>
              <p:nvPr/>
            </p:nvSpPr>
            <p:spPr>
              <a:xfrm>
                <a:off x="4659480" y="1907280"/>
                <a:ext cx="384120" cy="15732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4343040" y="2154600"/>
                <a:ext cx="382680" cy="1429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4381200" y="2044440"/>
                <a:ext cx="636120" cy="2527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4491360" y="2060280"/>
                <a:ext cx="393840" cy="1328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4329720" y="2048760"/>
                <a:ext cx="232200" cy="194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4079520" y="2124720"/>
                <a:ext cx="250200" cy="1184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7"/>
              <p:cNvSpPr/>
              <p:nvPr/>
            </p:nvSpPr>
            <p:spPr>
              <a:xfrm>
                <a:off x="3935880" y="2131920"/>
                <a:ext cx="103680" cy="10548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4015080" y="2253240"/>
                <a:ext cx="25920" cy="140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9"/>
              <p:cNvSpPr/>
              <p:nvPr/>
            </p:nvSpPr>
            <p:spPr>
              <a:xfrm>
                <a:off x="4079520" y="2253240"/>
                <a:ext cx="32760" cy="140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0"/>
              <p:cNvSpPr/>
              <p:nvPr/>
            </p:nvSpPr>
            <p:spPr>
              <a:xfrm>
                <a:off x="4120560" y="2213280"/>
                <a:ext cx="182880" cy="162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1"/>
              <p:cNvSpPr/>
              <p:nvPr/>
            </p:nvSpPr>
            <p:spPr>
              <a:xfrm>
                <a:off x="3899520" y="2306160"/>
                <a:ext cx="334440" cy="680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3954240" y="2367360"/>
                <a:ext cx="218880" cy="428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3"/>
              <p:cNvSpPr/>
              <p:nvPr/>
            </p:nvSpPr>
            <p:spPr>
              <a:xfrm>
                <a:off x="3970440" y="2257560"/>
                <a:ext cx="190800" cy="781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4"/>
              <p:cNvSpPr/>
              <p:nvPr/>
            </p:nvSpPr>
            <p:spPr>
              <a:xfrm>
                <a:off x="3899520" y="2286000"/>
                <a:ext cx="108720" cy="4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5"/>
              <p:cNvSpPr/>
              <p:nvPr/>
            </p:nvSpPr>
            <p:spPr>
              <a:xfrm>
                <a:off x="4201200" y="1424160"/>
                <a:ext cx="446400" cy="707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4039920" y="1731600"/>
                <a:ext cx="39600" cy="536040"/>
              </a:xfrm>
              <a:prstGeom prst="pi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7"/>
              <p:cNvSpPr/>
              <p:nvPr/>
            </p:nvSpPr>
            <p:spPr>
              <a:xfrm>
                <a:off x="4255920" y="1449720"/>
                <a:ext cx="281520" cy="38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4250880" y="1478520"/>
                <a:ext cx="354240" cy="5857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9"/>
              <p:cNvSpPr/>
              <p:nvPr/>
            </p:nvSpPr>
            <p:spPr>
              <a:xfrm>
                <a:off x="3748320" y="1451520"/>
                <a:ext cx="555120" cy="680040"/>
              </a:xfrm>
              <a:prstGeom prst="pi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0"/>
              <p:cNvSpPr/>
              <p:nvPr/>
            </p:nvSpPr>
            <p:spPr>
              <a:xfrm>
                <a:off x="5279040" y="1262880"/>
                <a:ext cx="133200" cy="194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1"/>
              <p:cNvSpPr/>
              <p:nvPr/>
            </p:nvSpPr>
            <p:spPr>
              <a:xfrm>
                <a:off x="5229720" y="1369800"/>
                <a:ext cx="42840" cy="86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"/>
              <p:cNvSpPr/>
              <p:nvPr/>
            </p:nvSpPr>
            <p:spPr>
              <a:xfrm>
                <a:off x="5669640" y="1263960"/>
                <a:ext cx="23040" cy="68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"/>
              <p:cNvSpPr/>
              <p:nvPr/>
            </p:nvSpPr>
            <p:spPr>
              <a:xfrm>
                <a:off x="5689800" y="1291320"/>
                <a:ext cx="14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4"/>
              <p:cNvSpPr/>
              <p:nvPr/>
            </p:nvSpPr>
            <p:spPr>
              <a:xfrm>
                <a:off x="5470560" y="1369800"/>
                <a:ext cx="36000" cy="644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5"/>
              <p:cNvSpPr/>
              <p:nvPr/>
            </p:nvSpPr>
            <p:spPr>
              <a:xfrm>
                <a:off x="4046400" y="1602720"/>
                <a:ext cx="37440" cy="115560"/>
              </a:xfrm>
              <a:prstGeom prst="pie">
                <a:avLst/>
              </a:prstGeom>
              <a:solidFill>
                <a:srgbClr val="ff24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6"/>
              <p:cNvSpPr/>
              <p:nvPr/>
            </p:nvSpPr>
            <p:spPr>
              <a:xfrm>
                <a:off x="5401080" y="1717200"/>
                <a:ext cx="41400" cy="18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7"/>
              <p:cNvSpPr/>
              <p:nvPr/>
            </p:nvSpPr>
            <p:spPr>
              <a:xfrm>
                <a:off x="5684760" y="1304280"/>
                <a:ext cx="79200" cy="59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8"/>
              <p:cNvSpPr/>
              <p:nvPr/>
            </p:nvSpPr>
            <p:spPr>
              <a:xfrm>
                <a:off x="5284080" y="1427040"/>
                <a:ext cx="384120" cy="242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9"/>
              <p:cNvSpPr/>
              <p:nvPr/>
            </p:nvSpPr>
            <p:spPr>
              <a:xfrm>
                <a:off x="5136120" y="1751400"/>
                <a:ext cx="209160" cy="205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"/>
              <p:cNvSpPr/>
              <p:nvPr/>
            </p:nvSpPr>
            <p:spPr>
              <a:xfrm>
                <a:off x="5330520" y="1695960"/>
                <a:ext cx="65520" cy="212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1"/>
              <p:cNvSpPr/>
              <p:nvPr/>
            </p:nvSpPr>
            <p:spPr>
              <a:xfrm>
                <a:off x="5673240" y="1362600"/>
                <a:ext cx="42840" cy="39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2"/>
              <p:cNvSpPr/>
              <p:nvPr/>
            </p:nvSpPr>
            <p:spPr>
              <a:xfrm>
                <a:off x="5251320" y="1076760"/>
                <a:ext cx="5760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3"/>
              <p:cNvSpPr/>
              <p:nvPr/>
            </p:nvSpPr>
            <p:spPr>
              <a:xfrm>
                <a:off x="5620320" y="1402920"/>
                <a:ext cx="1620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4"/>
              <p:cNvSpPr/>
              <p:nvPr/>
            </p:nvSpPr>
            <p:spPr>
              <a:xfrm>
                <a:off x="5563080" y="1352520"/>
                <a:ext cx="80640" cy="34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5"/>
              <p:cNvSpPr/>
              <p:nvPr/>
            </p:nvSpPr>
            <p:spPr>
              <a:xfrm>
                <a:off x="5412600" y="1265400"/>
                <a:ext cx="15156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5510160" y="1299600"/>
                <a:ext cx="36000" cy="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7"/>
              <p:cNvSpPr/>
              <p:nvPr/>
            </p:nvSpPr>
            <p:spPr>
              <a:xfrm>
                <a:off x="5358600" y="1108080"/>
                <a:ext cx="21240" cy="51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8"/>
              <p:cNvSpPr/>
              <p:nvPr/>
            </p:nvSpPr>
            <p:spPr>
              <a:xfrm>
                <a:off x="5470560" y="1371240"/>
                <a:ext cx="24480" cy="6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9"/>
              <p:cNvSpPr/>
              <p:nvPr/>
            </p:nvSpPr>
            <p:spPr>
              <a:xfrm>
                <a:off x="5564520" y="1337040"/>
                <a:ext cx="2772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0"/>
              <p:cNvSpPr/>
              <p:nvPr/>
            </p:nvSpPr>
            <p:spPr>
              <a:xfrm>
                <a:off x="5592600" y="1360080"/>
                <a:ext cx="2628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1"/>
              <p:cNvSpPr/>
              <p:nvPr/>
            </p:nvSpPr>
            <p:spPr>
              <a:xfrm>
                <a:off x="5541120" y="1338480"/>
                <a:ext cx="74160" cy="21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2"/>
              <p:cNvSpPr/>
              <p:nvPr/>
            </p:nvSpPr>
            <p:spPr>
              <a:xfrm>
                <a:off x="5506920" y="1321200"/>
                <a:ext cx="27720" cy="48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3"/>
              <p:cNvSpPr/>
              <p:nvPr/>
            </p:nvSpPr>
            <p:spPr>
              <a:xfrm>
                <a:off x="5535000" y="132120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4"/>
              <p:cNvSpPr/>
              <p:nvPr/>
            </p:nvSpPr>
            <p:spPr>
              <a:xfrm>
                <a:off x="5535000" y="1302840"/>
                <a:ext cx="3600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5"/>
              <p:cNvSpPr/>
              <p:nvPr/>
            </p:nvSpPr>
            <p:spPr>
              <a:xfrm flipH="1">
                <a:off x="5539320" y="130968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"/>
              <p:cNvSpPr/>
              <p:nvPr/>
            </p:nvSpPr>
            <p:spPr>
              <a:xfrm flipH="1">
                <a:off x="5244840" y="139572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7"/>
              <p:cNvSpPr/>
              <p:nvPr/>
            </p:nvSpPr>
            <p:spPr>
              <a:xfrm>
                <a:off x="5269320" y="1362600"/>
                <a:ext cx="9360" cy="21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8"/>
              <p:cNvSpPr/>
              <p:nvPr/>
            </p:nvSpPr>
            <p:spPr>
              <a:xfrm>
                <a:off x="5266080" y="1272960"/>
                <a:ext cx="3240" cy="36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9"/>
              <p:cNvSpPr/>
              <p:nvPr/>
            </p:nvSpPr>
            <p:spPr>
              <a:xfrm flipH="1" flipV="1">
                <a:off x="5263920" y="1257120"/>
                <a:ext cx="147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0"/>
              <p:cNvSpPr/>
              <p:nvPr/>
            </p:nvSpPr>
            <p:spPr>
              <a:xfrm>
                <a:off x="5275800" y="1262880"/>
                <a:ext cx="648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1"/>
              <p:cNvSpPr/>
              <p:nvPr/>
            </p:nvSpPr>
            <p:spPr>
              <a:xfrm>
                <a:off x="5238000" y="1217160"/>
                <a:ext cx="936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82"/>
              <p:cNvSpPr/>
              <p:nvPr/>
            </p:nvSpPr>
            <p:spPr>
              <a:xfrm>
                <a:off x="5261400" y="1221480"/>
                <a:ext cx="2124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3"/>
              <p:cNvSpPr/>
              <p:nvPr/>
            </p:nvSpPr>
            <p:spPr>
              <a:xfrm>
                <a:off x="5275800" y="1262880"/>
                <a:ext cx="324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4"/>
              <p:cNvSpPr/>
              <p:nvPr/>
            </p:nvSpPr>
            <p:spPr>
              <a:xfrm>
                <a:off x="5267520" y="1222560"/>
                <a:ext cx="11520" cy="39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5"/>
              <p:cNvSpPr/>
              <p:nvPr/>
            </p:nvSpPr>
            <p:spPr>
              <a:xfrm>
                <a:off x="5275800" y="1222560"/>
                <a:ext cx="42840" cy="11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6"/>
              <p:cNvSpPr/>
              <p:nvPr/>
            </p:nvSpPr>
            <p:spPr>
              <a:xfrm>
                <a:off x="5246280" y="1215360"/>
                <a:ext cx="1476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7"/>
              <p:cNvSpPr/>
              <p:nvPr/>
            </p:nvSpPr>
            <p:spPr>
              <a:xfrm>
                <a:off x="5244840" y="1202400"/>
                <a:ext cx="93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8"/>
              <p:cNvSpPr/>
              <p:nvPr/>
            </p:nvSpPr>
            <p:spPr>
              <a:xfrm>
                <a:off x="5259240" y="1208520"/>
                <a:ext cx="1332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9"/>
              <p:cNvSpPr/>
              <p:nvPr/>
            </p:nvSpPr>
            <p:spPr>
              <a:xfrm>
                <a:off x="5269320" y="1209960"/>
                <a:ext cx="39600" cy="16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90"/>
              <p:cNvSpPr/>
              <p:nvPr/>
            </p:nvSpPr>
            <p:spPr>
              <a:xfrm flipV="1">
                <a:off x="5282640" y="1258200"/>
                <a:ext cx="277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1"/>
              <p:cNvSpPr/>
              <p:nvPr/>
            </p:nvSpPr>
            <p:spPr>
              <a:xfrm>
                <a:off x="5243040" y="1217160"/>
                <a:ext cx="147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92"/>
              <p:cNvSpPr/>
              <p:nvPr/>
            </p:nvSpPr>
            <p:spPr>
              <a:xfrm>
                <a:off x="3983760" y="2265840"/>
                <a:ext cx="4104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3"/>
              <p:cNvSpPr/>
              <p:nvPr/>
            </p:nvSpPr>
            <p:spPr>
              <a:xfrm>
                <a:off x="3998520" y="2265840"/>
                <a:ext cx="3420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4"/>
              <p:cNvSpPr/>
              <p:nvPr/>
            </p:nvSpPr>
            <p:spPr>
              <a:xfrm>
                <a:off x="4770000" y="1930320"/>
                <a:ext cx="6228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5"/>
              <p:cNvSpPr/>
              <p:nvPr/>
            </p:nvSpPr>
            <p:spPr>
              <a:xfrm>
                <a:off x="5149080" y="1717200"/>
                <a:ext cx="293400" cy="65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6"/>
              <p:cNvSpPr/>
              <p:nvPr/>
            </p:nvSpPr>
            <p:spPr>
              <a:xfrm>
                <a:off x="5798520" y="1557000"/>
                <a:ext cx="47520" cy="49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7"/>
              <p:cNvSpPr/>
              <p:nvPr/>
            </p:nvSpPr>
            <p:spPr>
              <a:xfrm>
                <a:off x="4308480" y="1566000"/>
                <a:ext cx="673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8"/>
              <p:cNvSpPr/>
              <p:nvPr/>
            </p:nvSpPr>
            <p:spPr>
              <a:xfrm>
                <a:off x="4376160" y="1566000"/>
                <a:ext cx="691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9"/>
              <p:cNvSpPr/>
              <p:nvPr/>
            </p:nvSpPr>
            <p:spPr>
              <a:xfrm>
                <a:off x="4376160" y="1574280"/>
                <a:ext cx="5724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0"/>
              <p:cNvSpPr/>
              <p:nvPr/>
            </p:nvSpPr>
            <p:spPr>
              <a:xfrm>
                <a:off x="4321440" y="1574280"/>
                <a:ext cx="5436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1"/>
              <p:cNvSpPr/>
              <p:nvPr/>
            </p:nvSpPr>
            <p:spPr>
              <a:xfrm>
                <a:off x="4376160" y="1549800"/>
                <a:ext cx="475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2"/>
              <p:cNvSpPr/>
              <p:nvPr/>
            </p:nvSpPr>
            <p:spPr>
              <a:xfrm>
                <a:off x="4325040" y="1546920"/>
                <a:ext cx="51120" cy="41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3"/>
              <p:cNvSpPr/>
              <p:nvPr/>
            </p:nvSpPr>
            <p:spPr>
              <a:xfrm>
                <a:off x="4374360" y="1540080"/>
                <a:ext cx="11520" cy="486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4"/>
              <p:cNvSpPr/>
              <p:nvPr/>
            </p:nvSpPr>
            <p:spPr>
              <a:xfrm>
                <a:off x="4338000" y="1587240"/>
                <a:ext cx="37800" cy="284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5"/>
              <p:cNvSpPr/>
              <p:nvPr/>
            </p:nvSpPr>
            <p:spPr>
              <a:xfrm>
                <a:off x="4359600" y="1588680"/>
                <a:ext cx="1620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6"/>
              <p:cNvSpPr/>
              <p:nvPr/>
            </p:nvSpPr>
            <p:spPr>
              <a:xfrm>
                <a:off x="4376160" y="1588680"/>
                <a:ext cx="11520" cy="62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"/>
              <p:cNvSpPr/>
              <p:nvPr/>
            </p:nvSpPr>
            <p:spPr>
              <a:xfrm>
                <a:off x="4379040" y="1584360"/>
                <a:ext cx="37800" cy="313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8"/>
              <p:cNvSpPr/>
              <p:nvPr/>
            </p:nvSpPr>
            <p:spPr>
              <a:xfrm>
                <a:off x="4356360" y="1808640"/>
                <a:ext cx="57240" cy="298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9"/>
              <p:cNvSpPr/>
              <p:nvPr/>
            </p:nvSpPr>
            <p:spPr>
              <a:xfrm>
                <a:off x="4413960" y="1811520"/>
                <a:ext cx="54360" cy="270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0"/>
              <p:cNvSpPr/>
              <p:nvPr/>
            </p:nvSpPr>
            <p:spPr>
              <a:xfrm>
                <a:off x="4413960" y="1818720"/>
                <a:ext cx="4608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1"/>
              <p:cNvSpPr/>
              <p:nvPr/>
            </p:nvSpPr>
            <p:spPr>
              <a:xfrm>
                <a:off x="4364640" y="1818720"/>
                <a:ext cx="4932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2"/>
              <p:cNvSpPr/>
              <p:nvPr/>
            </p:nvSpPr>
            <p:spPr>
              <a:xfrm>
                <a:off x="4413960" y="1794240"/>
                <a:ext cx="3960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3"/>
              <p:cNvSpPr/>
              <p:nvPr/>
            </p:nvSpPr>
            <p:spPr>
              <a:xfrm>
                <a:off x="4367880" y="1794240"/>
                <a:ext cx="4572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4"/>
              <p:cNvSpPr/>
              <p:nvPr/>
            </p:nvSpPr>
            <p:spPr>
              <a:xfrm>
                <a:off x="4410720" y="1785960"/>
                <a:ext cx="7920" cy="4536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5"/>
              <p:cNvSpPr/>
              <p:nvPr/>
            </p:nvSpPr>
            <p:spPr>
              <a:xfrm>
                <a:off x="4381200" y="1829880"/>
                <a:ext cx="32760" cy="288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6"/>
              <p:cNvSpPr/>
              <p:nvPr/>
            </p:nvSpPr>
            <p:spPr>
              <a:xfrm>
                <a:off x="4397400" y="1832760"/>
                <a:ext cx="16200" cy="486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7"/>
              <p:cNvSpPr/>
              <p:nvPr/>
            </p:nvSpPr>
            <p:spPr>
              <a:xfrm>
                <a:off x="4413960" y="1831680"/>
                <a:ext cx="7920" cy="6264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8"/>
              <p:cNvSpPr/>
              <p:nvPr/>
            </p:nvSpPr>
            <p:spPr>
              <a:xfrm>
                <a:off x="4413960" y="1827360"/>
                <a:ext cx="32760" cy="313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9"/>
              <p:cNvSpPr/>
              <p:nvPr/>
            </p:nvSpPr>
            <p:spPr>
              <a:xfrm>
                <a:off x="4359600" y="1679760"/>
                <a:ext cx="78840" cy="25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0"/>
              <p:cNvSpPr/>
              <p:nvPr/>
            </p:nvSpPr>
            <p:spPr>
              <a:xfrm>
                <a:off x="4353120" y="1692720"/>
                <a:ext cx="85320" cy="453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1"/>
              <p:cNvSpPr/>
              <p:nvPr/>
            </p:nvSpPr>
            <p:spPr>
              <a:xfrm>
                <a:off x="4381200" y="1665720"/>
                <a:ext cx="572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2"/>
              <p:cNvSpPr/>
              <p:nvPr/>
            </p:nvSpPr>
            <p:spPr>
              <a:xfrm>
                <a:off x="4417200" y="1650240"/>
                <a:ext cx="23040" cy="554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3"/>
              <p:cNvSpPr/>
              <p:nvPr/>
            </p:nvSpPr>
            <p:spPr>
              <a:xfrm>
                <a:off x="4438440" y="1662840"/>
                <a:ext cx="428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4"/>
              <p:cNvSpPr/>
              <p:nvPr/>
            </p:nvSpPr>
            <p:spPr>
              <a:xfrm>
                <a:off x="4438440" y="1674360"/>
                <a:ext cx="85680" cy="313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5"/>
              <p:cNvSpPr/>
              <p:nvPr/>
            </p:nvSpPr>
            <p:spPr>
              <a:xfrm>
                <a:off x="4438440" y="1695960"/>
                <a:ext cx="113400" cy="442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6"/>
              <p:cNvSpPr/>
              <p:nvPr/>
            </p:nvSpPr>
            <p:spPr>
              <a:xfrm>
                <a:off x="4438440" y="1701360"/>
                <a:ext cx="65880" cy="79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7"/>
              <p:cNvSpPr/>
              <p:nvPr/>
            </p:nvSpPr>
            <p:spPr>
              <a:xfrm>
                <a:off x="4438440" y="1707120"/>
                <a:ext cx="29880" cy="568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8"/>
              <p:cNvSpPr/>
              <p:nvPr/>
            </p:nvSpPr>
            <p:spPr>
              <a:xfrm>
                <a:off x="4437000" y="1707120"/>
                <a:ext cx="12960" cy="626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9"/>
              <p:cNvSpPr/>
              <p:nvPr/>
            </p:nvSpPr>
            <p:spPr>
              <a:xfrm>
                <a:off x="4418640" y="1707120"/>
                <a:ext cx="19800" cy="4140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0"/>
              <p:cNvSpPr/>
              <p:nvPr/>
            </p:nvSpPr>
            <p:spPr>
              <a:xfrm>
                <a:off x="4381200" y="1702800"/>
                <a:ext cx="57240" cy="597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1"/>
              <p:cNvSpPr/>
              <p:nvPr/>
            </p:nvSpPr>
            <p:spPr>
              <a:xfrm>
                <a:off x="4491360" y="1913040"/>
                <a:ext cx="46080" cy="16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2"/>
              <p:cNvSpPr/>
              <p:nvPr/>
            </p:nvSpPr>
            <p:spPr>
              <a:xfrm>
                <a:off x="4491360" y="1920240"/>
                <a:ext cx="49680" cy="298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3"/>
              <p:cNvSpPr/>
              <p:nvPr/>
            </p:nvSpPr>
            <p:spPr>
              <a:xfrm>
                <a:off x="4491360" y="1905840"/>
                <a:ext cx="33120" cy="241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4"/>
              <p:cNvSpPr/>
              <p:nvPr/>
            </p:nvSpPr>
            <p:spPr>
              <a:xfrm>
                <a:off x="4488120" y="1894320"/>
                <a:ext cx="1440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5"/>
              <p:cNvSpPr/>
              <p:nvPr/>
            </p:nvSpPr>
            <p:spPr>
              <a:xfrm>
                <a:off x="4465080" y="1904400"/>
                <a:ext cx="25920" cy="22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"/>
              <p:cNvSpPr/>
              <p:nvPr/>
            </p:nvSpPr>
            <p:spPr>
              <a:xfrm>
                <a:off x="4438440" y="1908720"/>
                <a:ext cx="52560" cy="212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"/>
              <p:cNvSpPr/>
              <p:nvPr/>
            </p:nvSpPr>
            <p:spPr>
              <a:xfrm>
                <a:off x="4418640" y="1924200"/>
                <a:ext cx="70920" cy="25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8"/>
              <p:cNvSpPr/>
              <p:nvPr/>
            </p:nvSpPr>
            <p:spPr>
              <a:xfrm>
                <a:off x="4450320" y="1926000"/>
                <a:ext cx="4104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9"/>
              <p:cNvSpPr/>
              <p:nvPr/>
            </p:nvSpPr>
            <p:spPr>
              <a:xfrm>
                <a:off x="4471560" y="1930320"/>
                <a:ext cx="18000" cy="342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0"/>
              <p:cNvSpPr/>
              <p:nvPr/>
            </p:nvSpPr>
            <p:spPr>
              <a:xfrm>
                <a:off x="4483080" y="1930320"/>
                <a:ext cx="79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1"/>
              <p:cNvSpPr/>
              <p:nvPr/>
            </p:nvSpPr>
            <p:spPr>
              <a:xfrm>
                <a:off x="4491360" y="1930320"/>
                <a:ext cx="11520" cy="255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2"/>
              <p:cNvSpPr/>
              <p:nvPr/>
            </p:nvSpPr>
            <p:spPr>
              <a:xfrm>
                <a:off x="4491360" y="1927080"/>
                <a:ext cx="3456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3"/>
              <p:cNvSpPr/>
              <p:nvPr/>
            </p:nvSpPr>
            <p:spPr>
              <a:xfrm>
                <a:off x="4349520" y="1588680"/>
                <a:ext cx="88920" cy="371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4"/>
              <p:cNvSpPr/>
              <p:nvPr/>
            </p:nvSpPr>
            <p:spPr>
              <a:xfrm>
                <a:off x="4359600" y="1831680"/>
                <a:ext cx="50760" cy="128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5"/>
              <p:cNvSpPr/>
              <p:nvPr/>
            </p:nvSpPr>
            <p:spPr>
              <a:xfrm>
                <a:off x="4491360" y="1924200"/>
                <a:ext cx="70920" cy="68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6"/>
              <p:cNvSpPr/>
              <p:nvPr/>
            </p:nvSpPr>
            <p:spPr>
              <a:xfrm>
                <a:off x="5686200" y="1825920"/>
                <a:ext cx="54360" cy="47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" name="Picture 149" descr="Корпус-3"/>
            <p:cNvPicPr/>
            <p:nvPr/>
          </p:nvPicPr>
          <p:blipFill>
            <a:blip r:embed="rId7"/>
            <a:stretch/>
          </p:blipFill>
          <p:spPr>
            <a:xfrm flipH="1">
              <a:off x="2838600" y="1192320"/>
              <a:ext cx="7221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50"/>
            <p:cNvSpPr/>
            <p:nvPr/>
          </p:nvSpPr>
          <p:spPr>
            <a:xfrm>
              <a:off x="1874160" y="132084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1"/>
          <p:cNvGrpSpPr/>
          <p:nvPr/>
        </p:nvGrpSpPr>
        <p:grpSpPr>
          <a:xfrm>
            <a:off x="723960" y="2639880"/>
            <a:ext cx="385560" cy="385920"/>
            <a:chOff x="723960" y="2639880"/>
            <a:chExt cx="385560" cy="385920"/>
          </a:xfrm>
        </p:grpSpPr>
        <p:sp>
          <p:nvSpPr>
            <p:cNvPr id="212" name="Oval 152"/>
            <p:cNvSpPr/>
            <p:nvPr/>
          </p:nvSpPr>
          <p:spPr>
            <a:xfrm>
              <a:off x="723960" y="26398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3"/>
            <p:cNvGrpSpPr/>
            <p:nvPr/>
          </p:nvGrpSpPr>
          <p:grpSpPr>
            <a:xfrm>
              <a:off x="776160" y="2686320"/>
              <a:ext cx="289800" cy="290160"/>
              <a:chOff x="776160" y="2686320"/>
              <a:chExt cx="289800" cy="290160"/>
            </a:xfrm>
          </p:grpSpPr>
          <p:sp>
            <p:nvSpPr>
              <p:cNvPr id="214" name="Rectangle 154"/>
              <p:cNvSpPr/>
              <p:nvPr/>
            </p:nvSpPr>
            <p:spPr>
              <a:xfrm>
                <a:off x="776160" y="27842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55"/>
              <p:cNvSpPr/>
              <p:nvPr/>
            </p:nvSpPr>
            <p:spPr>
              <a:xfrm rot="16200000">
                <a:off x="777240" y="2784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156"/>
            <p:cNvSpPr/>
            <p:nvPr/>
          </p:nvSpPr>
          <p:spPr>
            <a:xfrm>
              <a:off x="775440" y="26856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57"/>
          <p:cNvSpPr/>
          <p:nvPr/>
        </p:nvSpPr>
        <p:spPr>
          <a:xfrm>
            <a:off x="1195560" y="2685960"/>
            <a:ext cx="4054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номность (независимо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8"/>
          <p:cNvGrpSpPr/>
          <p:nvPr/>
        </p:nvGrpSpPr>
        <p:grpSpPr>
          <a:xfrm>
            <a:off x="716040" y="3139920"/>
            <a:ext cx="395280" cy="395280"/>
            <a:chOff x="716040" y="3139920"/>
            <a:chExt cx="395280" cy="395280"/>
          </a:xfrm>
        </p:grpSpPr>
        <p:sp>
          <p:nvSpPr>
            <p:cNvPr id="219" name="Oval 159"/>
            <p:cNvSpPr/>
            <p:nvPr/>
          </p:nvSpPr>
          <p:spPr>
            <a:xfrm>
              <a:off x="716040" y="31399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0"/>
            <p:cNvSpPr/>
            <p:nvPr/>
          </p:nvSpPr>
          <p:spPr>
            <a:xfrm>
              <a:off x="766800" y="32907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61"/>
          <p:cNvSpPr/>
          <p:nvPr/>
        </p:nvSpPr>
        <p:spPr>
          <a:xfrm>
            <a:off x="1184400" y="3162240"/>
            <a:ext cx="77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Д работает только один чело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обновлять при большом количестве пользова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евозможно «стыковать» изменения, вносимые несколькими пользовател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205B-7D49-49BF-97C5-0B3E5A3AC0D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07"/>
          <p:cNvGrpSpPr/>
          <p:nvPr/>
        </p:nvGrpSpPr>
        <p:grpSpPr>
          <a:xfrm>
            <a:off x="3740760" y="925560"/>
            <a:ext cx="1222200" cy="1372320"/>
            <a:chOff x="3740760" y="925560"/>
            <a:chExt cx="1222200" cy="1372320"/>
          </a:xfrm>
        </p:grpSpPr>
        <p:pic>
          <p:nvPicPr>
            <p:cNvPr id="226" name="Picture 79" descr="Корпус-3"/>
            <p:cNvPicPr/>
            <p:nvPr/>
          </p:nvPicPr>
          <p:blipFill>
            <a:blip r:embed="rId1"/>
            <a:stretch/>
          </p:blipFill>
          <p:spPr>
            <a:xfrm flipH="1" rot="21514800">
              <a:off x="4248000" y="96696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90"/>
            <p:cNvSpPr/>
            <p:nvPr/>
          </p:nvSpPr>
          <p:spPr>
            <a:xfrm>
              <a:off x="3740760" y="92556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8"/>
          <p:cNvGrpSpPr/>
          <p:nvPr/>
        </p:nvGrpSpPr>
        <p:grpSpPr>
          <a:xfrm>
            <a:off x="973440" y="860400"/>
            <a:ext cx="7479720" cy="2515680"/>
            <a:chOff x="973440" y="860400"/>
            <a:chExt cx="7479720" cy="2515680"/>
          </a:xfrm>
        </p:grpSpPr>
        <p:grpSp>
          <p:nvGrpSpPr>
            <p:cNvPr id="229" name="Group 44"/>
            <p:cNvGrpSpPr/>
            <p:nvPr/>
          </p:nvGrpSpPr>
          <p:grpSpPr>
            <a:xfrm>
              <a:off x="7261200" y="1270080"/>
              <a:ext cx="1191960" cy="1169640"/>
              <a:chOff x="7261200" y="1270080"/>
              <a:chExt cx="1191960" cy="116964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7261200" y="1272600"/>
                <a:ext cx="110988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46"/>
              <p:cNvSpPr/>
              <p:nvPr/>
            </p:nvSpPr>
            <p:spPr>
              <a:xfrm>
                <a:off x="7581600" y="1270080"/>
                <a:ext cx="87156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>
                <a:off x="7411320" y="1753920"/>
                <a:ext cx="709560" cy="3654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>
                <a:off x="8071920" y="1359000"/>
                <a:ext cx="26028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>
                <a:off x="8074080" y="1271880"/>
                <a:ext cx="37836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>
                <a:off x="7773480" y="2107440"/>
                <a:ext cx="52020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>
                <a:off x="7884720" y="1680480"/>
                <a:ext cx="530280" cy="6228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>
                <a:off x="7630920" y="1308240"/>
                <a:ext cx="41688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>
                <a:off x="7695000" y="1833480"/>
                <a:ext cx="3668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>
                <a:off x="7990920" y="1845360"/>
                <a:ext cx="7092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>
                <a:off x="7860600" y="1870920"/>
                <a:ext cx="11088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>
                <a:off x="8138880" y="1895040"/>
                <a:ext cx="303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>
                <a:off x="8267040" y="1982880"/>
                <a:ext cx="12924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>
                <a:off x="7636320" y="1629360"/>
                <a:ext cx="762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>
                <a:off x="8130600" y="1283760"/>
                <a:ext cx="1972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>
                <a:off x="7654680" y="1322280"/>
                <a:ext cx="3830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8066520" y="1325880"/>
                <a:ext cx="26028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>
                <a:off x="8340120" y="1350360"/>
                <a:ext cx="10008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>
                <a:off x="7750440" y="1377000"/>
                <a:ext cx="2473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>
                <a:off x="8297640" y="1373760"/>
                <a:ext cx="900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>
                <a:off x="7764480" y="1386360"/>
                <a:ext cx="2224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>
                <a:off x="7732080" y="1721520"/>
                <a:ext cx="2912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>
                <a:off x="7636320" y="1774800"/>
                <a:ext cx="38232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>
                <a:off x="7911720" y="187740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>
                <a:off x="7894800" y="1878480"/>
                <a:ext cx="21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>
                <a:off x="7876800" y="1882800"/>
                <a:ext cx="252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>
                <a:off x="7705080" y="1893960"/>
                <a:ext cx="1947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>
                <a:off x="7587000" y="1902960"/>
                <a:ext cx="67140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>
                <a:off x="8152200" y="1905120"/>
                <a:ext cx="27828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>
                <a:off x="8195400" y="1935360"/>
                <a:ext cx="16452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>
                <a:off x="8296200" y="2014920"/>
                <a:ext cx="48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>
                <a:off x="7799760" y="149076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>
                <a:off x="7842960" y="1420200"/>
                <a:ext cx="3456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>
                <a:off x="7885440" y="146160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80"/>
            <p:cNvGrpSpPr/>
            <p:nvPr/>
          </p:nvGrpSpPr>
          <p:grpSpPr>
            <a:xfrm>
              <a:off x="5759280" y="2206800"/>
              <a:ext cx="1157400" cy="1169280"/>
              <a:chOff x="5759280" y="2206800"/>
              <a:chExt cx="1157400" cy="1169280"/>
            </a:xfrm>
          </p:grpSpPr>
          <p:sp>
            <p:nvSpPr>
              <p:cNvPr id="265" name="AutoShape 81"/>
              <p:cNvSpPr/>
              <p:nvPr/>
            </p:nvSpPr>
            <p:spPr>
              <a:xfrm>
                <a:off x="5759280" y="2209320"/>
                <a:ext cx="1077480" cy="11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2"/>
              <p:cNvSpPr/>
              <p:nvPr/>
            </p:nvSpPr>
            <p:spPr>
              <a:xfrm>
                <a:off x="6070320" y="2206800"/>
                <a:ext cx="84636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3"/>
              <p:cNvSpPr/>
              <p:nvPr/>
            </p:nvSpPr>
            <p:spPr>
              <a:xfrm>
                <a:off x="5905080" y="2690280"/>
                <a:ext cx="689040" cy="3654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4"/>
              <p:cNvSpPr/>
              <p:nvPr/>
            </p:nvSpPr>
            <p:spPr>
              <a:xfrm>
                <a:off x="6546240" y="2295360"/>
                <a:ext cx="25272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5"/>
              <p:cNvSpPr/>
              <p:nvPr/>
            </p:nvSpPr>
            <p:spPr>
              <a:xfrm>
                <a:off x="6548400" y="2208600"/>
                <a:ext cx="367200" cy="36432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6"/>
              <p:cNvSpPr/>
              <p:nvPr/>
            </p:nvSpPr>
            <p:spPr>
              <a:xfrm>
                <a:off x="6256440" y="3044160"/>
                <a:ext cx="50508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7"/>
              <p:cNvSpPr/>
              <p:nvPr/>
            </p:nvSpPr>
            <p:spPr>
              <a:xfrm>
                <a:off x="6364440" y="2617200"/>
                <a:ext cx="514800" cy="622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8"/>
              <p:cNvSpPr/>
              <p:nvPr/>
            </p:nvSpPr>
            <p:spPr>
              <a:xfrm>
                <a:off x="6118200" y="2244960"/>
                <a:ext cx="4046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9"/>
              <p:cNvSpPr/>
              <p:nvPr/>
            </p:nvSpPr>
            <p:spPr>
              <a:xfrm>
                <a:off x="6180480" y="2769840"/>
                <a:ext cx="3560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0"/>
              <p:cNvSpPr/>
              <p:nvPr/>
            </p:nvSpPr>
            <p:spPr>
              <a:xfrm>
                <a:off x="6467760" y="2782080"/>
                <a:ext cx="68760" cy="1141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1"/>
              <p:cNvSpPr/>
              <p:nvPr/>
            </p:nvSpPr>
            <p:spPr>
              <a:xfrm>
                <a:off x="6341400" y="2807640"/>
                <a:ext cx="10764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2"/>
              <p:cNvSpPr/>
              <p:nvPr/>
            </p:nvSpPr>
            <p:spPr>
              <a:xfrm>
                <a:off x="6611400" y="2831400"/>
                <a:ext cx="294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3"/>
              <p:cNvSpPr/>
              <p:nvPr/>
            </p:nvSpPr>
            <p:spPr>
              <a:xfrm>
                <a:off x="6735600" y="2919240"/>
                <a:ext cx="12528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4"/>
              <p:cNvSpPr/>
              <p:nvPr/>
            </p:nvSpPr>
            <p:spPr>
              <a:xfrm>
                <a:off x="6123240" y="2565720"/>
                <a:ext cx="74016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5"/>
              <p:cNvSpPr/>
              <p:nvPr/>
            </p:nvSpPr>
            <p:spPr>
              <a:xfrm>
                <a:off x="6603120" y="2220480"/>
                <a:ext cx="1915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6"/>
              <p:cNvSpPr/>
              <p:nvPr/>
            </p:nvSpPr>
            <p:spPr>
              <a:xfrm>
                <a:off x="6141240" y="2259000"/>
                <a:ext cx="3718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7"/>
              <p:cNvSpPr/>
              <p:nvPr/>
            </p:nvSpPr>
            <p:spPr>
              <a:xfrm>
                <a:off x="6540840" y="2262600"/>
                <a:ext cx="25272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8"/>
              <p:cNvSpPr/>
              <p:nvPr/>
            </p:nvSpPr>
            <p:spPr>
              <a:xfrm>
                <a:off x="6806880" y="2287080"/>
                <a:ext cx="972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"/>
              <p:cNvSpPr/>
              <p:nvPr/>
            </p:nvSpPr>
            <p:spPr>
              <a:xfrm>
                <a:off x="6234120" y="2313720"/>
                <a:ext cx="240120" cy="32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0"/>
              <p:cNvSpPr/>
              <p:nvPr/>
            </p:nvSpPr>
            <p:spPr>
              <a:xfrm>
                <a:off x="6765480" y="2310120"/>
                <a:ext cx="8748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247800" y="2323080"/>
                <a:ext cx="21600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6216120" y="2658240"/>
                <a:ext cx="2826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3"/>
              <p:cNvSpPr/>
              <p:nvPr/>
            </p:nvSpPr>
            <p:spPr>
              <a:xfrm>
                <a:off x="6123240" y="2711520"/>
                <a:ext cx="371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4"/>
              <p:cNvSpPr/>
              <p:nvPr/>
            </p:nvSpPr>
            <p:spPr>
              <a:xfrm>
                <a:off x="6390720" y="2814120"/>
                <a:ext cx="18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5"/>
              <p:cNvSpPr/>
              <p:nvPr/>
            </p:nvSpPr>
            <p:spPr>
              <a:xfrm>
                <a:off x="6374160" y="2814840"/>
                <a:ext cx="205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6"/>
              <p:cNvSpPr/>
              <p:nvPr/>
            </p:nvSpPr>
            <p:spPr>
              <a:xfrm>
                <a:off x="6356880" y="2819520"/>
                <a:ext cx="244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6190200" y="2830320"/>
                <a:ext cx="1893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8"/>
              <p:cNvSpPr/>
              <p:nvPr/>
            </p:nvSpPr>
            <p:spPr>
              <a:xfrm>
                <a:off x="6075720" y="2839680"/>
                <a:ext cx="651600" cy="38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6624000" y="2841480"/>
                <a:ext cx="27000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6666120" y="2871720"/>
                <a:ext cx="1598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6764040" y="2951280"/>
                <a:ext cx="4752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6282000" y="2427480"/>
                <a:ext cx="3276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3"/>
              <p:cNvSpPr/>
              <p:nvPr/>
            </p:nvSpPr>
            <p:spPr>
              <a:xfrm>
                <a:off x="6324120" y="2356920"/>
                <a:ext cx="3348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4"/>
              <p:cNvSpPr/>
              <p:nvPr/>
            </p:nvSpPr>
            <p:spPr>
              <a:xfrm>
                <a:off x="6365160" y="2398320"/>
                <a:ext cx="3348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15"/>
            <p:cNvGrpSpPr/>
            <p:nvPr/>
          </p:nvGrpSpPr>
          <p:grpSpPr>
            <a:xfrm>
              <a:off x="2170440" y="2111400"/>
              <a:ext cx="1168200" cy="1169640"/>
              <a:chOff x="2170440" y="2111400"/>
              <a:chExt cx="1168200" cy="1169640"/>
            </a:xfrm>
          </p:grpSpPr>
          <p:sp>
            <p:nvSpPr>
              <p:cNvPr id="300" name="AutoShape 116"/>
              <p:cNvSpPr/>
              <p:nvPr/>
            </p:nvSpPr>
            <p:spPr>
              <a:xfrm flipH="1">
                <a:off x="2250720" y="2113920"/>
                <a:ext cx="1087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7"/>
              <p:cNvSpPr/>
              <p:nvPr/>
            </p:nvSpPr>
            <p:spPr>
              <a:xfrm flipH="1">
                <a:off x="2170080" y="2111400"/>
                <a:ext cx="85428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8"/>
              <p:cNvSpPr/>
              <p:nvPr/>
            </p:nvSpPr>
            <p:spPr>
              <a:xfrm flipH="1">
                <a:off x="2495880" y="2595240"/>
                <a:ext cx="695520" cy="3654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9"/>
              <p:cNvSpPr/>
              <p:nvPr/>
            </p:nvSpPr>
            <p:spPr>
              <a:xfrm flipH="1">
                <a:off x="2288520" y="2200320"/>
                <a:ext cx="2552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0"/>
              <p:cNvSpPr/>
              <p:nvPr/>
            </p:nvSpPr>
            <p:spPr>
              <a:xfrm flipH="1">
                <a:off x="2171160" y="2113200"/>
                <a:ext cx="37080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1"/>
              <p:cNvSpPr/>
              <p:nvPr/>
            </p:nvSpPr>
            <p:spPr>
              <a:xfrm flipH="1">
                <a:off x="2326680" y="2948760"/>
                <a:ext cx="5097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2"/>
              <p:cNvSpPr/>
              <p:nvPr/>
            </p:nvSpPr>
            <p:spPr>
              <a:xfrm flipH="1">
                <a:off x="2207880" y="2521800"/>
                <a:ext cx="519480" cy="622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3"/>
              <p:cNvSpPr/>
              <p:nvPr/>
            </p:nvSpPr>
            <p:spPr>
              <a:xfrm flipH="1">
                <a:off x="2567880" y="2149560"/>
                <a:ext cx="4082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4"/>
              <p:cNvSpPr/>
              <p:nvPr/>
            </p:nvSpPr>
            <p:spPr>
              <a:xfrm flipH="1">
                <a:off x="2554200" y="2674800"/>
                <a:ext cx="35928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5"/>
              <p:cNvSpPr/>
              <p:nvPr/>
            </p:nvSpPr>
            <p:spPr>
              <a:xfrm flipH="1">
                <a:off x="2553480" y="2686680"/>
                <a:ext cx="694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6"/>
              <p:cNvSpPr/>
              <p:nvPr/>
            </p:nvSpPr>
            <p:spPr>
              <a:xfrm flipH="1">
                <a:off x="2642400" y="2712240"/>
                <a:ext cx="10872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7"/>
              <p:cNvSpPr/>
              <p:nvPr/>
            </p:nvSpPr>
            <p:spPr>
              <a:xfrm flipH="1">
                <a:off x="2180880" y="2736360"/>
                <a:ext cx="29736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8"/>
              <p:cNvSpPr/>
              <p:nvPr/>
            </p:nvSpPr>
            <p:spPr>
              <a:xfrm flipH="1">
                <a:off x="2226240" y="2824200"/>
                <a:ext cx="1267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9"/>
              <p:cNvSpPr/>
              <p:nvPr/>
            </p:nvSpPr>
            <p:spPr>
              <a:xfrm flipH="1">
                <a:off x="2223720" y="2470680"/>
                <a:ext cx="74700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0"/>
              <p:cNvSpPr/>
              <p:nvPr/>
            </p:nvSpPr>
            <p:spPr>
              <a:xfrm flipH="1">
                <a:off x="2292840" y="2125080"/>
                <a:ext cx="1933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1"/>
              <p:cNvSpPr/>
              <p:nvPr/>
            </p:nvSpPr>
            <p:spPr>
              <a:xfrm flipH="1">
                <a:off x="2576880" y="2163600"/>
                <a:ext cx="375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2"/>
              <p:cNvSpPr/>
              <p:nvPr/>
            </p:nvSpPr>
            <p:spPr>
              <a:xfrm flipH="1">
                <a:off x="2293920" y="2167200"/>
                <a:ext cx="2552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3"/>
              <p:cNvSpPr/>
              <p:nvPr/>
            </p:nvSpPr>
            <p:spPr>
              <a:xfrm flipH="1">
                <a:off x="2183040" y="2191680"/>
                <a:ext cx="9792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4"/>
              <p:cNvSpPr/>
              <p:nvPr/>
            </p:nvSpPr>
            <p:spPr>
              <a:xfrm flipH="1">
                <a:off x="2616480" y="2218320"/>
                <a:ext cx="24228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5"/>
              <p:cNvSpPr/>
              <p:nvPr/>
            </p:nvSpPr>
            <p:spPr>
              <a:xfrm flipH="1">
                <a:off x="2234160" y="2215080"/>
                <a:ext cx="882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6"/>
              <p:cNvSpPr/>
              <p:nvPr/>
            </p:nvSpPr>
            <p:spPr>
              <a:xfrm flipH="1">
                <a:off x="2627280" y="2227680"/>
                <a:ext cx="21816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7"/>
              <p:cNvSpPr/>
              <p:nvPr/>
            </p:nvSpPr>
            <p:spPr>
              <a:xfrm flipH="1">
                <a:off x="2591280" y="2562840"/>
                <a:ext cx="28548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8"/>
              <p:cNvSpPr/>
              <p:nvPr/>
            </p:nvSpPr>
            <p:spPr>
              <a:xfrm flipH="1">
                <a:off x="2595960" y="2616120"/>
                <a:ext cx="3747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9"/>
              <p:cNvSpPr/>
              <p:nvPr/>
            </p:nvSpPr>
            <p:spPr>
              <a:xfrm flipH="1">
                <a:off x="2682360" y="2718720"/>
                <a:ext cx="187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0"/>
              <p:cNvSpPr/>
              <p:nvPr/>
            </p:nvSpPr>
            <p:spPr>
              <a:xfrm flipH="1">
                <a:off x="2696760" y="2719800"/>
                <a:ext cx="208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1"/>
              <p:cNvSpPr/>
              <p:nvPr/>
            </p:nvSpPr>
            <p:spPr>
              <a:xfrm flipH="1">
                <a:off x="2710080" y="2724120"/>
                <a:ext cx="248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2"/>
              <p:cNvSpPr/>
              <p:nvPr/>
            </p:nvSpPr>
            <p:spPr>
              <a:xfrm flipH="1">
                <a:off x="2712240" y="2735280"/>
                <a:ext cx="1911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3"/>
              <p:cNvSpPr/>
              <p:nvPr/>
            </p:nvSpPr>
            <p:spPr>
              <a:xfrm flipH="1">
                <a:off x="2361240" y="2744280"/>
                <a:ext cx="65772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4"/>
              <p:cNvSpPr/>
              <p:nvPr/>
            </p:nvSpPr>
            <p:spPr>
              <a:xfrm flipH="1">
                <a:off x="2192400" y="2746440"/>
                <a:ext cx="27252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5"/>
              <p:cNvSpPr/>
              <p:nvPr/>
            </p:nvSpPr>
            <p:spPr>
              <a:xfrm flipH="1">
                <a:off x="2261880" y="2776680"/>
                <a:ext cx="16128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6"/>
              <p:cNvSpPr/>
              <p:nvPr/>
            </p:nvSpPr>
            <p:spPr>
              <a:xfrm flipH="1">
                <a:off x="2275920" y="2856240"/>
                <a:ext cx="4824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7"/>
              <p:cNvSpPr/>
              <p:nvPr/>
            </p:nvSpPr>
            <p:spPr>
              <a:xfrm flipH="1">
                <a:off x="2777760" y="2332080"/>
                <a:ext cx="3312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8"/>
              <p:cNvSpPr/>
              <p:nvPr/>
            </p:nvSpPr>
            <p:spPr>
              <a:xfrm flipH="1">
                <a:off x="2734560" y="2261520"/>
                <a:ext cx="3384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9"/>
              <p:cNvSpPr/>
              <p:nvPr/>
            </p:nvSpPr>
            <p:spPr>
              <a:xfrm flipH="1">
                <a:off x="2693160" y="2302920"/>
                <a:ext cx="3384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50"/>
            <p:cNvGrpSpPr/>
            <p:nvPr/>
          </p:nvGrpSpPr>
          <p:grpSpPr>
            <a:xfrm>
              <a:off x="973440" y="1154160"/>
              <a:ext cx="1201320" cy="1169640"/>
              <a:chOff x="973440" y="1154160"/>
              <a:chExt cx="1201320" cy="1169640"/>
            </a:xfrm>
          </p:grpSpPr>
          <p:sp>
            <p:nvSpPr>
              <p:cNvPr id="335" name="AutoShape 151"/>
              <p:cNvSpPr/>
              <p:nvPr/>
            </p:nvSpPr>
            <p:spPr>
              <a:xfrm flipH="1">
                <a:off x="1055880" y="1156680"/>
                <a:ext cx="111852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152"/>
              <p:cNvSpPr/>
              <p:nvPr/>
            </p:nvSpPr>
            <p:spPr>
              <a:xfrm flipH="1">
                <a:off x="973440" y="1154160"/>
                <a:ext cx="87840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3"/>
              <p:cNvSpPr/>
              <p:nvPr/>
            </p:nvSpPr>
            <p:spPr>
              <a:xfrm flipH="1">
                <a:off x="1307880" y="1638000"/>
                <a:ext cx="715320" cy="3654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4"/>
              <p:cNvSpPr/>
              <p:nvPr/>
            </p:nvSpPr>
            <p:spPr>
              <a:xfrm flipH="1">
                <a:off x="1094760" y="1243080"/>
                <a:ext cx="2624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5"/>
              <p:cNvSpPr/>
              <p:nvPr/>
            </p:nvSpPr>
            <p:spPr>
              <a:xfrm flipH="1">
                <a:off x="973800" y="1155960"/>
                <a:ext cx="38124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6"/>
              <p:cNvSpPr/>
              <p:nvPr/>
            </p:nvSpPr>
            <p:spPr>
              <a:xfrm flipH="1">
                <a:off x="1134360" y="1991520"/>
                <a:ext cx="5241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7"/>
              <p:cNvSpPr/>
              <p:nvPr/>
            </p:nvSpPr>
            <p:spPr>
              <a:xfrm flipH="1">
                <a:off x="1012320" y="1564560"/>
                <a:ext cx="534240" cy="62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58"/>
              <p:cNvSpPr/>
              <p:nvPr/>
            </p:nvSpPr>
            <p:spPr>
              <a:xfrm flipH="1">
                <a:off x="1381320" y="1192320"/>
                <a:ext cx="42012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59"/>
              <p:cNvSpPr/>
              <p:nvPr/>
            </p:nvSpPr>
            <p:spPr>
              <a:xfrm flipH="1">
                <a:off x="1367280" y="1717560"/>
                <a:ext cx="36972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0"/>
              <p:cNvSpPr/>
              <p:nvPr/>
            </p:nvSpPr>
            <p:spPr>
              <a:xfrm flipH="1">
                <a:off x="1368000" y="1729440"/>
                <a:ext cx="712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1"/>
              <p:cNvSpPr/>
              <p:nvPr/>
            </p:nvSpPr>
            <p:spPr>
              <a:xfrm flipH="1">
                <a:off x="1458720" y="1755000"/>
                <a:ext cx="11160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2"/>
              <p:cNvSpPr/>
              <p:nvPr/>
            </p:nvSpPr>
            <p:spPr>
              <a:xfrm flipH="1">
                <a:off x="983880" y="1779120"/>
                <a:ext cx="30600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3"/>
              <p:cNvSpPr/>
              <p:nvPr/>
            </p:nvSpPr>
            <p:spPr>
              <a:xfrm flipH="1">
                <a:off x="1030680" y="1866960"/>
                <a:ext cx="1303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4"/>
              <p:cNvSpPr/>
              <p:nvPr/>
            </p:nvSpPr>
            <p:spPr>
              <a:xfrm flipH="1">
                <a:off x="1028520" y="1513440"/>
                <a:ext cx="7682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5"/>
              <p:cNvSpPr/>
              <p:nvPr/>
            </p:nvSpPr>
            <p:spPr>
              <a:xfrm flipH="1">
                <a:off x="1099800" y="1167840"/>
                <a:ext cx="1987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6"/>
              <p:cNvSpPr/>
              <p:nvPr/>
            </p:nvSpPr>
            <p:spPr>
              <a:xfrm flipH="1">
                <a:off x="1392120" y="1206360"/>
                <a:ext cx="38592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67"/>
              <p:cNvSpPr/>
              <p:nvPr/>
            </p:nvSpPr>
            <p:spPr>
              <a:xfrm flipH="1">
                <a:off x="1100160" y="1209960"/>
                <a:ext cx="2624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68"/>
              <p:cNvSpPr/>
              <p:nvPr/>
            </p:nvSpPr>
            <p:spPr>
              <a:xfrm flipH="1">
                <a:off x="986400" y="1234440"/>
                <a:ext cx="1008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9"/>
              <p:cNvSpPr/>
              <p:nvPr/>
            </p:nvSpPr>
            <p:spPr>
              <a:xfrm flipH="1">
                <a:off x="1432440" y="1261080"/>
                <a:ext cx="249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0"/>
              <p:cNvSpPr/>
              <p:nvPr/>
            </p:nvSpPr>
            <p:spPr>
              <a:xfrm flipH="1">
                <a:off x="1039320" y="1257840"/>
                <a:ext cx="9072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1"/>
              <p:cNvSpPr/>
              <p:nvPr/>
            </p:nvSpPr>
            <p:spPr>
              <a:xfrm flipH="1">
                <a:off x="1442880" y="1270440"/>
                <a:ext cx="2242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2"/>
              <p:cNvSpPr/>
              <p:nvPr/>
            </p:nvSpPr>
            <p:spPr>
              <a:xfrm flipH="1">
                <a:off x="1406520" y="1605600"/>
                <a:ext cx="2934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3"/>
              <p:cNvSpPr/>
              <p:nvPr/>
            </p:nvSpPr>
            <p:spPr>
              <a:xfrm flipH="1">
                <a:off x="1411560" y="1658880"/>
                <a:ext cx="3852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4"/>
              <p:cNvSpPr/>
              <p:nvPr/>
            </p:nvSpPr>
            <p:spPr>
              <a:xfrm flipH="1">
                <a:off x="1499760" y="176148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5"/>
              <p:cNvSpPr/>
              <p:nvPr/>
            </p:nvSpPr>
            <p:spPr>
              <a:xfrm flipH="1">
                <a:off x="1514880" y="1762560"/>
                <a:ext cx="216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76"/>
              <p:cNvSpPr/>
              <p:nvPr/>
            </p:nvSpPr>
            <p:spPr>
              <a:xfrm flipH="1">
                <a:off x="1528200" y="1766880"/>
                <a:ext cx="25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7"/>
              <p:cNvSpPr/>
              <p:nvPr/>
            </p:nvSpPr>
            <p:spPr>
              <a:xfrm flipH="1">
                <a:off x="1530720" y="1778040"/>
                <a:ext cx="1965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78"/>
              <p:cNvSpPr/>
              <p:nvPr/>
            </p:nvSpPr>
            <p:spPr>
              <a:xfrm flipH="1">
                <a:off x="1169640" y="1787040"/>
                <a:ext cx="67644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79"/>
              <p:cNvSpPr/>
              <p:nvPr/>
            </p:nvSpPr>
            <p:spPr>
              <a:xfrm flipH="1">
                <a:off x="996120" y="1789200"/>
                <a:ext cx="28044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0"/>
              <p:cNvSpPr/>
              <p:nvPr/>
            </p:nvSpPr>
            <p:spPr>
              <a:xfrm flipH="1">
                <a:off x="1067040" y="1819440"/>
                <a:ext cx="16596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1"/>
              <p:cNvSpPr/>
              <p:nvPr/>
            </p:nvSpPr>
            <p:spPr>
              <a:xfrm flipH="1">
                <a:off x="1081800" y="1899000"/>
                <a:ext cx="4968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2"/>
              <p:cNvSpPr/>
              <p:nvPr/>
            </p:nvSpPr>
            <p:spPr>
              <a:xfrm flipH="1">
                <a:off x="1598040" y="137484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3"/>
              <p:cNvSpPr/>
              <p:nvPr/>
            </p:nvSpPr>
            <p:spPr>
              <a:xfrm flipH="1">
                <a:off x="1553040" y="1304280"/>
                <a:ext cx="3492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4"/>
              <p:cNvSpPr/>
              <p:nvPr/>
            </p:nvSpPr>
            <p:spPr>
              <a:xfrm flipH="1">
                <a:off x="1510920" y="134568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185"/>
            <p:cNvSpPr/>
            <p:nvPr/>
          </p:nvSpPr>
          <p:spPr>
            <a:xfrm>
              <a:off x="2911320" y="1933560"/>
              <a:ext cx="1389240" cy="762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6"/>
            <p:cNvSpPr/>
            <p:nvPr/>
          </p:nvSpPr>
          <p:spPr>
            <a:xfrm>
              <a:off x="1749600" y="1519200"/>
              <a:ext cx="255096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7"/>
            <p:cNvSpPr/>
            <p:nvPr/>
          </p:nvSpPr>
          <p:spPr>
            <a:xfrm>
              <a:off x="4954680" y="1922400"/>
              <a:ext cx="1197000" cy="846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8"/>
            <p:cNvSpPr/>
            <p:nvPr/>
          </p:nvSpPr>
          <p:spPr>
            <a:xfrm>
              <a:off x="4954680" y="1425600"/>
              <a:ext cx="273204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89"/>
            <p:cNvSpPr/>
            <p:nvPr/>
          </p:nvSpPr>
          <p:spPr>
            <a:xfrm>
              <a:off x="6879960" y="1039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1"/>
            <p:cNvSpPr/>
            <p:nvPr/>
          </p:nvSpPr>
          <p:spPr>
            <a:xfrm>
              <a:off x="5692320" y="1878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92"/>
            <p:cNvSpPr/>
            <p:nvPr/>
          </p:nvSpPr>
          <p:spPr>
            <a:xfrm>
              <a:off x="2477880" y="1820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3"/>
            <p:cNvSpPr/>
            <p:nvPr/>
          </p:nvSpPr>
          <p:spPr>
            <a:xfrm>
              <a:off x="1319040" y="8604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5"/>
          <p:cNvGrpSpPr/>
          <p:nvPr/>
        </p:nvGrpSpPr>
        <p:grpSpPr>
          <a:xfrm>
            <a:off x="750960" y="3375000"/>
            <a:ext cx="385560" cy="385920"/>
            <a:chOff x="750960" y="3375000"/>
            <a:chExt cx="385560" cy="385920"/>
          </a:xfrm>
        </p:grpSpPr>
        <p:sp>
          <p:nvSpPr>
            <p:cNvPr id="378" name="Oval 196"/>
            <p:cNvSpPr/>
            <p:nvPr/>
          </p:nvSpPr>
          <p:spPr>
            <a:xfrm>
              <a:off x="750960" y="337500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7"/>
            <p:cNvGrpSpPr/>
            <p:nvPr/>
          </p:nvGrpSpPr>
          <p:grpSpPr>
            <a:xfrm>
              <a:off x="803160" y="3421440"/>
              <a:ext cx="289800" cy="290160"/>
              <a:chOff x="803160" y="3421440"/>
              <a:chExt cx="289800" cy="290160"/>
            </a:xfrm>
          </p:grpSpPr>
          <p:sp>
            <p:nvSpPr>
              <p:cNvPr id="380" name="Rectangle 198"/>
              <p:cNvSpPr/>
              <p:nvPr/>
            </p:nvSpPr>
            <p:spPr>
              <a:xfrm>
                <a:off x="803160" y="35193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99"/>
              <p:cNvSpPr/>
              <p:nvPr/>
            </p:nvSpPr>
            <p:spPr>
              <a:xfrm rot="16200000">
                <a:off x="804240" y="351936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Freeform 200"/>
            <p:cNvSpPr/>
            <p:nvPr/>
          </p:nvSpPr>
          <p:spPr>
            <a:xfrm>
              <a:off x="802440" y="342072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01"/>
          <p:cNvSpPr/>
          <p:nvPr/>
        </p:nvSpPr>
        <p:spPr>
          <a:xfrm>
            <a:off x="1222200" y="3421080"/>
            <a:ext cx="7297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человек работают с одной баз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02"/>
          <p:cNvGrpSpPr/>
          <p:nvPr/>
        </p:nvGrpSpPr>
        <p:grpSpPr>
          <a:xfrm>
            <a:off x="743040" y="3875040"/>
            <a:ext cx="395280" cy="395280"/>
            <a:chOff x="743040" y="3875040"/>
            <a:chExt cx="395280" cy="395280"/>
          </a:xfrm>
        </p:grpSpPr>
        <p:sp>
          <p:nvSpPr>
            <p:cNvPr id="385" name="Oval 203"/>
            <p:cNvSpPr/>
            <p:nvPr/>
          </p:nvSpPr>
          <p:spPr>
            <a:xfrm>
              <a:off x="743040" y="38750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4"/>
            <p:cNvSpPr/>
            <p:nvPr/>
          </p:nvSpPr>
          <p:spPr>
            <a:xfrm>
              <a:off x="793800" y="40258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05"/>
          <p:cNvSpPr/>
          <p:nvPr/>
        </p:nvSpPr>
        <p:spPr>
          <a:xfrm>
            <a:off x="1211400" y="3897360"/>
            <a:ext cx="7758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ую работу выполняют рабочие станции (РС), они должны быть мощ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строки на РС копируется вся БД –  нагрузка на с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защита от взлома (только на Р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при одновременном изменении с разных Р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9F7-400D-4FB0-82C8-0838F03622C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иент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759280" y="2414520"/>
            <a:ext cx="1157400" cy="1169640"/>
            <a:chOff x="5759280" y="2414520"/>
            <a:chExt cx="1157400" cy="1169640"/>
          </a:xfrm>
        </p:grpSpPr>
        <p:sp>
          <p:nvSpPr>
            <p:cNvPr id="392" name="AutoShape 42"/>
            <p:cNvSpPr/>
            <p:nvPr/>
          </p:nvSpPr>
          <p:spPr>
            <a:xfrm>
              <a:off x="5759280" y="2417040"/>
              <a:ext cx="107748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43"/>
            <p:cNvSpPr/>
            <p:nvPr/>
          </p:nvSpPr>
          <p:spPr>
            <a:xfrm>
              <a:off x="6070320" y="2414520"/>
              <a:ext cx="84636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5905080" y="2898360"/>
              <a:ext cx="689040" cy="365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546240" y="2503440"/>
              <a:ext cx="25272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548400" y="2416320"/>
              <a:ext cx="36720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256440" y="3251880"/>
              <a:ext cx="50508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364440" y="2824920"/>
              <a:ext cx="514800" cy="622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118200" y="2452680"/>
              <a:ext cx="4046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180480" y="2977920"/>
              <a:ext cx="35604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467760" y="2989800"/>
              <a:ext cx="6876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341400" y="3015360"/>
              <a:ext cx="10764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11400" y="3039480"/>
              <a:ext cx="29448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35600" y="3127320"/>
              <a:ext cx="12528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123240" y="2773800"/>
              <a:ext cx="74016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603120" y="2428200"/>
              <a:ext cx="1915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141240" y="2466720"/>
              <a:ext cx="37188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540840" y="2470320"/>
              <a:ext cx="25272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806880" y="2494800"/>
              <a:ext cx="972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234120" y="2521440"/>
              <a:ext cx="240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765480" y="2518200"/>
              <a:ext cx="8748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247800" y="2530800"/>
              <a:ext cx="21600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16120" y="2865960"/>
              <a:ext cx="2826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123240" y="2919240"/>
              <a:ext cx="37116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390720" y="3021840"/>
              <a:ext cx="1836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6374160" y="3022920"/>
              <a:ext cx="2052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356880" y="3027240"/>
              <a:ext cx="244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190200" y="3038400"/>
              <a:ext cx="1893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075720" y="3047400"/>
              <a:ext cx="65160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0"/>
            <p:cNvSpPr/>
            <p:nvPr/>
          </p:nvSpPr>
          <p:spPr>
            <a:xfrm>
              <a:off x="6624000" y="3049560"/>
              <a:ext cx="27000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"/>
            <p:cNvSpPr/>
            <p:nvPr/>
          </p:nvSpPr>
          <p:spPr>
            <a:xfrm>
              <a:off x="6666120" y="3079800"/>
              <a:ext cx="15984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2"/>
            <p:cNvSpPr/>
            <p:nvPr/>
          </p:nvSpPr>
          <p:spPr>
            <a:xfrm>
              <a:off x="6764040" y="3159360"/>
              <a:ext cx="4752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3"/>
            <p:cNvSpPr/>
            <p:nvPr/>
          </p:nvSpPr>
          <p:spPr>
            <a:xfrm>
              <a:off x="6282000" y="2635200"/>
              <a:ext cx="3276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4"/>
            <p:cNvSpPr/>
            <p:nvPr/>
          </p:nvSpPr>
          <p:spPr>
            <a:xfrm>
              <a:off x="6324120" y="2564640"/>
              <a:ext cx="3348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5"/>
            <p:cNvSpPr/>
            <p:nvPr/>
          </p:nvSpPr>
          <p:spPr>
            <a:xfrm>
              <a:off x="6365160" y="2606040"/>
              <a:ext cx="3348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1"/>
          <p:cNvGrpSpPr/>
          <p:nvPr/>
        </p:nvGrpSpPr>
        <p:grpSpPr>
          <a:xfrm>
            <a:off x="973440" y="1362240"/>
            <a:ext cx="1201320" cy="1169640"/>
            <a:chOff x="973440" y="1362240"/>
            <a:chExt cx="1201320" cy="1169640"/>
          </a:xfrm>
        </p:grpSpPr>
        <p:sp>
          <p:nvSpPr>
            <p:cNvPr id="427" name="AutoShape 112"/>
            <p:cNvSpPr/>
            <p:nvPr/>
          </p:nvSpPr>
          <p:spPr>
            <a:xfrm flipH="1">
              <a:off x="1055880" y="1364760"/>
              <a:ext cx="111852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13"/>
            <p:cNvSpPr/>
            <p:nvPr/>
          </p:nvSpPr>
          <p:spPr>
            <a:xfrm flipH="1">
              <a:off x="973440" y="1362240"/>
              <a:ext cx="87840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 flipH="1">
              <a:off x="1307880" y="1846080"/>
              <a:ext cx="715320" cy="365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 flipH="1">
              <a:off x="1094760" y="1451160"/>
              <a:ext cx="26244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 flipH="1">
              <a:off x="973800" y="1364040"/>
              <a:ext cx="3812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 flipH="1">
              <a:off x="1134360" y="2199600"/>
              <a:ext cx="5241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 flipH="1">
              <a:off x="1012320" y="1772640"/>
              <a:ext cx="534240" cy="622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 flipH="1">
              <a:off x="1381320" y="1400400"/>
              <a:ext cx="42012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 flipH="1">
              <a:off x="1367280" y="1925640"/>
              <a:ext cx="36972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 flipH="1">
              <a:off x="1368000" y="1937520"/>
              <a:ext cx="712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 flipH="1">
              <a:off x="1458720" y="1963080"/>
              <a:ext cx="11160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 flipH="1">
              <a:off x="983880" y="1987200"/>
              <a:ext cx="30600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 flipH="1">
              <a:off x="1030680" y="2075040"/>
              <a:ext cx="1303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 flipH="1">
              <a:off x="1028520" y="1721520"/>
              <a:ext cx="76824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 flipH="1">
              <a:off x="1099800" y="1375920"/>
              <a:ext cx="1987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 flipH="1">
              <a:off x="1392120" y="1414440"/>
              <a:ext cx="3859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 flipH="1">
              <a:off x="1100160" y="1418040"/>
              <a:ext cx="262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 flipH="1">
              <a:off x="986400" y="1442520"/>
              <a:ext cx="1008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 flipH="1">
              <a:off x="1432440" y="1469160"/>
              <a:ext cx="249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 flipH="1">
              <a:off x="1039320" y="1465920"/>
              <a:ext cx="9072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 flipH="1">
              <a:off x="1442880" y="1478520"/>
              <a:ext cx="22428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 flipH="1">
              <a:off x="1406520" y="1813680"/>
              <a:ext cx="2934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 flipH="1">
              <a:off x="1411560" y="1866960"/>
              <a:ext cx="3852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 flipH="1">
              <a:off x="1499760" y="1969560"/>
              <a:ext cx="190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 flipH="1">
              <a:off x="1514880" y="1970640"/>
              <a:ext cx="216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 flipH="1">
              <a:off x="1528200" y="1974960"/>
              <a:ext cx="2556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 flipH="1">
              <a:off x="1530720" y="1986120"/>
              <a:ext cx="1965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 flipH="1">
              <a:off x="1169640" y="1995120"/>
              <a:ext cx="67644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 flipH="1">
              <a:off x="996120" y="1997280"/>
              <a:ext cx="28044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 flipH="1">
              <a:off x="1067040" y="2027520"/>
              <a:ext cx="16596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 flipH="1">
              <a:off x="1081800" y="2107080"/>
              <a:ext cx="4968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 flipH="1">
              <a:off x="1598040" y="1582920"/>
              <a:ext cx="3384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 flipH="1">
              <a:off x="1553040" y="1512360"/>
              <a:ext cx="3492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 flipH="1">
              <a:off x="1510920" y="1553760"/>
              <a:ext cx="3456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146"/>
          <p:cNvSpPr/>
          <p:nvPr/>
        </p:nvSpPr>
        <p:spPr>
          <a:xfrm>
            <a:off x="2911320" y="2141640"/>
            <a:ext cx="1389240" cy="761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7"/>
          <p:cNvSpPr/>
          <p:nvPr/>
        </p:nvSpPr>
        <p:spPr>
          <a:xfrm>
            <a:off x="1749600" y="1727280"/>
            <a:ext cx="2550960" cy="42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48"/>
          <p:cNvSpPr/>
          <p:nvPr/>
        </p:nvSpPr>
        <p:spPr>
          <a:xfrm>
            <a:off x="4954680" y="2130480"/>
            <a:ext cx="1197000" cy="8460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4"/>
          <p:cNvGrpSpPr/>
          <p:nvPr/>
        </p:nvGrpSpPr>
        <p:grpSpPr>
          <a:xfrm>
            <a:off x="3751920" y="982800"/>
            <a:ext cx="1211040" cy="1522800"/>
            <a:chOff x="3751920" y="982800"/>
            <a:chExt cx="1211040" cy="1522800"/>
          </a:xfrm>
        </p:grpSpPr>
        <p:pic>
          <p:nvPicPr>
            <p:cNvPr id="465" name="Picture 40" descr="Корпус-3"/>
            <p:cNvPicPr/>
            <p:nvPr/>
          </p:nvPicPr>
          <p:blipFill>
            <a:blip r:embed="rId3"/>
            <a:stretch/>
          </p:blipFill>
          <p:spPr>
            <a:xfrm flipH="1" rot="21514800">
              <a:off x="4248000" y="117468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51"/>
            <p:cNvSpPr/>
            <p:nvPr/>
          </p:nvSpPr>
          <p:spPr>
            <a:xfrm>
              <a:off x="3751920" y="9828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2"/>
          <p:cNvSpPr/>
          <p:nvPr/>
        </p:nvSpPr>
        <p:spPr>
          <a:xfrm>
            <a:off x="5693400" y="2085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3"/>
          <p:cNvSpPr/>
          <p:nvPr/>
        </p:nvSpPr>
        <p:spPr>
          <a:xfrm>
            <a:off x="3345480" y="30258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4"/>
          <p:cNvSpPr/>
          <p:nvPr/>
        </p:nvSpPr>
        <p:spPr>
          <a:xfrm>
            <a:off x="678600" y="934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6"/>
          <p:cNvGrpSpPr/>
          <p:nvPr/>
        </p:nvGrpSpPr>
        <p:grpSpPr>
          <a:xfrm>
            <a:off x="2358720" y="2584440"/>
            <a:ext cx="1168200" cy="1169640"/>
            <a:chOff x="2358720" y="2584440"/>
            <a:chExt cx="1168200" cy="1169640"/>
          </a:xfrm>
        </p:grpSpPr>
        <p:sp>
          <p:nvSpPr>
            <p:cNvPr id="471" name="AutoShape 77"/>
            <p:cNvSpPr/>
            <p:nvPr/>
          </p:nvSpPr>
          <p:spPr>
            <a:xfrm flipH="1">
              <a:off x="2439720" y="2586960"/>
              <a:ext cx="1087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78"/>
            <p:cNvSpPr/>
            <p:nvPr/>
          </p:nvSpPr>
          <p:spPr>
            <a:xfrm flipH="1">
              <a:off x="2358360" y="2584440"/>
              <a:ext cx="85428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 flipH="1">
              <a:off x="2684160" y="3068280"/>
              <a:ext cx="695160" cy="3654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 flipH="1">
              <a:off x="2477880" y="2673360"/>
              <a:ext cx="25488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 flipH="1">
              <a:off x="2359440" y="2586240"/>
              <a:ext cx="3704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 flipH="1">
              <a:off x="2515320" y="3421800"/>
              <a:ext cx="5097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 flipH="1">
              <a:off x="2396520" y="2994840"/>
              <a:ext cx="519480" cy="622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 flipH="1">
              <a:off x="2756160" y="2622600"/>
              <a:ext cx="4082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 flipH="1">
              <a:off x="2742480" y="3147840"/>
              <a:ext cx="35928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 flipH="1">
              <a:off x="2742120" y="3159720"/>
              <a:ext cx="694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 flipH="1">
              <a:off x="2830680" y="3185280"/>
              <a:ext cx="10872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 flipH="1">
              <a:off x="2369520" y="3209400"/>
              <a:ext cx="29736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 flipH="1">
              <a:off x="2414880" y="3297240"/>
              <a:ext cx="1267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 flipH="1">
              <a:off x="2412000" y="2943720"/>
              <a:ext cx="74700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 flipH="1">
              <a:off x="2481480" y="2598120"/>
              <a:ext cx="1933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 flipH="1">
              <a:off x="2766240" y="2636640"/>
              <a:ext cx="3751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 flipH="1">
              <a:off x="2482200" y="2640240"/>
              <a:ext cx="2552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 flipH="1">
              <a:off x="2371680" y="2664720"/>
              <a:ext cx="9792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 flipH="1">
              <a:off x="2804760" y="2691360"/>
              <a:ext cx="24228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 flipH="1">
              <a:off x="2422800" y="2688120"/>
              <a:ext cx="88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 flipH="1">
              <a:off x="2815560" y="2700720"/>
              <a:ext cx="21816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 flipH="1">
              <a:off x="2779920" y="3035880"/>
              <a:ext cx="285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 flipH="1">
              <a:off x="2784960" y="3089160"/>
              <a:ext cx="3744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 flipH="1">
              <a:off x="2871000" y="3191760"/>
              <a:ext cx="187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 flipH="1">
              <a:off x="2885400" y="3192840"/>
              <a:ext cx="208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 flipH="1">
              <a:off x="2898360" y="3197160"/>
              <a:ext cx="2484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 flipH="1">
              <a:off x="2901240" y="3208320"/>
              <a:ext cx="1908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 flipH="1">
              <a:off x="2549520" y="3217320"/>
              <a:ext cx="65772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 flipH="1">
              <a:off x="2381040" y="3219480"/>
              <a:ext cx="27252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 flipH="1">
              <a:off x="2450520" y="3249720"/>
              <a:ext cx="16128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 flipH="1">
              <a:off x="2464560" y="3329280"/>
              <a:ext cx="482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 flipH="1">
              <a:off x="2966040" y="2805120"/>
              <a:ext cx="3312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 flipH="1">
              <a:off x="2923200" y="2734560"/>
              <a:ext cx="3384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 flipH="1">
              <a:off x="2881440" y="2775960"/>
              <a:ext cx="3384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56"/>
          <p:cNvSpPr/>
          <p:nvPr/>
        </p:nvSpPr>
        <p:spPr>
          <a:xfrm>
            <a:off x="1158840" y="4044960"/>
            <a:ext cx="76071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ую работу выполняет серве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ще модернизация (только сервер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сети идут только нужные данны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щита на сервере (сложнее взломать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деление доступа (очередь заданий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627120" y="4065480"/>
            <a:ext cx="385560" cy="385920"/>
            <a:chOff x="627120" y="4065480"/>
            <a:chExt cx="385560" cy="385920"/>
          </a:xfrm>
        </p:grpSpPr>
        <p:sp>
          <p:nvSpPr>
            <p:cNvPr id="507" name="Oval 158"/>
            <p:cNvSpPr/>
            <p:nvPr/>
          </p:nvSpPr>
          <p:spPr>
            <a:xfrm>
              <a:off x="627120" y="40654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59"/>
            <p:cNvGrpSpPr/>
            <p:nvPr/>
          </p:nvGrpSpPr>
          <p:grpSpPr>
            <a:xfrm>
              <a:off x="679320" y="4111920"/>
              <a:ext cx="289800" cy="290160"/>
              <a:chOff x="679320" y="4111920"/>
              <a:chExt cx="289800" cy="290160"/>
            </a:xfrm>
          </p:grpSpPr>
          <p:sp>
            <p:nvSpPr>
              <p:cNvPr id="509" name="Rectangle 160"/>
              <p:cNvSpPr/>
              <p:nvPr/>
            </p:nvSpPr>
            <p:spPr>
              <a:xfrm>
                <a:off x="679320" y="42098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61"/>
              <p:cNvSpPr/>
              <p:nvPr/>
            </p:nvSpPr>
            <p:spPr>
              <a:xfrm rot="16200000">
                <a:off x="680400" y="42098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Freeform 162"/>
            <p:cNvSpPr/>
            <p:nvPr/>
          </p:nvSpPr>
          <p:spPr>
            <a:xfrm>
              <a:off x="678600" y="41112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3"/>
          <p:cNvGrpSpPr/>
          <p:nvPr/>
        </p:nvGrpSpPr>
        <p:grpSpPr>
          <a:xfrm>
            <a:off x="638280" y="5848200"/>
            <a:ext cx="395280" cy="395280"/>
            <a:chOff x="638280" y="5848200"/>
            <a:chExt cx="395280" cy="395280"/>
          </a:xfrm>
        </p:grpSpPr>
        <p:sp>
          <p:nvSpPr>
            <p:cNvPr id="513" name="Oval 164"/>
            <p:cNvSpPr/>
            <p:nvPr/>
          </p:nvSpPr>
          <p:spPr>
            <a:xfrm>
              <a:off x="638280" y="58482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5"/>
            <p:cNvSpPr/>
            <p:nvPr/>
          </p:nvSpPr>
          <p:spPr>
            <a:xfrm>
              <a:off x="689040" y="59990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66"/>
          <p:cNvSpPr/>
          <p:nvPr/>
        </p:nvSpPr>
        <p:spPr>
          <a:xfrm>
            <a:off x="2468160" y="19321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про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7"/>
          <p:cNvSpPr/>
          <p:nvPr/>
        </p:nvSpPr>
        <p:spPr>
          <a:xfrm>
            <a:off x="3545280" y="2344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8"/>
          <p:cNvSpPr/>
          <p:nvPr/>
        </p:nvSpPr>
        <p:spPr>
          <a:xfrm rot="21358200">
            <a:off x="3402000" y="2122560"/>
            <a:ext cx="565200" cy="225360"/>
          </a:xfrm>
          <a:prstGeom prst="pie">
            <a:avLst/>
          </a:prstGeom>
          <a:noFill/>
          <a:ln w="2556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9"/>
          <p:cNvSpPr/>
          <p:nvPr/>
        </p:nvSpPr>
        <p:spPr>
          <a:xfrm rot="21358200">
            <a:off x="3505320" y="2282760"/>
            <a:ext cx="565200" cy="2253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0"/>
          <p:cNvSpPr/>
          <p:nvPr/>
        </p:nvSpPr>
        <p:spPr>
          <a:xfrm>
            <a:off x="4955400" y="857160"/>
            <a:ext cx="21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серв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2"/>
          <p:cNvSpPr/>
          <p:nvPr/>
        </p:nvSpPr>
        <p:spPr>
          <a:xfrm>
            <a:off x="554040" y="3637080"/>
            <a:ext cx="7297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Q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tructured Query Languag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труктурных запрос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3"/>
          <p:cNvSpPr/>
          <p:nvPr/>
        </p:nvSpPr>
        <p:spPr>
          <a:xfrm>
            <a:off x="1162080" y="5850000"/>
            <a:ext cx="7261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 настройк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сокая стоимость ПО (тысяч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2.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BC6A-C498-485C-86DF-2008573598E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баз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чные 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данные в виде одной табли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тевые Б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узлов, в котором каждый может бы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язан с кажды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ерархические БД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многоуровневой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ляционные БД (99,9%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взаимосвязанных табл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User</cp:lastModifiedBy>
  <dcterms:modified xsi:type="dcterms:W3CDTF">2011-09-23T07:17:39Z</dcterms:modified>
  <cp:revision>1464</cp:revision>
  <dc:subject/>
  <dc:title>Программное обеспечение (ПО)</dc:title>
</cp:coreProperties>
</file>